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8160" y="115560"/>
            <a:ext cx="524052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"/>
          <p:cNvSpPr/>
          <p:nvPr/>
        </p:nvSpPr>
        <p:spPr>
          <a:xfrm>
            <a:off x="415800" y="836640"/>
            <a:ext cx="9074160" cy="568800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システム構成図サンプル１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"/>
          <p:cNvSpPr/>
          <p:nvPr/>
        </p:nvSpPr>
        <p:spPr>
          <a:xfrm>
            <a:off x="415800" y="836640"/>
            <a:ext cx="9074160" cy="5688000"/>
          </a:xfrm>
          <a:prstGeom prst="roundRect">
            <a:avLst>
              <a:gd name="adj" fmla="val 3264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97240" y="2492280"/>
            <a:ext cx="2231640" cy="1965240"/>
            <a:chOff x="3297240" y="2492280"/>
            <a:chExt cx="2231640" cy="1965240"/>
          </a:xfrm>
        </p:grpSpPr>
        <p:sp>
          <p:nvSpPr>
            <p:cNvPr id="43" name=""/>
            <p:cNvSpPr/>
            <p:nvPr/>
          </p:nvSpPr>
          <p:spPr>
            <a:xfrm>
              <a:off x="3297240" y="2492280"/>
              <a:ext cx="2231640" cy="196524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402360" y="2810520"/>
              <a:ext cx="2018520" cy="153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02360" y="4244400"/>
              <a:ext cx="2018520" cy="10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02360" y="2702880"/>
              <a:ext cx="2018520" cy="105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145400" y="2349360"/>
            <a:ext cx="62568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WEB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サ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92160" y="1198080"/>
            <a:ext cx="1079640" cy="1043640"/>
            <a:chOff x="992160" y="1198080"/>
            <a:chExt cx="1079640" cy="1043640"/>
          </a:xfrm>
        </p:grpSpPr>
        <p:sp>
          <p:nvSpPr>
            <p:cNvPr id="49" name=""/>
            <p:cNvSpPr/>
            <p:nvPr/>
          </p:nvSpPr>
          <p:spPr>
            <a:xfrm>
              <a:off x="992160" y="1198440"/>
              <a:ext cx="1079640" cy="1043280"/>
            </a:xfrm>
            <a:custGeom>
              <a:avLst/>
              <a:gdLst/>
              <a:ahLst/>
              <a:rect l="l" t="t" r="r" b="b"/>
              <a:pathLst>
                <a:path w="680" h="657">
                  <a:moveTo>
                    <a:pt x="91" y="0"/>
                  </a:moveTo>
                  <a:lnTo>
                    <a:pt x="45" y="22"/>
                  </a:lnTo>
                  <a:lnTo>
                    <a:pt x="45" y="453"/>
                  </a:lnTo>
                  <a:lnTo>
                    <a:pt x="0" y="612"/>
                  </a:lnTo>
                  <a:lnTo>
                    <a:pt x="0" y="657"/>
                  </a:lnTo>
                  <a:lnTo>
                    <a:pt x="680" y="657"/>
                  </a:lnTo>
                  <a:lnTo>
                    <a:pt x="680" y="612"/>
                  </a:lnTo>
                  <a:lnTo>
                    <a:pt x="635" y="453"/>
                  </a:lnTo>
                  <a:lnTo>
                    <a:pt x="635" y="22"/>
                  </a:lnTo>
                  <a:lnTo>
                    <a:pt x="590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992160" y="1198080"/>
              <a:ext cx="1079640" cy="1043640"/>
              <a:chOff x="992160" y="1198080"/>
              <a:chExt cx="1079640" cy="1043640"/>
            </a:xfrm>
          </p:grpSpPr>
          <p:sp>
            <p:nvSpPr>
              <p:cNvPr id="51" name=""/>
              <p:cNvSpPr/>
              <p:nvPr/>
            </p:nvSpPr>
            <p:spPr>
              <a:xfrm>
                <a:off x="992160" y="2170080"/>
                <a:ext cx="1079640" cy="716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63800" y="1233360"/>
                <a:ext cx="936720" cy="684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1063800" y="1197720"/>
                <a:ext cx="936720" cy="34920"/>
              </a:xfrm>
              <a:custGeom>
                <a:avLst/>
                <a:gdLst>
                  <a:gd name="textAreaLeft" fmla="*/ 121680 w 936720"/>
                  <a:gd name="textAreaRight" fmla="*/ 815040 w 936720"/>
                  <a:gd name="textAreaTop" fmla="*/ 4320 h 34920"/>
                  <a:gd name="textAreaBottom" fmla="*/ 30600 h 3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697" y="21600"/>
                    </a:lnTo>
                    <a:lnTo>
                      <a:pt x="190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00160" y="1270080"/>
                <a:ext cx="863640" cy="5414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992160" y="1917000"/>
                <a:ext cx="1079640" cy="252360"/>
              </a:xfrm>
              <a:custGeom>
                <a:avLst/>
                <a:gdLst>
                  <a:gd name="textAreaLeft" fmla="*/ 127800 w 1079640"/>
                  <a:gd name="textAreaRight" fmla="*/ 951840 w 1079640"/>
                  <a:gd name="textAreaTop" fmla="*/ 29880 h 252360"/>
                  <a:gd name="textAreaBottom" fmla="*/ 222480 h 25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139" y="21600"/>
                    </a:lnTo>
                    <a:lnTo>
                      <a:pt x="1461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00160" y="1881360"/>
                <a:ext cx="189000" cy="522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84520" y="1881360"/>
                <a:ext cx="189000" cy="522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993600" y="2517840"/>
            <a:ext cx="1079640" cy="1042920"/>
            <a:chOff x="993600" y="2517840"/>
            <a:chExt cx="1079640" cy="1042920"/>
          </a:xfrm>
        </p:grpSpPr>
        <p:sp>
          <p:nvSpPr>
            <p:cNvPr id="59" name=""/>
            <p:cNvSpPr/>
            <p:nvPr/>
          </p:nvSpPr>
          <p:spPr>
            <a:xfrm>
              <a:off x="993600" y="2517840"/>
              <a:ext cx="1079640" cy="1042920"/>
            </a:xfrm>
            <a:custGeom>
              <a:avLst/>
              <a:gdLst/>
              <a:ahLst/>
              <a:rect l="l" t="t" r="r" b="b"/>
              <a:pathLst>
                <a:path w="680" h="657">
                  <a:moveTo>
                    <a:pt x="91" y="0"/>
                  </a:moveTo>
                  <a:lnTo>
                    <a:pt x="45" y="22"/>
                  </a:lnTo>
                  <a:lnTo>
                    <a:pt x="45" y="453"/>
                  </a:lnTo>
                  <a:lnTo>
                    <a:pt x="0" y="612"/>
                  </a:lnTo>
                  <a:lnTo>
                    <a:pt x="0" y="657"/>
                  </a:lnTo>
                  <a:lnTo>
                    <a:pt x="680" y="657"/>
                  </a:lnTo>
                  <a:lnTo>
                    <a:pt x="680" y="612"/>
                  </a:lnTo>
                  <a:lnTo>
                    <a:pt x="635" y="453"/>
                  </a:lnTo>
                  <a:lnTo>
                    <a:pt x="635" y="22"/>
                  </a:lnTo>
                  <a:lnTo>
                    <a:pt x="590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993600" y="2517840"/>
              <a:ext cx="1079640" cy="1042560"/>
              <a:chOff x="993600" y="2517840"/>
              <a:chExt cx="1079640" cy="1042560"/>
            </a:xfrm>
          </p:grpSpPr>
          <p:sp>
            <p:nvSpPr>
              <p:cNvPr id="61" name=""/>
              <p:cNvSpPr/>
              <p:nvPr/>
            </p:nvSpPr>
            <p:spPr>
              <a:xfrm>
                <a:off x="993600" y="3489120"/>
                <a:ext cx="1079640" cy="712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065240" y="2552400"/>
                <a:ext cx="936720" cy="684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1065240" y="2517840"/>
                <a:ext cx="936720" cy="34560"/>
              </a:xfrm>
              <a:custGeom>
                <a:avLst/>
                <a:gdLst>
                  <a:gd name="textAreaLeft" fmla="*/ 121680 w 936720"/>
                  <a:gd name="textAreaRight" fmla="*/ 815040 w 936720"/>
                  <a:gd name="textAreaTop" fmla="*/ 4320 h 34560"/>
                  <a:gd name="textAreaBottom" fmla="*/ 30240 h 3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697" y="21600"/>
                    </a:lnTo>
                    <a:lnTo>
                      <a:pt x="190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01600" y="2589120"/>
                <a:ext cx="863640" cy="54108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993600" y="3236760"/>
                <a:ext cx="1079640" cy="252000"/>
              </a:xfrm>
              <a:custGeom>
                <a:avLst/>
                <a:gdLst>
                  <a:gd name="textAreaLeft" fmla="*/ 127800 w 1079640"/>
                  <a:gd name="textAreaRight" fmla="*/ 951840 w 1079640"/>
                  <a:gd name="textAreaTop" fmla="*/ 29880 h 252000"/>
                  <a:gd name="textAreaBottom" fmla="*/ 222120 h 25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139" y="21600"/>
                    </a:lnTo>
                    <a:lnTo>
                      <a:pt x="1461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01600" y="3200400"/>
                <a:ext cx="189000" cy="518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785960" y="3200400"/>
                <a:ext cx="189000" cy="518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"/>
          <p:cNvGrpSpPr/>
          <p:nvPr/>
        </p:nvGrpSpPr>
        <p:grpSpPr>
          <a:xfrm>
            <a:off x="993600" y="4653000"/>
            <a:ext cx="1079640" cy="1042920"/>
            <a:chOff x="993600" y="4653000"/>
            <a:chExt cx="1079640" cy="1042920"/>
          </a:xfrm>
        </p:grpSpPr>
        <p:sp>
          <p:nvSpPr>
            <p:cNvPr id="69" name=""/>
            <p:cNvSpPr/>
            <p:nvPr/>
          </p:nvSpPr>
          <p:spPr>
            <a:xfrm>
              <a:off x="993600" y="4653000"/>
              <a:ext cx="1079640" cy="1042920"/>
            </a:xfrm>
            <a:custGeom>
              <a:avLst/>
              <a:gdLst/>
              <a:ahLst/>
              <a:rect l="l" t="t" r="r" b="b"/>
              <a:pathLst>
                <a:path w="680" h="657">
                  <a:moveTo>
                    <a:pt x="91" y="0"/>
                  </a:moveTo>
                  <a:lnTo>
                    <a:pt x="45" y="22"/>
                  </a:lnTo>
                  <a:lnTo>
                    <a:pt x="45" y="453"/>
                  </a:lnTo>
                  <a:lnTo>
                    <a:pt x="0" y="612"/>
                  </a:lnTo>
                  <a:lnTo>
                    <a:pt x="0" y="657"/>
                  </a:lnTo>
                  <a:lnTo>
                    <a:pt x="680" y="657"/>
                  </a:lnTo>
                  <a:lnTo>
                    <a:pt x="680" y="612"/>
                  </a:lnTo>
                  <a:lnTo>
                    <a:pt x="635" y="453"/>
                  </a:lnTo>
                  <a:lnTo>
                    <a:pt x="635" y="22"/>
                  </a:lnTo>
                  <a:lnTo>
                    <a:pt x="590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993600" y="4653000"/>
              <a:ext cx="1079640" cy="1042560"/>
              <a:chOff x="993600" y="4653000"/>
              <a:chExt cx="1079640" cy="1042560"/>
            </a:xfrm>
          </p:grpSpPr>
          <p:sp>
            <p:nvSpPr>
              <p:cNvPr id="71" name=""/>
              <p:cNvSpPr/>
              <p:nvPr/>
            </p:nvSpPr>
            <p:spPr>
              <a:xfrm>
                <a:off x="993600" y="5624280"/>
                <a:ext cx="1079640" cy="712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065240" y="4687560"/>
                <a:ext cx="936720" cy="684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1065240" y="4653000"/>
                <a:ext cx="936720" cy="34560"/>
              </a:xfrm>
              <a:custGeom>
                <a:avLst/>
                <a:gdLst>
                  <a:gd name="textAreaLeft" fmla="*/ 121680 w 936720"/>
                  <a:gd name="textAreaRight" fmla="*/ 815040 w 936720"/>
                  <a:gd name="textAreaTop" fmla="*/ 4320 h 34560"/>
                  <a:gd name="textAreaBottom" fmla="*/ 30240 h 3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697" y="21600"/>
                    </a:lnTo>
                    <a:lnTo>
                      <a:pt x="190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101600" y="4724280"/>
                <a:ext cx="863640" cy="54108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993600" y="5371920"/>
                <a:ext cx="1079640" cy="252000"/>
              </a:xfrm>
              <a:custGeom>
                <a:avLst/>
                <a:gdLst>
                  <a:gd name="textAreaLeft" fmla="*/ 127800 w 1079640"/>
                  <a:gd name="textAreaRight" fmla="*/ 951840 w 1079640"/>
                  <a:gd name="textAreaTop" fmla="*/ 29880 h 252000"/>
                  <a:gd name="textAreaBottom" fmla="*/ 222120 h 25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139" y="21600"/>
                    </a:lnTo>
                    <a:lnTo>
                      <a:pt x="1461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101600" y="5335560"/>
                <a:ext cx="189000" cy="518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785960" y="5335560"/>
                <a:ext cx="189000" cy="518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"/>
          <p:cNvGrpSpPr/>
          <p:nvPr/>
        </p:nvGrpSpPr>
        <p:grpSpPr>
          <a:xfrm>
            <a:off x="2061720" y="2910240"/>
            <a:ext cx="1463040" cy="1323720"/>
            <a:chOff x="2061720" y="2910240"/>
            <a:chExt cx="1463040" cy="1323720"/>
          </a:xfrm>
        </p:grpSpPr>
        <p:sp>
          <p:nvSpPr>
            <p:cNvPr id="79" name=""/>
            <p:cNvSpPr/>
            <p:nvPr/>
          </p:nvSpPr>
          <p:spPr>
            <a:xfrm>
              <a:off x="2289240" y="3068640"/>
              <a:ext cx="1008000" cy="1008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05240" y="328464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00000">
              <a:off x="2073240" y="3355560"/>
              <a:ext cx="1440000" cy="432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8900000">
              <a:off x="2073240" y="3355920"/>
              <a:ext cx="1440000" cy="432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8048520" y="1413000"/>
            <a:ext cx="792000" cy="2089080"/>
            <a:chOff x="8048520" y="1413000"/>
            <a:chExt cx="792000" cy="2089080"/>
          </a:xfrm>
        </p:grpSpPr>
        <p:sp>
          <p:nvSpPr>
            <p:cNvPr id="84" name=""/>
            <p:cNvSpPr/>
            <p:nvPr/>
          </p:nvSpPr>
          <p:spPr>
            <a:xfrm>
              <a:off x="8048520" y="1413000"/>
              <a:ext cx="792000" cy="2089080"/>
            </a:xfrm>
            <a:custGeom>
              <a:avLst/>
              <a:gdLst/>
              <a:ahLst/>
              <a:rect l="l" t="t" r="r" b="b"/>
              <a:pathLst>
                <a:path w="499" h="1316">
                  <a:moveTo>
                    <a:pt x="453" y="1316"/>
                  </a:moveTo>
                  <a:lnTo>
                    <a:pt x="0" y="1316"/>
                  </a:lnTo>
                  <a:lnTo>
                    <a:pt x="0" y="273"/>
                  </a:lnTo>
                  <a:lnTo>
                    <a:pt x="45" y="159"/>
                  </a:lnTo>
                  <a:lnTo>
                    <a:pt x="68" y="159"/>
                  </a:lnTo>
                  <a:lnTo>
                    <a:pt x="68" y="68"/>
                  </a:lnTo>
                  <a:lnTo>
                    <a:pt x="113" y="0"/>
                  </a:lnTo>
                  <a:lnTo>
                    <a:pt x="340" y="0"/>
                  </a:lnTo>
                  <a:lnTo>
                    <a:pt x="385" y="68"/>
                  </a:lnTo>
                  <a:lnTo>
                    <a:pt x="385" y="159"/>
                  </a:lnTo>
                  <a:lnTo>
                    <a:pt x="408" y="159"/>
                  </a:lnTo>
                  <a:lnTo>
                    <a:pt x="453" y="273"/>
                  </a:lnTo>
                  <a:lnTo>
                    <a:pt x="453" y="635"/>
                  </a:lnTo>
                  <a:lnTo>
                    <a:pt x="499" y="635"/>
                  </a:lnTo>
                  <a:lnTo>
                    <a:pt x="499" y="908"/>
                  </a:lnTo>
                  <a:lnTo>
                    <a:pt x="453" y="908"/>
                  </a:lnTo>
                  <a:lnTo>
                    <a:pt x="453" y="930"/>
                  </a:lnTo>
                  <a:lnTo>
                    <a:pt x="499" y="930"/>
                  </a:lnTo>
                  <a:lnTo>
                    <a:pt x="499" y="1202"/>
                  </a:lnTo>
                  <a:lnTo>
                    <a:pt x="453" y="1202"/>
                  </a:lnTo>
                  <a:lnTo>
                    <a:pt x="453" y="131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8048520" y="1413000"/>
              <a:ext cx="790560" cy="2089080"/>
              <a:chOff x="8048520" y="1413000"/>
              <a:chExt cx="790560" cy="2089080"/>
            </a:xfrm>
          </p:grpSpPr>
          <p:sp>
            <p:nvSpPr>
              <p:cNvPr id="86" name=""/>
              <p:cNvSpPr/>
              <p:nvPr/>
            </p:nvSpPr>
            <p:spPr>
              <a:xfrm flipV="1">
                <a:off x="8048520" y="1665360"/>
                <a:ext cx="718920" cy="180720"/>
              </a:xfrm>
              <a:custGeom>
                <a:avLst/>
                <a:gdLst>
                  <a:gd name="textAreaLeft" fmla="*/ 102240 w 718920"/>
                  <a:gd name="textAreaRight" fmla="*/ 616680 w 718920"/>
                  <a:gd name="textAreaTop" fmla="*/ 25560 h 180720"/>
                  <a:gd name="textAreaBottom" fmla="*/ 155160 h 18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16" y="21600"/>
                    </a:lnTo>
                    <a:lnTo>
                      <a:pt x="238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048520" y="1846080"/>
                <a:ext cx="718920" cy="165600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17171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156520" y="1520640"/>
                <a:ext cx="502920" cy="28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7440" y="2889360"/>
                <a:ext cx="71640" cy="4316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767440" y="2421000"/>
                <a:ext cx="71640" cy="4316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264160" y="3321000"/>
                <a:ext cx="289080" cy="18108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8119800" y="1954080"/>
                <a:ext cx="576360" cy="1187640"/>
                <a:chOff x="8119800" y="1954080"/>
                <a:chExt cx="576360" cy="118764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8119800" y="195408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275320" y="195408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430840" y="195408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588160" y="195408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8119800" y="2133720"/>
                  <a:ext cx="108000" cy="107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8275320" y="2133720"/>
                  <a:ext cx="108000" cy="107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8430840" y="2133720"/>
                  <a:ext cx="108000" cy="107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588160" y="2133720"/>
                  <a:ext cx="108000" cy="107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119800" y="231300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275320" y="231300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430840" y="231300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588160" y="231300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119800" y="249228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8275320" y="249228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8430840" y="249228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588160" y="249228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8119800" y="267480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8275320" y="267480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430840" y="267480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588160" y="267480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119800" y="2854440"/>
                  <a:ext cx="108000" cy="107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75320" y="2854440"/>
                  <a:ext cx="108000" cy="107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430840" y="2854440"/>
                  <a:ext cx="108000" cy="107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588160" y="2854440"/>
                  <a:ext cx="108000" cy="107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119800" y="303372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8275320" y="303372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430840" y="303372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8588160" y="303372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 flipV="1">
                <a:off x="8156520" y="1413000"/>
                <a:ext cx="502920" cy="109440"/>
              </a:xfrm>
              <a:custGeom>
                <a:avLst/>
                <a:gdLst>
                  <a:gd name="textAreaLeft" fmla="*/ 83880 w 502920"/>
                  <a:gd name="textAreaRight" fmla="*/ 419040 w 502920"/>
                  <a:gd name="textAreaTop" fmla="*/ 18000 h 109440"/>
                  <a:gd name="textAreaBottom" fmla="*/ 9144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62" y="21600"/>
                    </a:lnTo>
                    <a:lnTo>
                      <a:pt x="33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8285400" y="1268280"/>
            <a:ext cx="225000" cy="188640"/>
          </a:xfrm>
          <a:prstGeom prst="rect">
            <a:avLst/>
          </a:prstGeom>
          <a:solidFill>
            <a:srgbClr val="800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本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832880" y="3068280"/>
            <a:ext cx="1404360" cy="1297080"/>
            <a:chOff x="7832880" y="3068280"/>
            <a:chExt cx="1404360" cy="1297080"/>
          </a:xfrm>
        </p:grpSpPr>
        <p:grpSp>
          <p:nvGrpSpPr>
            <p:cNvPr id="124" name=""/>
            <p:cNvGrpSpPr/>
            <p:nvPr/>
          </p:nvGrpSpPr>
          <p:grpSpPr>
            <a:xfrm>
              <a:off x="7832880" y="3068640"/>
              <a:ext cx="1404360" cy="1296720"/>
              <a:chOff x="7832880" y="3068640"/>
              <a:chExt cx="1404360" cy="1296720"/>
            </a:xfrm>
          </p:grpSpPr>
          <p:sp>
            <p:nvSpPr>
              <p:cNvPr id="125" name=""/>
              <p:cNvSpPr/>
              <p:nvPr/>
            </p:nvSpPr>
            <p:spPr>
              <a:xfrm>
                <a:off x="8950320" y="3068640"/>
                <a:ext cx="286920" cy="1296720"/>
              </a:xfrm>
              <a:custGeom>
                <a:avLst/>
                <a:gdLst/>
                <a:ahLst/>
                <a:rect l="l" t="t" r="r" b="b"/>
                <a:pathLst>
                  <a:path w="181" h="817">
                    <a:moveTo>
                      <a:pt x="181" y="817"/>
                    </a:moveTo>
                    <a:lnTo>
                      <a:pt x="0" y="817"/>
                    </a:lnTo>
                    <a:lnTo>
                      <a:pt x="0" y="91"/>
                    </a:lnTo>
                    <a:lnTo>
                      <a:pt x="22" y="0"/>
                    </a:lnTo>
                    <a:lnTo>
                      <a:pt x="158" y="0"/>
                    </a:lnTo>
                    <a:lnTo>
                      <a:pt x="181" y="91"/>
                    </a:lnTo>
                    <a:lnTo>
                      <a:pt x="181" y="817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832880" y="3141360"/>
                <a:ext cx="1044360" cy="899640"/>
              </a:xfrm>
              <a:custGeom>
                <a:avLst/>
                <a:gdLst/>
                <a:ahLst/>
                <a:rect l="l" t="t" r="r" b="b"/>
                <a:pathLst>
                  <a:path w="658" h="567">
                    <a:moveTo>
                      <a:pt x="658" y="22"/>
                    </a:moveTo>
                    <a:lnTo>
                      <a:pt x="613" y="0"/>
                    </a:lnTo>
                    <a:lnTo>
                      <a:pt x="46" y="0"/>
                    </a:lnTo>
                    <a:lnTo>
                      <a:pt x="0" y="22"/>
                    </a:lnTo>
                    <a:lnTo>
                      <a:pt x="0" y="567"/>
                    </a:lnTo>
                    <a:lnTo>
                      <a:pt x="658" y="567"/>
                    </a:lnTo>
                    <a:lnTo>
                      <a:pt x="65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013600" y="4149360"/>
                <a:ext cx="684000" cy="179280"/>
              </a:xfrm>
              <a:custGeom>
                <a:avLst/>
                <a:gdLst/>
                <a:ahLst/>
                <a:rect l="l" t="t" r="r" b="b"/>
                <a:pathLst>
                  <a:path w="431" h="113">
                    <a:moveTo>
                      <a:pt x="431" y="113"/>
                    </a:moveTo>
                    <a:lnTo>
                      <a:pt x="0" y="113"/>
                    </a:lnTo>
                    <a:lnTo>
                      <a:pt x="0" y="90"/>
                    </a:lnTo>
                    <a:lnTo>
                      <a:pt x="45" y="0"/>
                    </a:lnTo>
                    <a:lnTo>
                      <a:pt x="385" y="0"/>
                    </a:lnTo>
                    <a:lnTo>
                      <a:pt x="431" y="90"/>
                    </a:lnTo>
                    <a:lnTo>
                      <a:pt x="431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229600" y="3968640"/>
                <a:ext cx="252000" cy="21708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832880" y="3068280"/>
              <a:ext cx="1402920" cy="1296720"/>
              <a:chOff x="7832880" y="3068280"/>
              <a:chExt cx="1402920" cy="1296720"/>
            </a:xfrm>
          </p:grpSpPr>
          <p:sp>
            <p:nvSpPr>
              <p:cNvPr id="130" name=""/>
              <p:cNvSpPr/>
              <p:nvPr/>
            </p:nvSpPr>
            <p:spPr>
              <a:xfrm flipV="1">
                <a:off x="8013600" y="4147920"/>
                <a:ext cx="684000" cy="144000"/>
              </a:xfrm>
              <a:custGeom>
                <a:avLst/>
                <a:gdLst>
                  <a:gd name="textAreaLeft" fmla="*/ 93240 w 684000"/>
                  <a:gd name="textAreaRight" fmla="*/ 590760 w 684000"/>
                  <a:gd name="textAreaTop" fmla="*/ 19440 h 144000"/>
                  <a:gd name="textAreaBottom" fmla="*/ 124560 h 14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446" y="21600"/>
                    </a:lnTo>
                    <a:lnTo>
                      <a:pt x="215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29600" y="4005000"/>
                <a:ext cx="252000" cy="2156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013600" y="4292280"/>
                <a:ext cx="684000" cy="363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832880" y="3176280"/>
                <a:ext cx="1044360" cy="8647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7832880" y="3139920"/>
                <a:ext cx="1044360" cy="36000"/>
              </a:xfrm>
              <a:custGeom>
                <a:avLst/>
                <a:gdLst>
                  <a:gd name="textAreaLeft" fmla="*/ 115200 w 1044360"/>
                  <a:gd name="textAreaRight" fmla="*/ 929160 w 1044360"/>
                  <a:gd name="textAreaTop" fmla="*/ 3960 h 36000"/>
                  <a:gd name="textAreaBottom" fmla="*/ 32040 h 3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57" y="21600"/>
                    </a:lnTo>
                    <a:lnTo>
                      <a:pt x="114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904160" y="3249360"/>
                <a:ext cx="899640" cy="71892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948520" y="3213000"/>
                <a:ext cx="287280" cy="11520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8948520" y="3067920"/>
                <a:ext cx="287280" cy="144360"/>
              </a:xfrm>
              <a:custGeom>
                <a:avLst/>
                <a:gdLst>
                  <a:gd name="textAreaLeft" fmla="*/ 43560 w 287280"/>
                  <a:gd name="textAreaRight" fmla="*/ 243720 w 287280"/>
                  <a:gd name="textAreaTop" fmla="*/ 21960 h 144360"/>
                  <a:gd name="textAreaBottom" fmla="*/ 122400 h 14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841" y="21600"/>
                    </a:lnTo>
                    <a:lnTo>
                      <a:pt x="275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9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8285400" y="2995560"/>
            <a:ext cx="22500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Ｐ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457960" y="3357720"/>
            <a:ext cx="1439640" cy="431640"/>
            <a:chOff x="5457960" y="3357720"/>
            <a:chExt cx="1439640" cy="431640"/>
          </a:xfrm>
        </p:grpSpPr>
        <p:sp>
          <p:nvSpPr>
            <p:cNvPr id="140" name=""/>
            <p:cNvSpPr/>
            <p:nvPr/>
          </p:nvSpPr>
          <p:spPr>
            <a:xfrm>
              <a:off x="5457960" y="3357720"/>
              <a:ext cx="1439640" cy="431640"/>
            </a:xfrm>
            <a:custGeom>
              <a:avLst/>
              <a:gdLst/>
              <a:ahLst/>
              <a:rect l="l" t="t" r="r" b="b"/>
              <a:pathLst>
                <a:path w="907" h="272">
                  <a:moveTo>
                    <a:pt x="45" y="0"/>
                  </a:moveTo>
                  <a:lnTo>
                    <a:pt x="0" y="181"/>
                  </a:lnTo>
                  <a:lnTo>
                    <a:pt x="0" y="272"/>
                  </a:lnTo>
                  <a:lnTo>
                    <a:pt x="907" y="272"/>
                  </a:lnTo>
                  <a:lnTo>
                    <a:pt x="907" y="181"/>
                  </a:lnTo>
                  <a:lnTo>
                    <a:pt x="862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7960" y="3643560"/>
              <a:ext cx="1439640" cy="1458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457960" y="3357720"/>
              <a:ext cx="1439640" cy="285840"/>
            </a:xfrm>
            <a:custGeom>
              <a:avLst/>
              <a:gdLst>
                <a:gd name="textAreaLeft" fmla="*/ 155160 w 1439640"/>
                <a:gd name="textAreaRight" fmla="*/ 1284480 w 1439640"/>
                <a:gd name="textAreaTop" fmla="*/ 30600 h 285840"/>
                <a:gd name="textAreaBottom" fmla="*/ 25524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53" y="21600"/>
                  </a:lnTo>
                  <a:lnTo>
                    <a:pt x="104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d9d9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854680" y="3249720"/>
            <a:ext cx="60624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Ｗｅｂサーバ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193240" y="4076640"/>
            <a:ext cx="380880" cy="720360"/>
            <a:chOff x="8193240" y="4076640"/>
            <a:chExt cx="380880" cy="720360"/>
          </a:xfrm>
        </p:grpSpPr>
        <p:grpSp>
          <p:nvGrpSpPr>
            <p:cNvPr id="145" name=""/>
            <p:cNvGrpSpPr/>
            <p:nvPr/>
          </p:nvGrpSpPr>
          <p:grpSpPr>
            <a:xfrm>
              <a:off x="8193240" y="4076640"/>
              <a:ext cx="380880" cy="720360"/>
              <a:chOff x="8193240" y="4076640"/>
              <a:chExt cx="380880" cy="720360"/>
            </a:xfrm>
          </p:grpSpPr>
          <p:sp>
            <p:nvSpPr>
              <p:cNvPr id="146" name=""/>
              <p:cNvSpPr/>
              <p:nvPr/>
            </p:nvSpPr>
            <p:spPr>
              <a:xfrm rot="10800000">
                <a:off x="8193240" y="4330440"/>
                <a:ext cx="380880" cy="466560"/>
              </a:xfrm>
              <a:custGeom>
                <a:avLst/>
                <a:gdLst/>
                <a:ahLst/>
                <a:rect l="l" t="t" r="r" b="b"/>
                <a:pathLst>
                  <a:path w="408" h="500">
                    <a:moveTo>
                      <a:pt x="45" y="68"/>
                    </a:moveTo>
                    <a:lnTo>
                      <a:pt x="0" y="431"/>
                    </a:lnTo>
                    <a:cubicBezTo>
                      <a:pt x="0" y="431"/>
                      <a:pt x="64" y="500"/>
                      <a:pt x="204" y="499"/>
                    </a:cubicBezTo>
                    <a:cubicBezTo>
                      <a:pt x="376" y="492"/>
                      <a:pt x="408" y="431"/>
                      <a:pt x="408" y="431"/>
                    </a:cubicBezTo>
                    <a:lnTo>
                      <a:pt x="363" y="68"/>
                    </a:lnTo>
                    <a:cubicBezTo>
                      <a:pt x="363" y="68"/>
                      <a:pt x="334" y="0"/>
                      <a:pt x="204" y="0"/>
                    </a:cubicBezTo>
                    <a:cubicBezTo>
                      <a:pt x="69" y="0"/>
                      <a:pt x="45" y="68"/>
                      <a:pt x="45" y="68"/>
                    </a:cubicBez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235000" y="4076640"/>
                <a:ext cx="296640" cy="2970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rot="10800000">
              <a:off x="8193240" y="4330440"/>
              <a:ext cx="380880" cy="466560"/>
            </a:xfrm>
            <a:custGeom>
              <a:avLst/>
              <a:gdLst/>
              <a:ahLst/>
              <a:rect l="l" t="t" r="r" b="b"/>
              <a:pathLst>
                <a:path w="408" h="500">
                  <a:moveTo>
                    <a:pt x="45" y="68"/>
                  </a:moveTo>
                  <a:lnTo>
                    <a:pt x="0" y="431"/>
                  </a:lnTo>
                  <a:cubicBezTo>
                    <a:pt x="0" y="431"/>
                    <a:pt x="64" y="500"/>
                    <a:pt x="204" y="499"/>
                  </a:cubicBezTo>
                  <a:cubicBezTo>
                    <a:pt x="376" y="492"/>
                    <a:pt x="408" y="431"/>
                    <a:pt x="408" y="431"/>
                  </a:cubicBezTo>
                  <a:lnTo>
                    <a:pt x="363" y="68"/>
                  </a:lnTo>
                  <a:cubicBezTo>
                    <a:pt x="363" y="68"/>
                    <a:pt x="334" y="0"/>
                    <a:pt x="204" y="0"/>
                  </a:cubicBezTo>
                  <a:cubicBezTo>
                    <a:pt x="69" y="0"/>
                    <a:pt x="45" y="68"/>
                    <a:pt x="45" y="68"/>
                  </a:cubicBezTo>
                  <a:close/>
                </a:path>
              </a:pathLst>
            </a:cu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35000" y="4076640"/>
              <a:ext cx="296640" cy="297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8224920" y="4759200"/>
            <a:ext cx="301320" cy="188640"/>
          </a:xfrm>
          <a:prstGeom prst="rect">
            <a:avLst/>
          </a:prstGeom>
          <a:solidFill>
            <a:srgbClr val="008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管理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63680" y="5661000"/>
            <a:ext cx="30132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利用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72" idx="3"/>
            <a:endCxn id="43" idx="1"/>
          </p:cNvCxnSpPr>
          <p:nvPr/>
        </p:nvCxnSpPr>
        <p:spPr>
          <a:xfrm flipV="1">
            <a:off x="2001960" y="3474720"/>
            <a:ext cx="1295640" cy="1555200"/>
          </a:xfrm>
          <a:prstGeom prst="straightConnector1">
            <a:avLst/>
          </a:prstGeom>
          <a:ln w="38160">
            <a:solidFill>
              <a:srgbClr val="ffffff"/>
            </a:solidFill>
            <a:prstDash val="sysDot"/>
            <a:miter/>
          </a:ln>
        </p:spPr>
      </p:cxnSp>
      <p:cxnSp>
        <p:nvCxnSpPr>
          <p:cNvPr id="153" name=""/>
          <p:cNvCxnSpPr>
            <a:stCxn id="52" idx="3"/>
            <a:endCxn id="43" idx="1"/>
          </p:cNvCxnSpPr>
          <p:nvPr/>
        </p:nvCxnSpPr>
        <p:spPr>
          <a:xfrm>
            <a:off x="2000520" y="1575360"/>
            <a:ext cx="1297080" cy="1899720"/>
          </a:xfrm>
          <a:prstGeom prst="straightConnector1">
            <a:avLst/>
          </a:prstGeom>
          <a:ln w="38160">
            <a:solidFill>
              <a:srgbClr val="ffffff"/>
            </a:solidFill>
            <a:prstDash val="sysDot"/>
            <a:miter/>
          </a:ln>
        </p:spPr>
      </p:cxnSp>
      <p:cxnSp>
        <p:nvCxnSpPr>
          <p:cNvPr id="154" name=""/>
          <p:cNvCxnSpPr>
            <a:stCxn id="62" idx="3"/>
            <a:endCxn id="43" idx="1"/>
          </p:cNvCxnSpPr>
          <p:nvPr/>
        </p:nvCxnSpPr>
        <p:spPr>
          <a:xfrm>
            <a:off x="2001960" y="2894400"/>
            <a:ext cx="1295640" cy="580680"/>
          </a:xfrm>
          <a:prstGeom prst="straightConnector1">
            <a:avLst/>
          </a:prstGeom>
          <a:ln w="38160">
            <a:solidFill>
              <a:srgbClr val="ffffff"/>
            </a:solidFill>
            <a:prstDash val="sysDot"/>
            <a:miter/>
          </a:ln>
        </p:spPr>
      </p:cxnSp>
      <p:sp>
        <p:nvSpPr>
          <p:cNvPr id="155" name=""/>
          <p:cNvSpPr/>
          <p:nvPr/>
        </p:nvSpPr>
        <p:spPr>
          <a:xfrm>
            <a:off x="2400480" y="4005360"/>
            <a:ext cx="606240" cy="188640"/>
          </a:xfrm>
          <a:prstGeom prst="rect">
            <a:avLst/>
          </a:prstGeom>
          <a:solidFill>
            <a:srgbClr val="993366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インターネッ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42" idx="0"/>
            <a:endCxn id="135" idx="1"/>
          </p:cNvCxnSpPr>
          <p:nvPr/>
        </p:nvCxnSpPr>
        <p:spPr>
          <a:xfrm>
            <a:off x="6863400" y="3501000"/>
            <a:ext cx="1041120" cy="108000"/>
          </a:xfrm>
          <a:prstGeom prst="bentConnector3">
            <a:avLst>
              <a:gd name="adj1" fmla="val 51643"/>
            </a:avLst>
          </a:prstGeom>
          <a:ln w="25560">
            <a:solidFill>
              <a:srgbClr val="333333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7545240" y="5084640"/>
            <a:ext cx="1727280" cy="1008360"/>
          </a:xfrm>
          <a:prstGeom prst="roundRect">
            <a:avLst>
              <a:gd name="adj" fmla="val 9468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・更新作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・管理作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68520" y="3716280"/>
            <a:ext cx="0" cy="792360"/>
          </a:xfrm>
          <a:prstGeom prst="line">
            <a:avLst/>
          </a:prstGeom>
          <a:ln cap="rnd" w="5724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16160" y="5300640"/>
            <a:ext cx="1727280" cy="1008000"/>
          </a:xfrm>
          <a:prstGeom prst="roundRect">
            <a:avLst>
              <a:gd name="adj" fmla="val 9468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・会員登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・サービス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10640" y="6453360"/>
            <a:ext cx="44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システム図は何かを意図して制作したものではありません。使い方のご参考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15800" y="836640"/>
            <a:ext cx="9074160" cy="5688000"/>
          </a:xfrm>
          <a:prstGeom prst="roundRect">
            <a:avLst>
              <a:gd name="adj" fmla="val 3264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93240" y="1125360"/>
            <a:ext cx="1008000" cy="51832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メイリオ"/>
              </a:rPr>
              <a:t>利用者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システム構成図サンプル２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297240" y="2492280"/>
            <a:ext cx="2231640" cy="1965240"/>
            <a:chOff x="3297240" y="2492280"/>
            <a:chExt cx="2231640" cy="1965240"/>
          </a:xfrm>
        </p:grpSpPr>
        <p:sp>
          <p:nvSpPr>
            <p:cNvPr id="165" name=""/>
            <p:cNvSpPr/>
            <p:nvPr/>
          </p:nvSpPr>
          <p:spPr>
            <a:xfrm>
              <a:off x="3297240" y="2492280"/>
              <a:ext cx="2231640" cy="196524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02360" y="2810520"/>
              <a:ext cx="2018520" cy="153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02360" y="4244400"/>
              <a:ext cx="2018520" cy="10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02360" y="2702880"/>
              <a:ext cx="2018520" cy="105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145400" y="2349360"/>
            <a:ext cx="62568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WEB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ペー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061720" y="2910240"/>
            <a:ext cx="1463040" cy="1323720"/>
            <a:chOff x="2061720" y="2910240"/>
            <a:chExt cx="1463040" cy="1323720"/>
          </a:xfrm>
        </p:grpSpPr>
        <p:sp>
          <p:nvSpPr>
            <p:cNvPr id="171" name=""/>
            <p:cNvSpPr/>
            <p:nvPr/>
          </p:nvSpPr>
          <p:spPr>
            <a:xfrm>
              <a:off x="2289240" y="3068640"/>
              <a:ext cx="1008000" cy="1008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05240" y="328464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800000">
              <a:off x="2073240" y="3355560"/>
              <a:ext cx="1440000" cy="432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8900000">
              <a:off x="2073240" y="3355920"/>
              <a:ext cx="1440000" cy="432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730680" y="4184640"/>
            <a:ext cx="1439640" cy="431640"/>
            <a:chOff x="3730680" y="4184640"/>
            <a:chExt cx="1439640" cy="431640"/>
          </a:xfrm>
        </p:grpSpPr>
        <p:sp>
          <p:nvSpPr>
            <p:cNvPr id="176" name=""/>
            <p:cNvSpPr/>
            <p:nvPr/>
          </p:nvSpPr>
          <p:spPr>
            <a:xfrm>
              <a:off x="3730680" y="4184640"/>
              <a:ext cx="1439640" cy="431640"/>
            </a:xfrm>
            <a:custGeom>
              <a:avLst/>
              <a:gdLst/>
              <a:ahLst/>
              <a:rect l="l" t="t" r="r" b="b"/>
              <a:pathLst>
                <a:path w="907" h="272">
                  <a:moveTo>
                    <a:pt x="45" y="0"/>
                  </a:moveTo>
                  <a:lnTo>
                    <a:pt x="0" y="181"/>
                  </a:lnTo>
                  <a:lnTo>
                    <a:pt x="0" y="272"/>
                  </a:lnTo>
                  <a:lnTo>
                    <a:pt x="907" y="272"/>
                  </a:lnTo>
                  <a:lnTo>
                    <a:pt x="907" y="181"/>
                  </a:lnTo>
                  <a:lnTo>
                    <a:pt x="862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0680" y="4470480"/>
              <a:ext cx="1439640" cy="1458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730680" y="4184640"/>
              <a:ext cx="1439640" cy="285840"/>
            </a:xfrm>
            <a:custGeom>
              <a:avLst/>
              <a:gdLst>
                <a:gd name="textAreaLeft" fmla="*/ 155160 w 1439640"/>
                <a:gd name="textAreaRight" fmla="*/ 1284480 w 1439640"/>
                <a:gd name="textAreaTop" fmla="*/ 30600 h 285840"/>
                <a:gd name="textAreaBottom" fmla="*/ 25524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53" y="21600"/>
                  </a:lnTo>
                  <a:lnTo>
                    <a:pt x="104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d9d9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129200" y="4076640"/>
            <a:ext cx="60624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ＣＭＳサーバ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496520" y="1557360"/>
            <a:ext cx="381240" cy="720360"/>
            <a:chOff x="1496520" y="1557360"/>
            <a:chExt cx="381240" cy="720360"/>
          </a:xfrm>
        </p:grpSpPr>
        <p:grpSp>
          <p:nvGrpSpPr>
            <p:cNvPr id="181" name=""/>
            <p:cNvGrpSpPr/>
            <p:nvPr/>
          </p:nvGrpSpPr>
          <p:grpSpPr>
            <a:xfrm>
              <a:off x="1496520" y="1557360"/>
              <a:ext cx="381240" cy="720360"/>
              <a:chOff x="1496520" y="1557360"/>
              <a:chExt cx="381240" cy="720360"/>
            </a:xfrm>
          </p:grpSpPr>
          <p:sp>
            <p:nvSpPr>
              <p:cNvPr id="182" name=""/>
              <p:cNvSpPr/>
              <p:nvPr/>
            </p:nvSpPr>
            <p:spPr>
              <a:xfrm rot="10800000">
                <a:off x="1496520" y="1811160"/>
                <a:ext cx="381240" cy="466560"/>
              </a:xfrm>
              <a:custGeom>
                <a:avLst/>
                <a:gdLst/>
                <a:ahLst/>
                <a:rect l="l" t="t" r="r" b="b"/>
                <a:pathLst>
                  <a:path w="408" h="500">
                    <a:moveTo>
                      <a:pt x="45" y="68"/>
                    </a:moveTo>
                    <a:lnTo>
                      <a:pt x="0" y="431"/>
                    </a:lnTo>
                    <a:cubicBezTo>
                      <a:pt x="0" y="431"/>
                      <a:pt x="64" y="500"/>
                      <a:pt x="204" y="499"/>
                    </a:cubicBezTo>
                    <a:cubicBezTo>
                      <a:pt x="376" y="492"/>
                      <a:pt x="408" y="431"/>
                      <a:pt x="408" y="431"/>
                    </a:cubicBezTo>
                    <a:lnTo>
                      <a:pt x="363" y="68"/>
                    </a:lnTo>
                    <a:cubicBezTo>
                      <a:pt x="363" y="68"/>
                      <a:pt x="334" y="0"/>
                      <a:pt x="204" y="0"/>
                    </a:cubicBezTo>
                    <a:cubicBezTo>
                      <a:pt x="69" y="0"/>
                      <a:pt x="45" y="68"/>
                      <a:pt x="45" y="68"/>
                    </a:cubicBez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538640" y="1557360"/>
                <a:ext cx="297000" cy="2970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 rot="10800000">
              <a:off x="1496520" y="1811160"/>
              <a:ext cx="381240" cy="466560"/>
            </a:xfrm>
            <a:custGeom>
              <a:avLst/>
              <a:gdLst/>
              <a:ahLst/>
              <a:rect l="l" t="t" r="r" b="b"/>
              <a:pathLst>
                <a:path w="408" h="500">
                  <a:moveTo>
                    <a:pt x="45" y="68"/>
                  </a:moveTo>
                  <a:lnTo>
                    <a:pt x="0" y="431"/>
                  </a:lnTo>
                  <a:cubicBezTo>
                    <a:pt x="0" y="431"/>
                    <a:pt x="64" y="500"/>
                    <a:pt x="204" y="499"/>
                  </a:cubicBezTo>
                  <a:cubicBezTo>
                    <a:pt x="376" y="492"/>
                    <a:pt x="408" y="431"/>
                    <a:pt x="408" y="431"/>
                  </a:cubicBezTo>
                  <a:lnTo>
                    <a:pt x="363" y="68"/>
                  </a:lnTo>
                  <a:cubicBezTo>
                    <a:pt x="363" y="68"/>
                    <a:pt x="334" y="0"/>
                    <a:pt x="204" y="0"/>
                  </a:cubicBezTo>
                  <a:cubicBezTo>
                    <a:pt x="69" y="0"/>
                    <a:pt x="45" y="68"/>
                    <a:pt x="45" y="68"/>
                  </a:cubicBezTo>
                  <a:close/>
                </a:path>
              </a:pathLst>
            </a:cu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38640" y="1557360"/>
              <a:ext cx="297000" cy="297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528920" y="2239920"/>
            <a:ext cx="301320" cy="188640"/>
          </a:xfrm>
          <a:prstGeom prst="rect">
            <a:avLst/>
          </a:prstGeom>
          <a:solidFill>
            <a:srgbClr val="008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担当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12840" y="2924280"/>
            <a:ext cx="606240" cy="188640"/>
          </a:xfrm>
          <a:prstGeom prst="rect">
            <a:avLst/>
          </a:prstGeom>
          <a:solidFill>
            <a:srgbClr val="993366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インターネッ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04880" y="1197000"/>
            <a:ext cx="649080" cy="1116000"/>
            <a:chOff x="704880" y="1197000"/>
            <a:chExt cx="649080" cy="1116000"/>
          </a:xfrm>
        </p:grpSpPr>
        <p:sp>
          <p:nvSpPr>
            <p:cNvPr id="189" name=""/>
            <p:cNvSpPr/>
            <p:nvPr/>
          </p:nvSpPr>
          <p:spPr>
            <a:xfrm>
              <a:off x="704880" y="1197000"/>
              <a:ext cx="649080" cy="1116000"/>
            </a:xfrm>
            <a:custGeom>
              <a:avLst/>
              <a:gdLst/>
              <a:ahLst/>
              <a:rect l="l" t="t" r="r" b="b"/>
              <a:pathLst>
                <a:path w="409" h="703">
                  <a:moveTo>
                    <a:pt x="363" y="589"/>
                  </a:moveTo>
                  <a:lnTo>
                    <a:pt x="363" y="703"/>
                  </a:lnTo>
                  <a:lnTo>
                    <a:pt x="0" y="703"/>
                  </a:lnTo>
                  <a:lnTo>
                    <a:pt x="0" y="113"/>
                  </a:lnTo>
                  <a:lnTo>
                    <a:pt x="46" y="0"/>
                  </a:lnTo>
                  <a:lnTo>
                    <a:pt x="318" y="0"/>
                  </a:lnTo>
                  <a:lnTo>
                    <a:pt x="363" y="113"/>
                  </a:lnTo>
                  <a:lnTo>
                    <a:pt x="363" y="317"/>
                  </a:lnTo>
                  <a:lnTo>
                    <a:pt x="409" y="317"/>
                  </a:lnTo>
                  <a:lnTo>
                    <a:pt x="409" y="589"/>
                  </a:lnTo>
                  <a:lnTo>
                    <a:pt x="363" y="589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704880" y="1197000"/>
              <a:ext cx="646920" cy="1116000"/>
              <a:chOff x="704880" y="1197000"/>
              <a:chExt cx="646920" cy="1116000"/>
            </a:xfrm>
          </p:grpSpPr>
          <p:sp>
            <p:nvSpPr>
              <p:cNvPr id="191" name=""/>
              <p:cNvSpPr/>
              <p:nvPr/>
            </p:nvSpPr>
            <p:spPr>
              <a:xfrm>
                <a:off x="704880" y="1376280"/>
                <a:ext cx="576000" cy="936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17171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49240" y="2131920"/>
                <a:ext cx="288360" cy="18108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790200" y="1412640"/>
                <a:ext cx="418680" cy="646200"/>
                <a:chOff x="790200" y="1412640"/>
                <a:chExt cx="418680" cy="6462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790200" y="141264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945720" y="1412640"/>
                  <a:ext cx="10728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101240" y="141264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90200" y="159228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945720" y="1592280"/>
                  <a:ext cx="10728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101240" y="159228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90200" y="177156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945720" y="1771560"/>
                  <a:ext cx="10728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101240" y="177156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90200" y="195084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945720" y="1950840"/>
                  <a:ext cx="10728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101240" y="195084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 flipV="1">
                <a:off x="704880" y="1197000"/>
                <a:ext cx="576000" cy="179280"/>
              </a:xfrm>
              <a:custGeom>
                <a:avLst/>
                <a:gdLst>
                  <a:gd name="textAreaLeft" fmla="*/ 81720 w 576000"/>
                  <a:gd name="textAreaRight" fmla="*/ 494280 w 576000"/>
                  <a:gd name="textAreaTop" fmla="*/ 25560 h 179280"/>
                  <a:gd name="textAreaBottom" fmla="*/ 153720 h 17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16" y="21600"/>
                    </a:lnTo>
                    <a:lnTo>
                      <a:pt x="238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80880" y="1700280"/>
                <a:ext cx="70920" cy="4316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809280" y="2241720"/>
            <a:ext cx="346680" cy="188640"/>
          </a:xfrm>
          <a:prstGeom prst="rect">
            <a:avLst/>
          </a:prstGeom>
          <a:solidFill>
            <a:srgbClr val="800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拠点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04880" y="2997360"/>
            <a:ext cx="649080" cy="1116000"/>
            <a:chOff x="704880" y="2997360"/>
            <a:chExt cx="649080" cy="1116000"/>
          </a:xfrm>
        </p:grpSpPr>
        <p:sp>
          <p:nvSpPr>
            <p:cNvPr id="210" name=""/>
            <p:cNvSpPr/>
            <p:nvPr/>
          </p:nvSpPr>
          <p:spPr>
            <a:xfrm>
              <a:off x="704880" y="2997360"/>
              <a:ext cx="649080" cy="1116000"/>
            </a:xfrm>
            <a:custGeom>
              <a:avLst/>
              <a:gdLst/>
              <a:ahLst/>
              <a:rect l="l" t="t" r="r" b="b"/>
              <a:pathLst>
                <a:path w="409" h="703">
                  <a:moveTo>
                    <a:pt x="363" y="589"/>
                  </a:moveTo>
                  <a:lnTo>
                    <a:pt x="363" y="703"/>
                  </a:lnTo>
                  <a:lnTo>
                    <a:pt x="0" y="703"/>
                  </a:lnTo>
                  <a:lnTo>
                    <a:pt x="0" y="113"/>
                  </a:lnTo>
                  <a:lnTo>
                    <a:pt x="46" y="0"/>
                  </a:lnTo>
                  <a:lnTo>
                    <a:pt x="318" y="0"/>
                  </a:lnTo>
                  <a:lnTo>
                    <a:pt x="363" y="113"/>
                  </a:lnTo>
                  <a:lnTo>
                    <a:pt x="363" y="317"/>
                  </a:lnTo>
                  <a:lnTo>
                    <a:pt x="409" y="317"/>
                  </a:lnTo>
                  <a:lnTo>
                    <a:pt x="409" y="589"/>
                  </a:lnTo>
                  <a:lnTo>
                    <a:pt x="363" y="589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704880" y="2997360"/>
              <a:ext cx="646920" cy="1116000"/>
              <a:chOff x="704880" y="2997360"/>
              <a:chExt cx="646920" cy="1116000"/>
            </a:xfrm>
          </p:grpSpPr>
          <p:sp>
            <p:nvSpPr>
              <p:cNvPr id="212" name=""/>
              <p:cNvSpPr/>
              <p:nvPr/>
            </p:nvSpPr>
            <p:spPr>
              <a:xfrm>
                <a:off x="704880" y="3176640"/>
                <a:ext cx="576000" cy="936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17171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49240" y="3932280"/>
                <a:ext cx="288360" cy="18108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790200" y="3213000"/>
                <a:ext cx="418680" cy="646200"/>
                <a:chOff x="790200" y="3213000"/>
                <a:chExt cx="418680" cy="6462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90200" y="321300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945720" y="3213000"/>
                  <a:ext cx="10728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101240" y="321300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90200" y="339264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945720" y="3392640"/>
                  <a:ext cx="10728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101240" y="339264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90200" y="357192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945720" y="3571920"/>
                  <a:ext cx="10728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101240" y="357192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90200" y="375120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945720" y="3751200"/>
                  <a:ext cx="10728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101240" y="375120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 flipV="1">
                <a:off x="704880" y="2997360"/>
                <a:ext cx="576000" cy="179280"/>
              </a:xfrm>
              <a:custGeom>
                <a:avLst/>
                <a:gdLst>
                  <a:gd name="textAreaLeft" fmla="*/ 81720 w 576000"/>
                  <a:gd name="textAreaRight" fmla="*/ 494280 w 576000"/>
                  <a:gd name="textAreaTop" fmla="*/ 25560 h 179280"/>
                  <a:gd name="textAreaBottom" fmla="*/ 153720 h 17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16" y="21600"/>
                    </a:lnTo>
                    <a:lnTo>
                      <a:pt x="238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80880" y="3500640"/>
                <a:ext cx="70920" cy="4316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"/>
          <p:cNvSpPr/>
          <p:nvPr/>
        </p:nvSpPr>
        <p:spPr>
          <a:xfrm>
            <a:off x="831960" y="4041720"/>
            <a:ext cx="301320" cy="188640"/>
          </a:xfrm>
          <a:prstGeom prst="rect">
            <a:avLst/>
          </a:prstGeom>
          <a:solidFill>
            <a:srgbClr val="800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拠点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04880" y="4848120"/>
            <a:ext cx="649080" cy="1116000"/>
            <a:chOff x="704880" y="4848120"/>
            <a:chExt cx="649080" cy="1116000"/>
          </a:xfrm>
        </p:grpSpPr>
        <p:sp>
          <p:nvSpPr>
            <p:cNvPr id="231" name=""/>
            <p:cNvSpPr/>
            <p:nvPr/>
          </p:nvSpPr>
          <p:spPr>
            <a:xfrm>
              <a:off x="704880" y="4848120"/>
              <a:ext cx="649080" cy="1116000"/>
            </a:xfrm>
            <a:custGeom>
              <a:avLst/>
              <a:gdLst/>
              <a:ahLst/>
              <a:rect l="l" t="t" r="r" b="b"/>
              <a:pathLst>
                <a:path w="409" h="703">
                  <a:moveTo>
                    <a:pt x="363" y="589"/>
                  </a:moveTo>
                  <a:lnTo>
                    <a:pt x="363" y="703"/>
                  </a:lnTo>
                  <a:lnTo>
                    <a:pt x="0" y="703"/>
                  </a:lnTo>
                  <a:lnTo>
                    <a:pt x="0" y="113"/>
                  </a:lnTo>
                  <a:lnTo>
                    <a:pt x="46" y="0"/>
                  </a:lnTo>
                  <a:lnTo>
                    <a:pt x="318" y="0"/>
                  </a:lnTo>
                  <a:lnTo>
                    <a:pt x="363" y="113"/>
                  </a:lnTo>
                  <a:lnTo>
                    <a:pt x="363" y="317"/>
                  </a:lnTo>
                  <a:lnTo>
                    <a:pt x="409" y="317"/>
                  </a:lnTo>
                  <a:lnTo>
                    <a:pt x="409" y="589"/>
                  </a:lnTo>
                  <a:lnTo>
                    <a:pt x="363" y="589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704880" y="4848120"/>
              <a:ext cx="646920" cy="1116000"/>
              <a:chOff x="704880" y="4848120"/>
              <a:chExt cx="646920" cy="111600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880" y="5027400"/>
                <a:ext cx="576000" cy="936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17171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49240" y="5783040"/>
                <a:ext cx="288360" cy="18108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790200" y="5063760"/>
                <a:ext cx="418680" cy="646200"/>
                <a:chOff x="790200" y="5063760"/>
                <a:chExt cx="418680" cy="64620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790200" y="506376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945720" y="5063760"/>
                  <a:ext cx="10728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01240" y="506376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90200" y="524340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945720" y="5243400"/>
                  <a:ext cx="10728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101240" y="524340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90200" y="542268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945720" y="5422680"/>
                  <a:ext cx="10728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01240" y="542268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90200" y="560196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945720" y="5601960"/>
                  <a:ext cx="10728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101240" y="560196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 flipV="1">
                <a:off x="704880" y="4848120"/>
                <a:ext cx="576000" cy="179280"/>
              </a:xfrm>
              <a:custGeom>
                <a:avLst/>
                <a:gdLst>
                  <a:gd name="textAreaLeft" fmla="*/ 81720 w 576000"/>
                  <a:gd name="textAreaRight" fmla="*/ 494280 w 576000"/>
                  <a:gd name="textAreaTop" fmla="*/ 25560 h 179280"/>
                  <a:gd name="textAreaBottom" fmla="*/ 153720 h 17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16" y="21600"/>
                    </a:lnTo>
                    <a:lnTo>
                      <a:pt x="238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80880" y="5351400"/>
                <a:ext cx="70920" cy="4316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"/>
          <p:cNvSpPr/>
          <p:nvPr/>
        </p:nvSpPr>
        <p:spPr>
          <a:xfrm>
            <a:off x="831960" y="5892840"/>
            <a:ext cx="301320" cy="188640"/>
          </a:xfrm>
          <a:prstGeom prst="rect">
            <a:avLst/>
          </a:prstGeom>
          <a:solidFill>
            <a:srgbClr val="800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拠点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96520" y="3357720"/>
            <a:ext cx="381240" cy="720360"/>
            <a:chOff x="1496520" y="3357720"/>
            <a:chExt cx="381240" cy="720360"/>
          </a:xfrm>
        </p:grpSpPr>
        <p:grpSp>
          <p:nvGrpSpPr>
            <p:cNvPr id="252" name=""/>
            <p:cNvGrpSpPr/>
            <p:nvPr/>
          </p:nvGrpSpPr>
          <p:grpSpPr>
            <a:xfrm>
              <a:off x="1496520" y="3357720"/>
              <a:ext cx="381240" cy="720360"/>
              <a:chOff x="1496520" y="3357720"/>
              <a:chExt cx="381240" cy="720360"/>
            </a:xfrm>
          </p:grpSpPr>
          <p:sp>
            <p:nvSpPr>
              <p:cNvPr id="253" name=""/>
              <p:cNvSpPr/>
              <p:nvPr/>
            </p:nvSpPr>
            <p:spPr>
              <a:xfrm rot="10800000">
                <a:off x="1496520" y="3611520"/>
                <a:ext cx="381240" cy="466560"/>
              </a:xfrm>
              <a:custGeom>
                <a:avLst/>
                <a:gdLst/>
                <a:ahLst/>
                <a:rect l="l" t="t" r="r" b="b"/>
                <a:pathLst>
                  <a:path w="408" h="500">
                    <a:moveTo>
                      <a:pt x="45" y="68"/>
                    </a:moveTo>
                    <a:lnTo>
                      <a:pt x="0" y="431"/>
                    </a:lnTo>
                    <a:cubicBezTo>
                      <a:pt x="0" y="431"/>
                      <a:pt x="64" y="500"/>
                      <a:pt x="204" y="499"/>
                    </a:cubicBezTo>
                    <a:cubicBezTo>
                      <a:pt x="376" y="492"/>
                      <a:pt x="408" y="431"/>
                      <a:pt x="408" y="431"/>
                    </a:cubicBezTo>
                    <a:lnTo>
                      <a:pt x="363" y="68"/>
                    </a:lnTo>
                    <a:cubicBezTo>
                      <a:pt x="363" y="68"/>
                      <a:pt x="334" y="0"/>
                      <a:pt x="204" y="0"/>
                    </a:cubicBezTo>
                    <a:cubicBezTo>
                      <a:pt x="69" y="0"/>
                      <a:pt x="45" y="68"/>
                      <a:pt x="45" y="68"/>
                    </a:cubicBez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38640" y="3357720"/>
                <a:ext cx="297000" cy="2970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rot="10800000">
              <a:off x="1496520" y="3611520"/>
              <a:ext cx="381240" cy="466560"/>
            </a:xfrm>
            <a:custGeom>
              <a:avLst/>
              <a:gdLst/>
              <a:ahLst/>
              <a:rect l="l" t="t" r="r" b="b"/>
              <a:pathLst>
                <a:path w="408" h="500">
                  <a:moveTo>
                    <a:pt x="45" y="68"/>
                  </a:moveTo>
                  <a:lnTo>
                    <a:pt x="0" y="431"/>
                  </a:lnTo>
                  <a:cubicBezTo>
                    <a:pt x="0" y="431"/>
                    <a:pt x="64" y="500"/>
                    <a:pt x="204" y="499"/>
                  </a:cubicBezTo>
                  <a:cubicBezTo>
                    <a:pt x="376" y="492"/>
                    <a:pt x="408" y="431"/>
                    <a:pt x="408" y="431"/>
                  </a:cubicBezTo>
                  <a:lnTo>
                    <a:pt x="363" y="68"/>
                  </a:lnTo>
                  <a:cubicBezTo>
                    <a:pt x="363" y="68"/>
                    <a:pt x="334" y="0"/>
                    <a:pt x="204" y="0"/>
                  </a:cubicBezTo>
                  <a:cubicBezTo>
                    <a:pt x="69" y="0"/>
                    <a:pt x="45" y="68"/>
                    <a:pt x="45" y="68"/>
                  </a:cubicBezTo>
                  <a:close/>
                </a:path>
              </a:pathLst>
            </a:cu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38640" y="3357720"/>
              <a:ext cx="297000" cy="297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528920" y="4040280"/>
            <a:ext cx="301320" cy="188640"/>
          </a:xfrm>
          <a:prstGeom prst="rect">
            <a:avLst/>
          </a:prstGeom>
          <a:solidFill>
            <a:srgbClr val="008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担当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496520" y="5229360"/>
            <a:ext cx="381240" cy="720360"/>
            <a:chOff x="1496520" y="5229360"/>
            <a:chExt cx="381240" cy="720360"/>
          </a:xfrm>
        </p:grpSpPr>
        <p:grpSp>
          <p:nvGrpSpPr>
            <p:cNvPr id="259" name=""/>
            <p:cNvGrpSpPr/>
            <p:nvPr/>
          </p:nvGrpSpPr>
          <p:grpSpPr>
            <a:xfrm>
              <a:off x="1496520" y="5229360"/>
              <a:ext cx="381240" cy="720360"/>
              <a:chOff x="1496520" y="5229360"/>
              <a:chExt cx="381240" cy="720360"/>
            </a:xfrm>
          </p:grpSpPr>
          <p:sp>
            <p:nvSpPr>
              <p:cNvPr id="260" name=""/>
              <p:cNvSpPr/>
              <p:nvPr/>
            </p:nvSpPr>
            <p:spPr>
              <a:xfrm rot="10800000">
                <a:off x="1496520" y="5483160"/>
                <a:ext cx="381240" cy="466560"/>
              </a:xfrm>
              <a:custGeom>
                <a:avLst/>
                <a:gdLst/>
                <a:ahLst/>
                <a:rect l="l" t="t" r="r" b="b"/>
                <a:pathLst>
                  <a:path w="408" h="500">
                    <a:moveTo>
                      <a:pt x="45" y="68"/>
                    </a:moveTo>
                    <a:lnTo>
                      <a:pt x="0" y="431"/>
                    </a:lnTo>
                    <a:cubicBezTo>
                      <a:pt x="0" y="431"/>
                      <a:pt x="64" y="500"/>
                      <a:pt x="204" y="499"/>
                    </a:cubicBezTo>
                    <a:cubicBezTo>
                      <a:pt x="376" y="492"/>
                      <a:pt x="408" y="431"/>
                      <a:pt x="408" y="431"/>
                    </a:cubicBezTo>
                    <a:lnTo>
                      <a:pt x="363" y="68"/>
                    </a:lnTo>
                    <a:cubicBezTo>
                      <a:pt x="363" y="68"/>
                      <a:pt x="334" y="0"/>
                      <a:pt x="204" y="0"/>
                    </a:cubicBezTo>
                    <a:cubicBezTo>
                      <a:pt x="69" y="0"/>
                      <a:pt x="45" y="68"/>
                      <a:pt x="45" y="68"/>
                    </a:cubicBez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38640" y="5229360"/>
                <a:ext cx="297000" cy="2970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 rot="10800000">
              <a:off x="1496520" y="5483160"/>
              <a:ext cx="381240" cy="466560"/>
            </a:xfrm>
            <a:custGeom>
              <a:avLst/>
              <a:gdLst/>
              <a:ahLst/>
              <a:rect l="l" t="t" r="r" b="b"/>
              <a:pathLst>
                <a:path w="408" h="500">
                  <a:moveTo>
                    <a:pt x="45" y="68"/>
                  </a:moveTo>
                  <a:lnTo>
                    <a:pt x="0" y="431"/>
                  </a:lnTo>
                  <a:cubicBezTo>
                    <a:pt x="0" y="431"/>
                    <a:pt x="64" y="500"/>
                    <a:pt x="204" y="499"/>
                  </a:cubicBezTo>
                  <a:cubicBezTo>
                    <a:pt x="376" y="492"/>
                    <a:pt x="408" y="431"/>
                    <a:pt x="408" y="431"/>
                  </a:cubicBezTo>
                  <a:lnTo>
                    <a:pt x="363" y="68"/>
                  </a:lnTo>
                  <a:cubicBezTo>
                    <a:pt x="363" y="68"/>
                    <a:pt x="334" y="0"/>
                    <a:pt x="204" y="0"/>
                  </a:cubicBezTo>
                  <a:cubicBezTo>
                    <a:pt x="69" y="0"/>
                    <a:pt x="45" y="68"/>
                    <a:pt x="45" y="68"/>
                  </a:cubicBezTo>
                  <a:close/>
                </a:path>
              </a:pathLst>
            </a:cu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38640" y="5229360"/>
              <a:ext cx="297000" cy="297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528920" y="5911920"/>
            <a:ext cx="301320" cy="188640"/>
          </a:xfrm>
          <a:prstGeom prst="rect">
            <a:avLst/>
          </a:prstGeom>
          <a:solidFill>
            <a:srgbClr val="008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担当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27040" y="3213000"/>
            <a:ext cx="8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メイリオ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メイリオ"/>
              </a:rPr>
              <a:t>更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"/>
          <p:cNvCxnSpPr>
            <a:stCxn id="186" idx="3"/>
            <a:endCxn id="265" idx="1"/>
          </p:cNvCxnSpPr>
          <p:nvPr/>
        </p:nvCxnSpPr>
        <p:spPr>
          <a:xfrm>
            <a:off x="1912680" y="2340000"/>
            <a:ext cx="2104200" cy="1102320"/>
          </a:xfrm>
          <a:prstGeom prst="bentConnector3">
            <a:avLst>
              <a:gd name="adj1" fmla="val 49948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4" idx="3"/>
            <a:endCxn id="265" idx="1"/>
          </p:cNvCxnSpPr>
          <p:nvPr/>
        </p:nvCxnSpPr>
        <p:spPr>
          <a:xfrm flipV="1">
            <a:off x="1912680" y="3441240"/>
            <a:ext cx="2104200" cy="2571120"/>
          </a:xfrm>
          <a:prstGeom prst="bentConnector3">
            <a:avLst>
              <a:gd name="adj1" fmla="val 49948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57" idx="3"/>
            <a:endCxn id="265" idx="1"/>
          </p:cNvCxnSpPr>
          <p:nvPr/>
        </p:nvCxnSpPr>
        <p:spPr>
          <a:xfrm flipV="1">
            <a:off x="1912680" y="3440880"/>
            <a:ext cx="2104200" cy="699480"/>
          </a:xfrm>
          <a:prstGeom prst="bentConnector3">
            <a:avLst>
              <a:gd name="adj1" fmla="val 49948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269" name=""/>
          <p:cNvGrpSpPr/>
          <p:nvPr/>
        </p:nvGrpSpPr>
        <p:grpSpPr>
          <a:xfrm>
            <a:off x="3728880" y="5084640"/>
            <a:ext cx="649440" cy="1116000"/>
            <a:chOff x="3728880" y="5084640"/>
            <a:chExt cx="649440" cy="1116000"/>
          </a:xfrm>
        </p:grpSpPr>
        <p:sp>
          <p:nvSpPr>
            <p:cNvPr id="270" name=""/>
            <p:cNvSpPr/>
            <p:nvPr/>
          </p:nvSpPr>
          <p:spPr>
            <a:xfrm>
              <a:off x="3728880" y="5084640"/>
              <a:ext cx="649440" cy="1116000"/>
            </a:xfrm>
            <a:custGeom>
              <a:avLst/>
              <a:gdLst/>
              <a:ahLst/>
              <a:rect l="l" t="t" r="r" b="b"/>
              <a:pathLst>
                <a:path w="409" h="703">
                  <a:moveTo>
                    <a:pt x="363" y="589"/>
                  </a:moveTo>
                  <a:lnTo>
                    <a:pt x="363" y="703"/>
                  </a:lnTo>
                  <a:lnTo>
                    <a:pt x="0" y="703"/>
                  </a:lnTo>
                  <a:lnTo>
                    <a:pt x="0" y="113"/>
                  </a:lnTo>
                  <a:lnTo>
                    <a:pt x="46" y="0"/>
                  </a:lnTo>
                  <a:lnTo>
                    <a:pt x="318" y="0"/>
                  </a:lnTo>
                  <a:lnTo>
                    <a:pt x="363" y="113"/>
                  </a:lnTo>
                  <a:lnTo>
                    <a:pt x="363" y="317"/>
                  </a:lnTo>
                  <a:lnTo>
                    <a:pt x="409" y="317"/>
                  </a:lnTo>
                  <a:lnTo>
                    <a:pt x="409" y="589"/>
                  </a:lnTo>
                  <a:lnTo>
                    <a:pt x="363" y="589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3728880" y="5084640"/>
              <a:ext cx="647640" cy="1116000"/>
              <a:chOff x="3728880" y="5084640"/>
              <a:chExt cx="647640" cy="1116000"/>
            </a:xfrm>
          </p:grpSpPr>
          <p:sp>
            <p:nvSpPr>
              <p:cNvPr id="272" name=""/>
              <p:cNvSpPr/>
              <p:nvPr/>
            </p:nvSpPr>
            <p:spPr>
              <a:xfrm>
                <a:off x="3728880" y="5263920"/>
                <a:ext cx="576360" cy="936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17171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873600" y="6019560"/>
                <a:ext cx="288720" cy="18108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3814560" y="5300280"/>
                <a:ext cx="419400" cy="646200"/>
                <a:chOff x="3814560" y="5300280"/>
                <a:chExt cx="419400" cy="6462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814560" y="530028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970440" y="530028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125960" y="530028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814560" y="547992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970440" y="547992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25960" y="547992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814560" y="565920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970440" y="565920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125960" y="565920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814560" y="583848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970440" y="583848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125960" y="583848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 flipV="1">
                <a:off x="3728880" y="5084640"/>
                <a:ext cx="576360" cy="179280"/>
              </a:xfrm>
              <a:custGeom>
                <a:avLst/>
                <a:gdLst>
                  <a:gd name="textAreaLeft" fmla="*/ 82080 w 576360"/>
                  <a:gd name="textAreaRight" fmla="*/ 494280 w 576360"/>
                  <a:gd name="textAreaTop" fmla="*/ 25560 h 179280"/>
                  <a:gd name="textAreaBottom" fmla="*/ 153720 h 17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16" y="21600"/>
                    </a:lnTo>
                    <a:lnTo>
                      <a:pt x="238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05240" y="5587920"/>
                <a:ext cx="71280" cy="4316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"/>
          <p:cNvSpPr/>
          <p:nvPr/>
        </p:nvSpPr>
        <p:spPr>
          <a:xfrm>
            <a:off x="3894120" y="6129360"/>
            <a:ext cx="225000" cy="188640"/>
          </a:xfrm>
          <a:prstGeom prst="rect">
            <a:avLst/>
          </a:prstGeom>
          <a:solidFill>
            <a:srgbClr val="800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本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21240" y="5157720"/>
            <a:ext cx="1044360" cy="963720"/>
            <a:chOff x="4521240" y="5157720"/>
            <a:chExt cx="1044360" cy="963720"/>
          </a:xfrm>
        </p:grpSpPr>
        <p:grpSp>
          <p:nvGrpSpPr>
            <p:cNvPr id="291" name=""/>
            <p:cNvGrpSpPr/>
            <p:nvPr/>
          </p:nvGrpSpPr>
          <p:grpSpPr>
            <a:xfrm>
              <a:off x="4521240" y="5157720"/>
              <a:ext cx="1044360" cy="963720"/>
              <a:chOff x="4521240" y="5157720"/>
              <a:chExt cx="1044360" cy="963720"/>
            </a:xfrm>
          </p:grpSpPr>
          <p:sp>
            <p:nvSpPr>
              <p:cNvPr id="292" name=""/>
              <p:cNvSpPr/>
              <p:nvPr/>
            </p:nvSpPr>
            <p:spPr>
              <a:xfrm>
                <a:off x="5352120" y="5157720"/>
                <a:ext cx="213480" cy="963720"/>
              </a:xfrm>
              <a:custGeom>
                <a:avLst/>
                <a:gdLst/>
                <a:ahLst/>
                <a:rect l="l" t="t" r="r" b="b"/>
                <a:pathLst>
                  <a:path w="181" h="817">
                    <a:moveTo>
                      <a:pt x="181" y="817"/>
                    </a:moveTo>
                    <a:lnTo>
                      <a:pt x="0" y="817"/>
                    </a:lnTo>
                    <a:lnTo>
                      <a:pt x="0" y="91"/>
                    </a:lnTo>
                    <a:lnTo>
                      <a:pt x="22" y="0"/>
                    </a:lnTo>
                    <a:lnTo>
                      <a:pt x="158" y="0"/>
                    </a:lnTo>
                    <a:lnTo>
                      <a:pt x="181" y="91"/>
                    </a:lnTo>
                    <a:lnTo>
                      <a:pt x="181" y="817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521240" y="5211720"/>
                <a:ext cx="776520" cy="668520"/>
              </a:xfrm>
              <a:custGeom>
                <a:avLst/>
                <a:gdLst/>
                <a:ahLst/>
                <a:rect l="l" t="t" r="r" b="b"/>
                <a:pathLst>
                  <a:path w="658" h="567">
                    <a:moveTo>
                      <a:pt x="658" y="22"/>
                    </a:moveTo>
                    <a:lnTo>
                      <a:pt x="613" y="0"/>
                    </a:lnTo>
                    <a:lnTo>
                      <a:pt x="46" y="0"/>
                    </a:lnTo>
                    <a:lnTo>
                      <a:pt x="0" y="22"/>
                    </a:lnTo>
                    <a:lnTo>
                      <a:pt x="0" y="567"/>
                    </a:lnTo>
                    <a:lnTo>
                      <a:pt x="658" y="567"/>
                    </a:lnTo>
                    <a:lnTo>
                      <a:pt x="65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55520" y="5960880"/>
                <a:ext cx="508680" cy="133200"/>
              </a:xfrm>
              <a:custGeom>
                <a:avLst/>
                <a:gdLst/>
                <a:ahLst/>
                <a:rect l="l" t="t" r="r" b="b"/>
                <a:pathLst>
                  <a:path w="431" h="113">
                    <a:moveTo>
                      <a:pt x="431" y="113"/>
                    </a:moveTo>
                    <a:lnTo>
                      <a:pt x="0" y="113"/>
                    </a:lnTo>
                    <a:lnTo>
                      <a:pt x="0" y="90"/>
                    </a:lnTo>
                    <a:lnTo>
                      <a:pt x="45" y="0"/>
                    </a:lnTo>
                    <a:lnTo>
                      <a:pt x="385" y="0"/>
                    </a:lnTo>
                    <a:lnTo>
                      <a:pt x="431" y="90"/>
                    </a:lnTo>
                    <a:lnTo>
                      <a:pt x="431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16080" y="5826600"/>
                <a:ext cx="187560" cy="16128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521240" y="5157720"/>
              <a:ext cx="1042920" cy="963360"/>
              <a:chOff x="4521240" y="5157720"/>
              <a:chExt cx="1042920" cy="963360"/>
            </a:xfrm>
          </p:grpSpPr>
          <p:sp>
            <p:nvSpPr>
              <p:cNvPr id="297" name=""/>
              <p:cNvSpPr/>
              <p:nvPr/>
            </p:nvSpPr>
            <p:spPr>
              <a:xfrm flipV="1">
                <a:off x="4655520" y="5959080"/>
                <a:ext cx="508680" cy="106920"/>
              </a:xfrm>
              <a:custGeom>
                <a:avLst/>
                <a:gdLst>
                  <a:gd name="textAreaLeft" fmla="*/ 69120 w 508680"/>
                  <a:gd name="textAreaRight" fmla="*/ 439560 w 508680"/>
                  <a:gd name="textAreaTop" fmla="*/ 14400 h 106920"/>
                  <a:gd name="textAreaBottom" fmla="*/ 92520 h 10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446" y="21600"/>
                    </a:lnTo>
                    <a:lnTo>
                      <a:pt x="215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16080" y="5853600"/>
                <a:ext cx="187560" cy="1602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55520" y="6067080"/>
                <a:ext cx="508680" cy="270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521240" y="5237640"/>
                <a:ext cx="776520" cy="6426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4521240" y="5209920"/>
                <a:ext cx="776520" cy="27000"/>
              </a:xfrm>
              <a:custGeom>
                <a:avLst/>
                <a:gdLst>
                  <a:gd name="textAreaLeft" fmla="*/ 85680 w 776520"/>
                  <a:gd name="textAreaRight" fmla="*/ 690840 w 776520"/>
                  <a:gd name="textAreaTop" fmla="*/ 2880 h 27000"/>
                  <a:gd name="textAreaBottom" fmla="*/ 24120 h 2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57" y="21600"/>
                    </a:lnTo>
                    <a:lnTo>
                      <a:pt x="114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74160" y="5292000"/>
                <a:ext cx="668880" cy="5342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350680" y="5265000"/>
                <a:ext cx="213480" cy="8560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5350680" y="5157720"/>
                <a:ext cx="213480" cy="107280"/>
              </a:xfrm>
              <a:custGeom>
                <a:avLst/>
                <a:gdLst>
                  <a:gd name="textAreaLeft" fmla="*/ 32400 w 213480"/>
                  <a:gd name="textAreaRight" fmla="*/ 181080 w 213480"/>
                  <a:gd name="textAreaTop" fmla="*/ 16200 h 107280"/>
                  <a:gd name="textAreaBottom" fmla="*/ 91080 h 10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841" y="21600"/>
                    </a:lnTo>
                    <a:lnTo>
                      <a:pt x="275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9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" name=""/>
          <p:cNvGrpSpPr/>
          <p:nvPr/>
        </p:nvGrpSpPr>
        <p:grpSpPr>
          <a:xfrm>
            <a:off x="5219280" y="5483160"/>
            <a:ext cx="381240" cy="720360"/>
            <a:chOff x="5219280" y="5483160"/>
            <a:chExt cx="381240" cy="720360"/>
          </a:xfrm>
        </p:grpSpPr>
        <p:grpSp>
          <p:nvGrpSpPr>
            <p:cNvPr id="306" name=""/>
            <p:cNvGrpSpPr/>
            <p:nvPr/>
          </p:nvGrpSpPr>
          <p:grpSpPr>
            <a:xfrm>
              <a:off x="5219280" y="5483160"/>
              <a:ext cx="381240" cy="720360"/>
              <a:chOff x="5219280" y="5483160"/>
              <a:chExt cx="381240" cy="720360"/>
            </a:xfrm>
          </p:grpSpPr>
          <p:sp>
            <p:nvSpPr>
              <p:cNvPr id="307" name=""/>
              <p:cNvSpPr/>
              <p:nvPr/>
            </p:nvSpPr>
            <p:spPr>
              <a:xfrm rot="10800000">
                <a:off x="5219280" y="5736960"/>
                <a:ext cx="381240" cy="466560"/>
              </a:xfrm>
              <a:custGeom>
                <a:avLst/>
                <a:gdLst/>
                <a:ahLst/>
                <a:rect l="l" t="t" r="r" b="b"/>
                <a:pathLst>
                  <a:path w="408" h="500">
                    <a:moveTo>
                      <a:pt x="45" y="68"/>
                    </a:moveTo>
                    <a:lnTo>
                      <a:pt x="0" y="431"/>
                    </a:lnTo>
                    <a:cubicBezTo>
                      <a:pt x="0" y="431"/>
                      <a:pt x="64" y="500"/>
                      <a:pt x="204" y="499"/>
                    </a:cubicBezTo>
                    <a:cubicBezTo>
                      <a:pt x="376" y="492"/>
                      <a:pt x="408" y="431"/>
                      <a:pt x="408" y="431"/>
                    </a:cubicBezTo>
                    <a:lnTo>
                      <a:pt x="363" y="68"/>
                    </a:lnTo>
                    <a:cubicBezTo>
                      <a:pt x="363" y="68"/>
                      <a:pt x="334" y="0"/>
                      <a:pt x="204" y="0"/>
                    </a:cubicBezTo>
                    <a:cubicBezTo>
                      <a:pt x="69" y="0"/>
                      <a:pt x="45" y="68"/>
                      <a:pt x="45" y="68"/>
                    </a:cubicBez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61400" y="5483160"/>
                <a:ext cx="297000" cy="2970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 rot="10800000">
              <a:off x="5219280" y="5736960"/>
              <a:ext cx="381240" cy="466560"/>
            </a:xfrm>
            <a:custGeom>
              <a:avLst/>
              <a:gdLst/>
              <a:ahLst/>
              <a:rect l="l" t="t" r="r" b="b"/>
              <a:pathLst>
                <a:path w="408" h="500">
                  <a:moveTo>
                    <a:pt x="45" y="68"/>
                  </a:moveTo>
                  <a:lnTo>
                    <a:pt x="0" y="431"/>
                  </a:lnTo>
                  <a:cubicBezTo>
                    <a:pt x="0" y="431"/>
                    <a:pt x="64" y="500"/>
                    <a:pt x="204" y="499"/>
                  </a:cubicBezTo>
                  <a:cubicBezTo>
                    <a:pt x="376" y="492"/>
                    <a:pt x="408" y="431"/>
                    <a:pt x="408" y="431"/>
                  </a:cubicBezTo>
                  <a:lnTo>
                    <a:pt x="363" y="68"/>
                  </a:lnTo>
                  <a:cubicBezTo>
                    <a:pt x="363" y="68"/>
                    <a:pt x="334" y="0"/>
                    <a:pt x="204" y="0"/>
                  </a:cubicBezTo>
                  <a:cubicBezTo>
                    <a:pt x="69" y="0"/>
                    <a:pt x="45" y="68"/>
                    <a:pt x="45" y="68"/>
                  </a:cubicBezTo>
                  <a:close/>
                </a:path>
              </a:pathLst>
            </a:cu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61400" y="5483160"/>
              <a:ext cx="297000" cy="297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5251680" y="6165720"/>
            <a:ext cx="301320" cy="188640"/>
          </a:xfrm>
          <a:prstGeom prst="rect">
            <a:avLst/>
          </a:prstGeom>
          <a:solidFill>
            <a:srgbClr val="008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管理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4520880" y="3933720"/>
            <a:ext cx="431640" cy="15112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361944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メイリオ"/>
              </a:rPr>
              <a:t>②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メイリオ"/>
              </a:rPr>
              <a:t>確認・承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3429000"/>
            <a:ext cx="1079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105600" y="2781360"/>
            <a:ext cx="1439640" cy="1268280"/>
            <a:chOff x="6105600" y="2781360"/>
            <a:chExt cx="1439640" cy="1268280"/>
          </a:xfrm>
        </p:grpSpPr>
        <p:sp>
          <p:nvSpPr>
            <p:cNvPr id="316" name=""/>
            <p:cNvSpPr/>
            <p:nvPr/>
          </p:nvSpPr>
          <p:spPr>
            <a:xfrm>
              <a:off x="6105600" y="2781360"/>
              <a:ext cx="1439640" cy="126828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3280" y="2986560"/>
              <a:ext cx="1302120" cy="9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73280" y="3912120"/>
              <a:ext cx="1302120" cy="68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73280" y="2917440"/>
              <a:ext cx="1302120" cy="67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6277320" y="3259080"/>
            <a:ext cx="10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メイリオ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メイリオ"/>
              </a:rPr>
              <a:t>本公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173360" y="2694240"/>
            <a:ext cx="1463040" cy="1323720"/>
            <a:chOff x="7173360" y="2694240"/>
            <a:chExt cx="1463040" cy="1323720"/>
          </a:xfrm>
        </p:grpSpPr>
        <p:sp>
          <p:nvSpPr>
            <p:cNvPr id="322" name=""/>
            <p:cNvSpPr/>
            <p:nvPr/>
          </p:nvSpPr>
          <p:spPr>
            <a:xfrm>
              <a:off x="7400880" y="2852640"/>
              <a:ext cx="1008000" cy="1008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16880" y="306864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800000">
              <a:off x="7184880" y="3139560"/>
              <a:ext cx="1440000" cy="432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8900000">
              <a:off x="7184880" y="3139920"/>
              <a:ext cx="1440000" cy="432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8265960" y="1628640"/>
            <a:ext cx="381240" cy="720360"/>
            <a:chOff x="8265960" y="1628640"/>
            <a:chExt cx="381240" cy="720360"/>
          </a:xfrm>
        </p:grpSpPr>
        <p:grpSp>
          <p:nvGrpSpPr>
            <p:cNvPr id="327" name=""/>
            <p:cNvGrpSpPr/>
            <p:nvPr/>
          </p:nvGrpSpPr>
          <p:grpSpPr>
            <a:xfrm>
              <a:off x="8265960" y="1628640"/>
              <a:ext cx="381240" cy="720360"/>
              <a:chOff x="8265960" y="1628640"/>
              <a:chExt cx="381240" cy="720360"/>
            </a:xfrm>
          </p:grpSpPr>
          <p:sp>
            <p:nvSpPr>
              <p:cNvPr id="328" name=""/>
              <p:cNvSpPr/>
              <p:nvPr/>
            </p:nvSpPr>
            <p:spPr>
              <a:xfrm>
                <a:off x="8265960" y="1882440"/>
                <a:ext cx="381240" cy="466560"/>
              </a:xfrm>
              <a:custGeom>
                <a:avLst/>
                <a:gdLst/>
                <a:ahLst/>
                <a:rect l="l" t="t" r="r" b="b"/>
                <a:pathLst>
                  <a:path w="408" h="500">
                    <a:moveTo>
                      <a:pt x="45" y="68"/>
                    </a:moveTo>
                    <a:lnTo>
                      <a:pt x="0" y="431"/>
                    </a:lnTo>
                    <a:cubicBezTo>
                      <a:pt x="0" y="431"/>
                      <a:pt x="64" y="500"/>
                      <a:pt x="204" y="499"/>
                    </a:cubicBezTo>
                    <a:cubicBezTo>
                      <a:pt x="376" y="492"/>
                      <a:pt x="408" y="431"/>
                      <a:pt x="408" y="431"/>
                    </a:cubicBezTo>
                    <a:lnTo>
                      <a:pt x="363" y="68"/>
                    </a:lnTo>
                    <a:cubicBezTo>
                      <a:pt x="363" y="68"/>
                      <a:pt x="334" y="0"/>
                      <a:pt x="204" y="0"/>
                    </a:cubicBezTo>
                    <a:cubicBezTo>
                      <a:pt x="69" y="0"/>
                      <a:pt x="45" y="68"/>
                      <a:pt x="45" y="68"/>
                    </a:cubicBez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307720" y="1628640"/>
                <a:ext cx="297000" cy="2970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8265960" y="1882440"/>
              <a:ext cx="381240" cy="466560"/>
            </a:xfrm>
            <a:custGeom>
              <a:avLst/>
              <a:gdLst/>
              <a:ahLst/>
              <a:rect l="l" t="t" r="r" b="b"/>
              <a:pathLst>
                <a:path w="408" h="500">
                  <a:moveTo>
                    <a:pt x="45" y="68"/>
                  </a:moveTo>
                  <a:lnTo>
                    <a:pt x="0" y="431"/>
                  </a:lnTo>
                  <a:cubicBezTo>
                    <a:pt x="0" y="431"/>
                    <a:pt x="64" y="500"/>
                    <a:pt x="204" y="499"/>
                  </a:cubicBezTo>
                  <a:cubicBezTo>
                    <a:pt x="376" y="492"/>
                    <a:pt x="408" y="431"/>
                    <a:pt x="408" y="431"/>
                  </a:cubicBezTo>
                  <a:lnTo>
                    <a:pt x="363" y="68"/>
                  </a:lnTo>
                  <a:cubicBezTo>
                    <a:pt x="363" y="68"/>
                    <a:pt x="334" y="0"/>
                    <a:pt x="204" y="0"/>
                  </a:cubicBezTo>
                  <a:cubicBezTo>
                    <a:pt x="69" y="0"/>
                    <a:pt x="45" y="68"/>
                    <a:pt x="45" y="68"/>
                  </a:cubicBezTo>
                  <a:close/>
                </a:path>
              </a:pathLst>
            </a:cu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07720" y="1628640"/>
              <a:ext cx="297000" cy="297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8768880" y="1628640"/>
            <a:ext cx="381240" cy="720360"/>
            <a:chOff x="8768880" y="1628640"/>
            <a:chExt cx="381240" cy="720360"/>
          </a:xfrm>
        </p:grpSpPr>
        <p:grpSp>
          <p:nvGrpSpPr>
            <p:cNvPr id="333" name=""/>
            <p:cNvGrpSpPr/>
            <p:nvPr/>
          </p:nvGrpSpPr>
          <p:grpSpPr>
            <a:xfrm>
              <a:off x="8768880" y="1628640"/>
              <a:ext cx="381240" cy="720360"/>
              <a:chOff x="8768880" y="1628640"/>
              <a:chExt cx="381240" cy="720360"/>
            </a:xfrm>
          </p:grpSpPr>
          <p:sp>
            <p:nvSpPr>
              <p:cNvPr id="334" name=""/>
              <p:cNvSpPr/>
              <p:nvPr/>
            </p:nvSpPr>
            <p:spPr>
              <a:xfrm rot="10800000">
                <a:off x="8768880" y="1882440"/>
                <a:ext cx="381240" cy="466560"/>
              </a:xfrm>
              <a:custGeom>
                <a:avLst/>
                <a:gdLst/>
                <a:ahLst/>
                <a:rect l="l" t="t" r="r" b="b"/>
                <a:pathLst>
                  <a:path w="408" h="500">
                    <a:moveTo>
                      <a:pt x="45" y="68"/>
                    </a:moveTo>
                    <a:lnTo>
                      <a:pt x="0" y="431"/>
                    </a:lnTo>
                    <a:cubicBezTo>
                      <a:pt x="0" y="431"/>
                      <a:pt x="64" y="500"/>
                      <a:pt x="204" y="499"/>
                    </a:cubicBezTo>
                    <a:cubicBezTo>
                      <a:pt x="376" y="492"/>
                      <a:pt x="408" y="431"/>
                      <a:pt x="408" y="431"/>
                    </a:cubicBezTo>
                    <a:lnTo>
                      <a:pt x="363" y="68"/>
                    </a:lnTo>
                    <a:cubicBezTo>
                      <a:pt x="363" y="68"/>
                      <a:pt x="334" y="0"/>
                      <a:pt x="204" y="0"/>
                    </a:cubicBezTo>
                    <a:cubicBezTo>
                      <a:pt x="69" y="0"/>
                      <a:pt x="45" y="68"/>
                      <a:pt x="45" y="68"/>
                    </a:cubicBez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811000" y="1628640"/>
                <a:ext cx="297000" cy="2970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 rot="10800000">
              <a:off x="8768880" y="1882440"/>
              <a:ext cx="381240" cy="466560"/>
            </a:xfrm>
            <a:custGeom>
              <a:avLst/>
              <a:gdLst/>
              <a:ahLst/>
              <a:rect l="l" t="t" r="r" b="b"/>
              <a:pathLst>
                <a:path w="408" h="500">
                  <a:moveTo>
                    <a:pt x="45" y="68"/>
                  </a:moveTo>
                  <a:lnTo>
                    <a:pt x="0" y="431"/>
                  </a:lnTo>
                  <a:cubicBezTo>
                    <a:pt x="0" y="431"/>
                    <a:pt x="64" y="500"/>
                    <a:pt x="204" y="499"/>
                  </a:cubicBezTo>
                  <a:cubicBezTo>
                    <a:pt x="376" y="492"/>
                    <a:pt x="408" y="431"/>
                    <a:pt x="408" y="431"/>
                  </a:cubicBezTo>
                  <a:lnTo>
                    <a:pt x="363" y="68"/>
                  </a:lnTo>
                  <a:cubicBezTo>
                    <a:pt x="363" y="68"/>
                    <a:pt x="334" y="0"/>
                    <a:pt x="204" y="0"/>
                  </a:cubicBezTo>
                  <a:cubicBezTo>
                    <a:pt x="69" y="0"/>
                    <a:pt x="45" y="68"/>
                    <a:pt x="45" y="68"/>
                  </a:cubicBezTo>
                  <a:close/>
                </a:path>
              </a:pathLst>
            </a:custGeom>
            <a:gradFill rotWithShape="0">
              <a:gsLst>
                <a:gs pos="0">
                  <a:srgbClr val="5e752f"/>
                </a:gs>
                <a:gs pos="50000">
                  <a:srgbClr val="ccff66"/>
                </a:gs>
                <a:gs pos="100000">
                  <a:srgbClr val="5e75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811000" y="1628640"/>
              <a:ext cx="297000" cy="297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8121600" y="4941360"/>
            <a:ext cx="1117440" cy="1032480"/>
            <a:chOff x="8121600" y="4941360"/>
            <a:chExt cx="1117440" cy="1032480"/>
          </a:xfrm>
        </p:grpSpPr>
        <p:grpSp>
          <p:nvGrpSpPr>
            <p:cNvPr id="339" name=""/>
            <p:cNvGrpSpPr/>
            <p:nvPr/>
          </p:nvGrpSpPr>
          <p:grpSpPr>
            <a:xfrm>
              <a:off x="8121600" y="4941720"/>
              <a:ext cx="1117440" cy="1032120"/>
              <a:chOff x="8121600" y="4941720"/>
              <a:chExt cx="1117440" cy="1032120"/>
            </a:xfrm>
          </p:grpSpPr>
          <p:sp>
            <p:nvSpPr>
              <p:cNvPr id="340" name=""/>
              <p:cNvSpPr/>
              <p:nvPr/>
            </p:nvSpPr>
            <p:spPr>
              <a:xfrm>
                <a:off x="9010800" y="4941720"/>
                <a:ext cx="228240" cy="1032120"/>
              </a:xfrm>
              <a:custGeom>
                <a:avLst/>
                <a:gdLst/>
                <a:ahLst/>
                <a:rect l="l" t="t" r="r" b="b"/>
                <a:pathLst>
                  <a:path w="181" h="817">
                    <a:moveTo>
                      <a:pt x="181" y="817"/>
                    </a:moveTo>
                    <a:lnTo>
                      <a:pt x="0" y="817"/>
                    </a:lnTo>
                    <a:lnTo>
                      <a:pt x="0" y="91"/>
                    </a:lnTo>
                    <a:lnTo>
                      <a:pt x="22" y="0"/>
                    </a:lnTo>
                    <a:lnTo>
                      <a:pt x="158" y="0"/>
                    </a:lnTo>
                    <a:lnTo>
                      <a:pt x="181" y="91"/>
                    </a:lnTo>
                    <a:lnTo>
                      <a:pt x="181" y="817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121600" y="4999680"/>
                <a:ext cx="830880" cy="716040"/>
              </a:xfrm>
              <a:custGeom>
                <a:avLst/>
                <a:gdLst/>
                <a:ahLst/>
                <a:rect l="l" t="t" r="r" b="b"/>
                <a:pathLst>
                  <a:path w="658" h="567">
                    <a:moveTo>
                      <a:pt x="658" y="22"/>
                    </a:moveTo>
                    <a:lnTo>
                      <a:pt x="613" y="0"/>
                    </a:lnTo>
                    <a:lnTo>
                      <a:pt x="46" y="0"/>
                    </a:lnTo>
                    <a:lnTo>
                      <a:pt x="0" y="22"/>
                    </a:lnTo>
                    <a:lnTo>
                      <a:pt x="0" y="567"/>
                    </a:lnTo>
                    <a:lnTo>
                      <a:pt x="658" y="567"/>
                    </a:lnTo>
                    <a:lnTo>
                      <a:pt x="65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265600" y="5801760"/>
                <a:ext cx="544320" cy="142920"/>
              </a:xfrm>
              <a:custGeom>
                <a:avLst/>
                <a:gdLst/>
                <a:ahLst/>
                <a:rect l="l" t="t" r="r" b="b"/>
                <a:pathLst>
                  <a:path w="431" h="113">
                    <a:moveTo>
                      <a:pt x="431" y="113"/>
                    </a:moveTo>
                    <a:lnTo>
                      <a:pt x="0" y="113"/>
                    </a:lnTo>
                    <a:lnTo>
                      <a:pt x="0" y="90"/>
                    </a:lnTo>
                    <a:lnTo>
                      <a:pt x="45" y="0"/>
                    </a:lnTo>
                    <a:lnTo>
                      <a:pt x="385" y="0"/>
                    </a:lnTo>
                    <a:lnTo>
                      <a:pt x="431" y="90"/>
                    </a:lnTo>
                    <a:lnTo>
                      <a:pt x="431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437320" y="5658120"/>
                <a:ext cx="200520" cy="17280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8121600" y="4941360"/>
              <a:ext cx="1116360" cy="1032120"/>
              <a:chOff x="8121600" y="4941360"/>
              <a:chExt cx="1116360" cy="1032120"/>
            </a:xfrm>
          </p:grpSpPr>
          <p:sp>
            <p:nvSpPr>
              <p:cNvPr id="345" name=""/>
              <p:cNvSpPr/>
              <p:nvPr/>
            </p:nvSpPr>
            <p:spPr>
              <a:xfrm flipV="1">
                <a:off x="8265600" y="5799960"/>
                <a:ext cx="544320" cy="114840"/>
              </a:xfrm>
              <a:custGeom>
                <a:avLst/>
                <a:gdLst>
                  <a:gd name="textAreaLeft" fmla="*/ 74160 w 544320"/>
                  <a:gd name="textAreaRight" fmla="*/ 470160 w 544320"/>
                  <a:gd name="textAreaTop" fmla="*/ 15480 h 114840"/>
                  <a:gd name="textAreaBottom" fmla="*/ 99360 h 114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446" y="21600"/>
                    </a:lnTo>
                    <a:lnTo>
                      <a:pt x="215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437320" y="5686920"/>
                <a:ext cx="200520" cy="1717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265600" y="5915520"/>
                <a:ext cx="544320" cy="291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121600" y="5027400"/>
                <a:ext cx="830880" cy="6883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8121600" y="4998600"/>
                <a:ext cx="830880" cy="28800"/>
              </a:xfrm>
              <a:custGeom>
                <a:avLst/>
                <a:gdLst>
                  <a:gd name="textAreaLeft" fmla="*/ 91440 w 830880"/>
                  <a:gd name="textAreaRight" fmla="*/ 739440 w 830880"/>
                  <a:gd name="textAreaTop" fmla="*/ 2880 h 28800"/>
                  <a:gd name="textAreaBottom" fmla="*/ 25920 h 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57" y="21600"/>
                    </a:lnTo>
                    <a:lnTo>
                      <a:pt x="114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178480" y="5085720"/>
                <a:ext cx="716040" cy="5720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009360" y="5056560"/>
                <a:ext cx="228600" cy="9169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9009360" y="4941000"/>
                <a:ext cx="228600" cy="114840"/>
              </a:xfrm>
              <a:custGeom>
                <a:avLst/>
                <a:gdLst>
                  <a:gd name="textAreaLeft" fmla="*/ 34560 w 228600"/>
                  <a:gd name="textAreaRight" fmla="*/ 194040 w 228600"/>
                  <a:gd name="textAreaTop" fmla="*/ 17280 h 114840"/>
                  <a:gd name="textAreaBottom" fmla="*/ 97560 h 114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841" y="21600"/>
                    </a:lnTo>
                    <a:lnTo>
                      <a:pt x="275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9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"/>
          <p:cNvSpPr/>
          <p:nvPr/>
        </p:nvSpPr>
        <p:spPr>
          <a:xfrm>
            <a:off x="2510640" y="6453360"/>
            <a:ext cx="44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システム図は何かを意図して制作したものではありません。使い方のご参考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システム構成図サンプル３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5" name=""/>
          <p:cNvSpPr/>
          <p:nvPr/>
        </p:nvSpPr>
        <p:spPr>
          <a:xfrm>
            <a:off x="415800" y="836640"/>
            <a:ext cx="9074160" cy="5688000"/>
          </a:xfrm>
          <a:prstGeom prst="roundRect">
            <a:avLst>
              <a:gd name="adj" fmla="val 3264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944880" y="2997000"/>
            <a:ext cx="1440000" cy="432000"/>
            <a:chOff x="3944880" y="2997000"/>
            <a:chExt cx="1440000" cy="432000"/>
          </a:xfrm>
        </p:grpSpPr>
        <p:sp>
          <p:nvSpPr>
            <p:cNvPr id="357" name=""/>
            <p:cNvSpPr/>
            <p:nvPr/>
          </p:nvSpPr>
          <p:spPr>
            <a:xfrm>
              <a:off x="3944880" y="2997360"/>
              <a:ext cx="1440000" cy="431640"/>
            </a:xfrm>
            <a:custGeom>
              <a:avLst/>
              <a:gdLst/>
              <a:ahLst/>
              <a:rect l="l" t="t" r="r" b="b"/>
              <a:pathLst>
                <a:path w="907" h="272">
                  <a:moveTo>
                    <a:pt x="45" y="0"/>
                  </a:moveTo>
                  <a:lnTo>
                    <a:pt x="0" y="181"/>
                  </a:lnTo>
                  <a:lnTo>
                    <a:pt x="0" y="272"/>
                  </a:lnTo>
                  <a:lnTo>
                    <a:pt x="907" y="272"/>
                  </a:lnTo>
                  <a:lnTo>
                    <a:pt x="907" y="181"/>
                  </a:lnTo>
                  <a:lnTo>
                    <a:pt x="862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3944880" y="2997000"/>
              <a:ext cx="1440000" cy="432000"/>
              <a:chOff x="3944880" y="2997000"/>
              <a:chExt cx="1440000" cy="432000"/>
            </a:xfrm>
          </p:grpSpPr>
          <p:sp>
            <p:nvSpPr>
              <p:cNvPr id="359" name=""/>
              <p:cNvSpPr/>
              <p:nvPr/>
            </p:nvSpPr>
            <p:spPr>
              <a:xfrm>
                <a:off x="3944880" y="3282840"/>
                <a:ext cx="1440000" cy="1461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3944880" y="2996640"/>
                <a:ext cx="1440000" cy="285480"/>
              </a:xfrm>
              <a:custGeom>
                <a:avLst/>
                <a:gdLst>
                  <a:gd name="textAreaLeft" fmla="*/ 155160 w 1440000"/>
                  <a:gd name="textAreaRight" fmla="*/ 1284840 w 1440000"/>
                  <a:gd name="textAreaTop" fmla="*/ 30600 h 285480"/>
                  <a:gd name="textAreaBottom" fmla="*/ 254880 h 285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53" y="21600"/>
                    </a:lnTo>
                    <a:lnTo>
                      <a:pt x="104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9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017960" y="3317760"/>
                <a:ext cx="71640" cy="716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192560" y="3317760"/>
                <a:ext cx="71640" cy="716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367160" y="3317760"/>
                <a:ext cx="71640" cy="716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541760" y="3317760"/>
                <a:ext cx="71640" cy="716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16360" y="3317760"/>
                <a:ext cx="71640" cy="716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891320" y="3317760"/>
                <a:ext cx="71280" cy="716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065920" y="3317760"/>
                <a:ext cx="71280" cy="716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240520" y="3317760"/>
                <a:ext cx="71280" cy="716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"/>
          <p:cNvSpPr/>
          <p:nvPr/>
        </p:nvSpPr>
        <p:spPr>
          <a:xfrm>
            <a:off x="4408560" y="3357720"/>
            <a:ext cx="52992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負荷分散装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944880" y="2347560"/>
            <a:ext cx="1440000" cy="432000"/>
            <a:chOff x="3944880" y="2347560"/>
            <a:chExt cx="1440000" cy="432000"/>
          </a:xfrm>
        </p:grpSpPr>
        <p:sp>
          <p:nvSpPr>
            <p:cNvPr id="371" name=""/>
            <p:cNvSpPr/>
            <p:nvPr/>
          </p:nvSpPr>
          <p:spPr>
            <a:xfrm>
              <a:off x="3944880" y="2347920"/>
              <a:ext cx="1440000" cy="431640"/>
            </a:xfrm>
            <a:custGeom>
              <a:avLst/>
              <a:gdLst/>
              <a:ahLst/>
              <a:rect l="l" t="t" r="r" b="b"/>
              <a:pathLst>
                <a:path w="907" h="272">
                  <a:moveTo>
                    <a:pt x="45" y="0"/>
                  </a:moveTo>
                  <a:lnTo>
                    <a:pt x="0" y="181"/>
                  </a:lnTo>
                  <a:lnTo>
                    <a:pt x="0" y="272"/>
                  </a:lnTo>
                  <a:lnTo>
                    <a:pt x="907" y="272"/>
                  </a:lnTo>
                  <a:lnTo>
                    <a:pt x="907" y="181"/>
                  </a:lnTo>
                  <a:lnTo>
                    <a:pt x="862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3944880" y="2347560"/>
              <a:ext cx="1440000" cy="432000"/>
              <a:chOff x="3944880" y="2347560"/>
              <a:chExt cx="1440000" cy="432000"/>
            </a:xfrm>
          </p:grpSpPr>
          <p:sp>
            <p:nvSpPr>
              <p:cNvPr id="373" name=""/>
              <p:cNvSpPr/>
              <p:nvPr/>
            </p:nvSpPr>
            <p:spPr>
              <a:xfrm>
                <a:off x="3944880" y="2633400"/>
                <a:ext cx="1440000" cy="146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3944880" y="2347200"/>
                <a:ext cx="1440000" cy="285480"/>
              </a:xfrm>
              <a:custGeom>
                <a:avLst/>
                <a:gdLst>
                  <a:gd name="textAreaLeft" fmla="*/ 155160 w 1440000"/>
                  <a:gd name="textAreaRight" fmla="*/ 1284840 w 1440000"/>
                  <a:gd name="textAreaTop" fmla="*/ 30600 h 285480"/>
                  <a:gd name="textAreaBottom" fmla="*/ 254880 h 285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53" y="21600"/>
                    </a:lnTo>
                    <a:lnTo>
                      <a:pt x="104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0c4fe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967200" y="2654280"/>
                <a:ext cx="243000" cy="107640"/>
              </a:xfrm>
              <a:custGeom>
                <a:avLst/>
                <a:gdLst/>
                <a:ahLst/>
                <a:rect l="l" t="t" r="r" b="b"/>
                <a:pathLst>
                  <a:path w="153" h="68">
                    <a:moveTo>
                      <a:pt x="91" y="0"/>
                    </a:moveTo>
                    <a:lnTo>
                      <a:pt x="0" y="0"/>
                    </a:lnTo>
                    <a:lnTo>
                      <a:pt x="0" y="68"/>
                    </a:lnTo>
                    <a:lnTo>
                      <a:pt x="114" y="68"/>
                    </a:lnTo>
                    <a:lnTo>
                      <a:pt x="153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6" name=""/>
          <p:cNvSpPr/>
          <p:nvPr/>
        </p:nvSpPr>
        <p:spPr>
          <a:xfrm>
            <a:off x="4294440" y="2219400"/>
            <a:ext cx="75852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ファイヤーウォー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792520" y="4219560"/>
            <a:ext cx="1439640" cy="431640"/>
            <a:chOff x="2792520" y="4219560"/>
            <a:chExt cx="1439640" cy="431640"/>
          </a:xfrm>
        </p:grpSpPr>
        <p:sp>
          <p:nvSpPr>
            <p:cNvPr id="378" name=""/>
            <p:cNvSpPr/>
            <p:nvPr/>
          </p:nvSpPr>
          <p:spPr>
            <a:xfrm>
              <a:off x="2792520" y="4219560"/>
              <a:ext cx="1439640" cy="431640"/>
            </a:xfrm>
            <a:custGeom>
              <a:avLst/>
              <a:gdLst/>
              <a:ahLst/>
              <a:rect l="l" t="t" r="r" b="b"/>
              <a:pathLst>
                <a:path w="907" h="272">
                  <a:moveTo>
                    <a:pt x="45" y="0"/>
                  </a:moveTo>
                  <a:lnTo>
                    <a:pt x="0" y="181"/>
                  </a:lnTo>
                  <a:lnTo>
                    <a:pt x="0" y="272"/>
                  </a:lnTo>
                  <a:lnTo>
                    <a:pt x="907" y="272"/>
                  </a:lnTo>
                  <a:lnTo>
                    <a:pt x="907" y="181"/>
                  </a:lnTo>
                  <a:lnTo>
                    <a:pt x="862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792520" y="4505400"/>
              <a:ext cx="1439640" cy="1458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2792520" y="4219560"/>
              <a:ext cx="1439640" cy="285840"/>
            </a:xfrm>
            <a:custGeom>
              <a:avLst/>
              <a:gdLst>
                <a:gd name="textAreaLeft" fmla="*/ 155160 w 1439640"/>
                <a:gd name="textAreaRight" fmla="*/ 1284480 w 1439640"/>
                <a:gd name="textAreaTop" fmla="*/ 30600 h 285840"/>
                <a:gd name="textAreaBottom" fmla="*/ 25524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53" y="21600"/>
                  </a:lnTo>
                  <a:lnTo>
                    <a:pt x="104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d9d9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89240" y="4111560"/>
            <a:ext cx="60624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Ｗｅｂサーバ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20880" y="4221000"/>
            <a:ext cx="1439640" cy="431640"/>
            <a:chOff x="920880" y="4221000"/>
            <a:chExt cx="1439640" cy="431640"/>
          </a:xfrm>
        </p:grpSpPr>
        <p:sp>
          <p:nvSpPr>
            <p:cNvPr id="383" name=""/>
            <p:cNvSpPr/>
            <p:nvPr/>
          </p:nvSpPr>
          <p:spPr>
            <a:xfrm>
              <a:off x="920880" y="4221000"/>
              <a:ext cx="1439640" cy="431640"/>
            </a:xfrm>
            <a:custGeom>
              <a:avLst/>
              <a:gdLst/>
              <a:ahLst/>
              <a:rect l="l" t="t" r="r" b="b"/>
              <a:pathLst>
                <a:path w="907" h="272">
                  <a:moveTo>
                    <a:pt x="45" y="0"/>
                  </a:moveTo>
                  <a:lnTo>
                    <a:pt x="0" y="181"/>
                  </a:lnTo>
                  <a:lnTo>
                    <a:pt x="0" y="272"/>
                  </a:lnTo>
                  <a:lnTo>
                    <a:pt x="907" y="272"/>
                  </a:lnTo>
                  <a:lnTo>
                    <a:pt x="907" y="181"/>
                  </a:lnTo>
                  <a:lnTo>
                    <a:pt x="862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20880" y="4506840"/>
              <a:ext cx="1439640" cy="1458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920880" y="4221000"/>
              <a:ext cx="1439640" cy="285840"/>
            </a:xfrm>
            <a:custGeom>
              <a:avLst/>
              <a:gdLst>
                <a:gd name="textAreaLeft" fmla="*/ 155160 w 1439640"/>
                <a:gd name="textAreaRight" fmla="*/ 1284480 w 1439640"/>
                <a:gd name="textAreaTop" fmla="*/ 30600 h 285840"/>
                <a:gd name="textAreaBottom" fmla="*/ 25524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53" y="21600"/>
                  </a:lnTo>
                  <a:lnTo>
                    <a:pt x="104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d9d9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317600" y="4113360"/>
            <a:ext cx="60624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Ｗｅｂサーバ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665600" y="4221000"/>
            <a:ext cx="1440000" cy="431640"/>
            <a:chOff x="4665600" y="4221000"/>
            <a:chExt cx="1440000" cy="431640"/>
          </a:xfrm>
        </p:grpSpPr>
        <p:sp>
          <p:nvSpPr>
            <p:cNvPr id="388" name=""/>
            <p:cNvSpPr/>
            <p:nvPr/>
          </p:nvSpPr>
          <p:spPr>
            <a:xfrm>
              <a:off x="4665600" y="4221000"/>
              <a:ext cx="1440000" cy="431640"/>
            </a:xfrm>
            <a:custGeom>
              <a:avLst/>
              <a:gdLst/>
              <a:ahLst/>
              <a:rect l="l" t="t" r="r" b="b"/>
              <a:pathLst>
                <a:path w="907" h="272">
                  <a:moveTo>
                    <a:pt x="45" y="0"/>
                  </a:moveTo>
                  <a:lnTo>
                    <a:pt x="0" y="181"/>
                  </a:lnTo>
                  <a:lnTo>
                    <a:pt x="0" y="272"/>
                  </a:lnTo>
                  <a:lnTo>
                    <a:pt x="907" y="272"/>
                  </a:lnTo>
                  <a:lnTo>
                    <a:pt x="907" y="181"/>
                  </a:lnTo>
                  <a:lnTo>
                    <a:pt x="862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65600" y="4506840"/>
              <a:ext cx="1440000" cy="1458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665600" y="4221000"/>
              <a:ext cx="1440000" cy="285840"/>
            </a:xfrm>
            <a:custGeom>
              <a:avLst/>
              <a:gdLst>
                <a:gd name="textAreaLeft" fmla="*/ 155160 w 1440000"/>
                <a:gd name="textAreaRight" fmla="*/ 1284840 w 1440000"/>
                <a:gd name="textAreaTop" fmla="*/ 30600 h 285840"/>
                <a:gd name="textAreaBottom" fmla="*/ 25524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53" y="21600"/>
                  </a:lnTo>
                  <a:lnTo>
                    <a:pt x="104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d9d9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5062680" y="4113360"/>
            <a:ext cx="60624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Ｗｅｂサーバ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37240" y="4221000"/>
            <a:ext cx="1440000" cy="431640"/>
            <a:chOff x="6537240" y="4221000"/>
            <a:chExt cx="1440000" cy="431640"/>
          </a:xfrm>
        </p:grpSpPr>
        <p:sp>
          <p:nvSpPr>
            <p:cNvPr id="393" name=""/>
            <p:cNvSpPr/>
            <p:nvPr/>
          </p:nvSpPr>
          <p:spPr>
            <a:xfrm>
              <a:off x="6537240" y="4221000"/>
              <a:ext cx="1440000" cy="431640"/>
            </a:xfrm>
            <a:custGeom>
              <a:avLst/>
              <a:gdLst/>
              <a:ahLst/>
              <a:rect l="l" t="t" r="r" b="b"/>
              <a:pathLst>
                <a:path w="907" h="272">
                  <a:moveTo>
                    <a:pt x="45" y="0"/>
                  </a:moveTo>
                  <a:lnTo>
                    <a:pt x="0" y="181"/>
                  </a:lnTo>
                  <a:lnTo>
                    <a:pt x="0" y="272"/>
                  </a:lnTo>
                  <a:lnTo>
                    <a:pt x="907" y="272"/>
                  </a:lnTo>
                  <a:lnTo>
                    <a:pt x="907" y="181"/>
                  </a:lnTo>
                  <a:lnTo>
                    <a:pt x="862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37240" y="4506840"/>
              <a:ext cx="1440000" cy="1458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537240" y="4221000"/>
              <a:ext cx="1440000" cy="285840"/>
            </a:xfrm>
            <a:custGeom>
              <a:avLst/>
              <a:gdLst>
                <a:gd name="textAreaLeft" fmla="*/ 155160 w 1440000"/>
                <a:gd name="textAreaRight" fmla="*/ 1284840 w 1440000"/>
                <a:gd name="textAreaTop" fmla="*/ 30600 h 285840"/>
                <a:gd name="textAreaBottom" fmla="*/ 25524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53" y="21600"/>
                  </a:lnTo>
                  <a:lnTo>
                    <a:pt x="104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d9d9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6972480" y="4113360"/>
            <a:ext cx="52992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配信サーバ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920880" y="5371920"/>
            <a:ext cx="1439640" cy="432000"/>
            <a:chOff x="920880" y="5371920"/>
            <a:chExt cx="1439640" cy="432000"/>
          </a:xfrm>
        </p:grpSpPr>
        <p:sp>
          <p:nvSpPr>
            <p:cNvPr id="398" name=""/>
            <p:cNvSpPr/>
            <p:nvPr/>
          </p:nvSpPr>
          <p:spPr>
            <a:xfrm>
              <a:off x="920880" y="5372280"/>
              <a:ext cx="1439640" cy="431640"/>
            </a:xfrm>
            <a:custGeom>
              <a:avLst/>
              <a:gdLst/>
              <a:ahLst/>
              <a:rect l="l" t="t" r="r" b="b"/>
              <a:pathLst>
                <a:path w="907" h="272">
                  <a:moveTo>
                    <a:pt x="45" y="0"/>
                  </a:moveTo>
                  <a:lnTo>
                    <a:pt x="0" y="181"/>
                  </a:lnTo>
                  <a:lnTo>
                    <a:pt x="0" y="272"/>
                  </a:lnTo>
                  <a:lnTo>
                    <a:pt x="907" y="272"/>
                  </a:lnTo>
                  <a:lnTo>
                    <a:pt x="907" y="181"/>
                  </a:lnTo>
                  <a:lnTo>
                    <a:pt x="862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920880" y="5371920"/>
              <a:ext cx="1439640" cy="432000"/>
              <a:chOff x="920880" y="5371920"/>
              <a:chExt cx="1439640" cy="432000"/>
            </a:xfrm>
          </p:grpSpPr>
          <p:sp>
            <p:nvSpPr>
              <p:cNvPr id="400" name=""/>
              <p:cNvSpPr/>
              <p:nvPr/>
            </p:nvSpPr>
            <p:spPr>
              <a:xfrm>
                <a:off x="920880" y="5657760"/>
                <a:ext cx="1439640" cy="1461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920880" y="5371560"/>
                <a:ext cx="1439640" cy="285480"/>
              </a:xfrm>
              <a:custGeom>
                <a:avLst/>
                <a:gdLst>
                  <a:gd name="textAreaLeft" fmla="*/ 155160 w 1439640"/>
                  <a:gd name="textAreaRight" fmla="*/ 1284480 w 1439640"/>
                  <a:gd name="textAreaTop" fmla="*/ 30600 h 285480"/>
                  <a:gd name="textAreaBottom" fmla="*/ 254880 h 285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53" y="21600"/>
                    </a:lnTo>
                    <a:lnTo>
                      <a:pt x="104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"/>
          <p:cNvSpPr/>
          <p:nvPr/>
        </p:nvSpPr>
        <p:spPr>
          <a:xfrm>
            <a:off x="1360440" y="5173560"/>
            <a:ext cx="52992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ＤＢサーバ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920880" y="5697360"/>
            <a:ext cx="647640" cy="468360"/>
            <a:chOff x="920880" y="5697360"/>
            <a:chExt cx="647640" cy="468360"/>
          </a:xfrm>
        </p:grpSpPr>
        <p:sp>
          <p:nvSpPr>
            <p:cNvPr id="404" name=""/>
            <p:cNvSpPr/>
            <p:nvPr/>
          </p:nvSpPr>
          <p:spPr>
            <a:xfrm>
              <a:off x="920880" y="5697360"/>
              <a:ext cx="647640" cy="468360"/>
            </a:xfrm>
            <a:prstGeom prst="can">
              <a:avLst>
                <a:gd name="adj" fmla="val 50000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20880" y="5697360"/>
              <a:ext cx="647640" cy="4683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d5e9fe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712880" y="5697360"/>
            <a:ext cx="647640" cy="468360"/>
            <a:chOff x="1712880" y="5697360"/>
            <a:chExt cx="647640" cy="468360"/>
          </a:xfrm>
        </p:grpSpPr>
        <p:sp>
          <p:nvSpPr>
            <p:cNvPr id="407" name=""/>
            <p:cNvSpPr/>
            <p:nvPr/>
          </p:nvSpPr>
          <p:spPr>
            <a:xfrm>
              <a:off x="1712880" y="5697360"/>
              <a:ext cx="647640" cy="468360"/>
            </a:xfrm>
            <a:prstGeom prst="can">
              <a:avLst>
                <a:gd name="adj" fmla="val 50000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12880" y="5697360"/>
              <a:ext cx="647640" cy="4683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7c80"/>
                </a:gs>
                <a:gs pos="50000">
                  <a:srgbClr val="fec9cb"/>
                </a:gs>
                <a:gs pos="100000">
                  <a:srgbClr val="ff7c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912960" y="5518080"/>
            <a:ext cx="68220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ﾃﾞｰﾀﾍﾞｰ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703520" y="5516640"/>
            <a:ext cx="68220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ﾃﾞｰﾀﾍﾞｰ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933360" y="894240"/>
            <a:ext cx="1463040" cy="1323720"/>
            <a:chOff x="3933360" y="894240"/>
            <a:chExt cx="1463040" cy="1323720"/>
          </a:xfrm>
        </p:grpSpPr>
        <p:sp>
          <p:nvSpPr>
            <p:cNvPr id="412" name=""/>
            <p:cNvSpPr/>
            <p:nvPr/>
          </p:nvSpPr>
          <p:spPr>
            <a:xfrm>
              <a:off x="4160880" y="1052640"/>
              <a:ext cx="1008000" cy="1008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376880" y="126864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800000">
              <a:off x="3944880" y="1339560"/>
              <a:ext cx="1440000" cy="432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8900000">
              <a:off x="3944880" y="1339920"/>
              <a:ext cx="1440000" cy="432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4370400" y="1052640"/>
            <a:ext cx="606240" cy="188640"/>
          </a:xfrm>
          <a:prstGeom prst="rect">
            <a:avLst/>
          </a:prstGeom>
          <a:solidFill>
            <a:srgbClr val="993366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インターネッ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151080" y="5445000"/>
            <a:ext cx="720720" cy="324000"/>
            <a:chOff x="3151080" y="5445000"/>
            <a:chExt cx="720720" cy="324000"/>
          </a:xfrm>
        </p:grpSpPr>
        <p:sp>
          <p:nvSpPr>
            <p:cNvPr id="418" name=""/>
            <p:cNvSpPr/>
            <p:nvPr/>
          </p:nvSpPr>
          <p:spPr>
            <a:xfrm>
              <a:off x="3151080" y="5445000"/>
              <a:ext cx="720720" cy="324000"/>
            </a:xfrm>
            <a:custGeom>
              <a:avLst/>
              <a:gdLst/>
              <a:ahLst/>
              <a:rect l="l" t="t" r="r" b="b"/>
              <a:pathLst>
                <a:path w="454" h="204">
                  <a:moveTo>
                    <a:pt x="23" y="0"/>
                  </a:moveTo>
                  <a:lnTo>
                    <a:pt x="431" y="0"/>
                  </a:lnTo>
                  <a:lnTo>
                    <a:pt x="454" y="113"/>
                  </a:lnTo>
                  <a:lnTo>
                    <a:pt x="454" y="204"/>
                  </a:lnTo>
                  <a:lnTo>
                    <a:pt x="0" y="204"/>
                  </a:lnTo>
                  <a:lnTo>
                    <a:pt x="0" y="11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3151080" y="5445000"/>
              <a:ext cx="720720" cy="322560"/>
              <a:chOff x="3151080" y="5445000"/>
              <a:chExt cx="720720" cy="322560"/>
            </a:xfrm>
          </p:grpSpPr>
          <p:sp>
            <p:nvSpPr>
              <p:cNvPr id="420" name=""/>
              <p:cNvSpPr/>
              <p:nvPr/>
            </p:nvSpPr>
            <p:spPr>
              <a:xfrm>
                <a:off x="3151080" y="5621400"/>
                <a:ext cx="720720" cy="1461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3151080" y="5445000"/>
                <a:ext cx="720720" cy="176400"/>
              </a:xfrm>
              <a:custGeom>
                <a:avLst/>
                <a:gdLst>
                  <a:gd name="textAreaLeft" fmla="*/ 77760 w 720720"/>
                  <a:gd name="textAreaRight" fmla="*/ 642960 w 720720"/>
                  <a:gd name="textAreaTop" fmla="*/ 19080 h 176400"/>
                  <a:gd name="textAreaBottom" fmla="*/ 157320 h 176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53" y="21600"/>
                    </a:lnTo>
                    <a:lnTo>
                      <a:pt x="104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9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224160" y="5656320"/>
                <a:ext cx="574560" cy="730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3" name=""/>
          <p:cNvSpPr/>
          <p:nvPr/>
        </p:nvSpPr>
        <p:spPr>
          <a:xfrm>
            <a:off x="2959560" y="5300640"/>
            <a:ext cx="113940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ﾊﾞｯｸｱｯﾌﾟﾚｺｰﾀﾞ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6545160" y="2060640"/>
            <a:ext cx="1008000" cy="1008000"/>
            <a:chOff x="6545160" y="2060640"/>
            <a:chExt cx="1008000" cy="1008000"/>
          </a:xfrm>
        </p:grpSpPr>
        <p:sp>
          <p:nvSpPr>
            <p:cNvPr id="425" name=""/>
            <p:cNvSpPr/>
            <p:nvPr/>
          </p:nvSpPr>
          <p:spPr>
            <a:xfrm>
              <a:off x="6545160" y="2060640"/>
              <a:ext cx="1008000" cy="1008000"/>
            </a:xfrm>
            <a:prstGeom prst="ellipse">
              <a:avLst/>
            </a:prstGeom>
            <a:noFill/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60800" y="227664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6721560" y="2997360"/>
            <a:ext cx="606240" cy="188640"/>
          </a:xfrm>
          <a:prstGeom prst="rect">
            <a:avLst/>
          </a:prstGeom>
          <a:solidFill>
            <a:srgbClr val="993366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イントラネッ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697880" y="1915920"/>
            <a:ext cx="1404360" cy="1297080"/>
            <a:chOff x="7697880" y="1915920"/>
            <a:chExt cx="1404360" cy="1297080"/>
          </a:xfrm>
        </p:grpSpPr>
        <p:grpSp>
          <p:nvGrpSpPr>
            <p:cNvPr id="429" name=""/>
            <p:cNvGrpSpPr/>
            <p:nvPr/>
          </p:nvGrpSpPr>
          <p:grpSpPr>
            <a:xfrm>
              <a:off x="7697880" y="1916280"/>
              <a:ext cx="1404360" cy="1296720"/>
              <a:chOff x="7697880" y="1916280"/>
              <a:chExt cx="1404360" cy="1296720"/>
            </a:xfrm>
          </p:grpSpPr>
          <p:sp>
            <p:nvSpPr>
              <p:cNvPr id="430" name=""/>
              <p:cNvSpPr/>
              <p:nvPr/>
            </p:nvSpPr>
            <p:spPr>
              <a:xfrm>
                <a:off x="8815320" y="1916280"/>
                <a:ext cx="286920" cy="1296720"/>
              </a:xfrm>
              <a:custGeom>
                <a:avLst/>
                <a:gdLst/>
                <a:ahLst/>
                <a:rect l="l" t="t" r="r" b="b"/>
                <a:pathLst>
                  <a:path w="181" h="817">
                    <a:moveTo>
                      <a:pt x="181" y="817"/>
                    </a:moveTo>
                    <a:lnTo>
                      <a:pt x="0" y="817"/>
                    </a:lnTo>
                    <a:lnTo>
                      <a:pt x="0" y="91"/>
                    </a:lnTo>
                    <a:lnTo>
                      <a:pt x="22" y="0"/>
                    </a:lnTo>
                    <a:lnTo>
                      <a:pt x="158" y="0"/>
                    </a:lnTo>
                    <a:lnTo>
                      <a:pt x="181" y="91"/>
                    </a:lnTo>
                    <a:lnTo>
                      <a:pt x="181" y="817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697880" y="1989000"/>
                <a:ext cx="1044360" cy="899640"/>
              </a:xfrm>
              <a:custGeom>
                <a:avLst/>
                <a:gdLst/>
                <a:ahLst/>
                <a:rect l="l" t="t" r="r" b="b"/>
                <a:pathLst>
                  <a:path w="658" h="567">
                    <a:moveTo>
                      <a:pt x="658" y="22"/>
                    </a:moveTo>
                    <a:lnTo>
                      <a:pt x="613" y="0"/>
                    </a:lnTo>
                    <a:lnTo>
                      <a:pt x="46" y="0"/>
                    </a:lnTo>
                    <a:lnTo>
                      <a:pt x="0" y="22"/>
                    </a:lnTo>
                    <a:lnTo>
                      <a:pt x="0" y="567"/>
                    </a:lnTo>
                    <a:lnTo>
                      <a:pt x="658" y="567"/>
                    </a:lnTo>
                    <a:lnTo>
                      <a:pt x="65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878600" y="2997000"/>
                <a:ext cx="684000" cy="179280"/>
              </a:xfrm>
              <a:custGeom>
                <a:avLst/>
                <a:gdLst/>
                <a:ahLst/>
                <a:rect l="l" t="t" r="r" b="b"/>
                <a:pathLst>
                  <a:path w="431" h="113">
                    <a:moveTo>
                      <a:pt x="431" y="113"/>
                    </a:moveTo>
                    <a:lnTo>
                      <a:pt x="0" y="113"/>
                    </a:lnTo>
                    <a:lnTo>
                      <a:pt x="0" y="90"/>
                    </a:lnTo>
                    <a:lnTo>
                      <a:pt x="45" y="0"/>
                    </a:lnTo>
                    <a:lnTo>
                      <a:pt x="385" y="0"/>
                    </a:lnTo>
                    <a:lnTo>
                      <a:pt x="431" y="90"/>
                    </a:lnTo>
                    <a:lnTo>
                      <a:pt x="431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094600" y="2816280"/>
                <a:ext cx="252000" cy="21708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7697880" y="1915920"/>
              <a:ext cx="1402920" cy="1296720"/>
              <a:chOff x="7697880" y="1915920"/>
              <a:chExt cx="1402920" cy="1296720"/>
            </a:xfrm>
          </p:grpSpPr>
          <p:sp>
            <p:nvSpPr>
              <p:cNvPr id="435" name=""/>
              <p:cNvSpPr/>
              <p:nvPr/>
            </p:nvSpPr>
            <p:spPr>
              <a:xfrm flipV="1">
                <a:off x="7878600" y="2995560"/>
                <a:ext cx="684000" cy="144000"/>
              </a:xfrm>
              <a:custGeom>
                <a:avLst/>
                <a:gdLst>
                  <a:gd name="textAreaLeft" fmla="*/ 93240 w 684000"/>
                  <a:gd name="textAreaRight" fmla="*/ 590760 w 684000"/>
                  <a:gd name="textAreaTop" fmla="*/ 19440 h 144000"/>
                  <a:gd name="textAreaBottom" fmla="*/ 124560 h 14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446" y="21600"/>
                    </a:lnTo>
                    <a:lnTo>
                      <a:pt x="215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094600" y="2852640"/>
                <a:ext cx="252000" cy="2156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878600" y="3139920"/>
                <a:ext cx="684000" cy="363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97880" y="2023920"/>
                <a:ext cx="1044360" cy="8647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7697880" y="1987560"/>
                <a:ext cx="1044360" cy="36000"/>
              </a:xfrm>
              <a:custGeom>
                <a:avLst/>
                <a:gdLst>
                  <a:gd name="textAreaLeft" fmla="*/ 115200 w 1044360"/>
                  <a:gd name="textAreaRight" fmla="*/ 929160 w 1044360"/>
                  <a:gd name="textAreaTop" fmla="*/ 3960 h 36000"/>
                  <a:gd name="textAreaBottom" fmla="*/ 32040 h 3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57" y="21600"/>
                    </a:lnTo>
                    <a:lnTo>
                      <a:pt x="114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769160" y="2097000"/>
                <a:ext cx="899640" cy="71892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813520" y="2060640"/>
                <a:ext cx="287280" cy="11520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8813520" y="1915560"/>
                <a:ext cx="287280" cy="144360"/>
              </a:xfrm>
              <a:custGeom>
                <a:avLst/>
                <a:gdLst>
                  <a:gd name="textAreaLeft" fmla="*/ 43560 w 287280"/>
                  <a:gd name="textAreaRight" fmla="*/ 243720 w 287280"/>
                  <a:gd name="textAreaTop" fmla="*/ 21960 h 144360"/>
                  <a:gd name="textAreaBottom" fmla="*/ 122400 h 14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841" y="21600"/>
                    </a:lnTo>
                    <a:lnTo>
                      <a:pt x="275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9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"/>
          <p:cNvSpPr/>
          <p:nvPr/>
        </p:nvSpPr>
        <p:spPr>
          <a:xfrm>
            <a:off x="8150400" y="3068640"/>
            <a:ext cx="22500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Ｐ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8481960" y="3141720"/>
            <a:ext cx="380880" cy="720360"/>
            <a:chOff x="8481960" y="3141720"/>
            <a:chExt cx="380880" cy="720360"/>
          </a:xfrm>
        </p:grpSpPr>
        <p:grpSp>
          <p:nvGrpSpPr>
            <p:cNvPr id="445" name=""/>
            <p:cNvGrpSpPr/>
            <p:nvPr/>
          </p:nvGrpSpPr>
          <p:grpSpPr>
            <a:xfrm>
              <a:off x="8481960" y="3141720"/>
              <a:ext cx="380880" cy="720360"/>
              <a:chOff x="8481960" y="3141720"/>
              <a:chExt cx="380880" cy="720360"/>
            </a:xfrm>
          </p:grpSpPr>
          <p:sp>
            <p:nvSpPr>
              <p:cNvPr id="446" name=""/>
              <p:cNvSpPr/>
              <p:nvPr/>
            </p:nvSpPr>
            <p:spPr>
              <a:xfrm rot="10800000">
                <a:off x="8481960" y="3395520"/>
                <a:ext cx="380880" cy="466560"/>
              </a:xfrm>
              <a:custGeom>
                <a:avLst/>
                <a:gdLst/>
                <a:ahLst/>
                <a:rect l="l" t="t" r="r" b="b"/>
                <a:pathLst>
                  <a:path w="408" h="500">
                    <a:moveTo>
                      <a:pt x="45" y="68"/>
                    </a:moveTo>
                    <a:lnTo>
                      <a:pt x="0" y="431"/>
                    </a:lnTo>
                    <a:cubicBezTo>
                      <a:pt x="0" y="431"/>
                      <a:pt x="64" y="500"/>
                      <a:pt x="204" y="499"/>
                    </a:cubicBezTo>
                    <a:cubicBezTo>
                      <a:pt x="376" y="492"/>
                      <a:pt x="408" y="431"/>
                      <a:pt x="408" y="431"/>
                    </a:cubicBezTo>
                    <a:lnTo>
                      <a:pt x="363" y="68"/>
                    </a:lnTo>
                    <a:cubicBezTo>
                      <a:pt x="363" y="68"/>
                      <a:pt x="334" y="0"/>
                      <a:pt x="204" y="0"/>
                    </a:cubicBezTo>
                    <a:cubicBezTo>
                      <a:pt x="69" y="0"/>
                      <a:pt x="45" y="68"/>
                      <a:pt x="45" y="68"/>
                    </a:cubicBez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523720" y="3141720"/>
                <a:ext cx="296640" cy="2970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 rot="10800000">
              <a:off x="8481960" y="3395520"/>
              <a:ext cx="380880" cy="466560"/>
            </a:xfrm>
            <a:custGeom>
              <a:avLst/>
              <a:gdLst/>
              <a:ahLst/>
              <a:rect l="l" t="t" r="r" b="b"/>
              <a:pathLst>
                <a:path w="408" h="500">
                  <a:moveTo>
                    <a:pt x="45" y="68"/>
                  </a:moveTo>
                  <a:lnTo>
                    <a:pt x="0" y="431"/>
                  </a:lnTo>
                  <a:cubicBezTo>
                    <a:pt x="0" y="431"/>
                    <a:pt x="64" y="500"/>
                    <a:pt x="204" y="499"/>
                  </a:cubicBezTo>
                  <a:cubicBezTo>
                    <a:pt x="376" y="492"/>
                    <a:pt x="408" y="431"/>
                    <a:pt x="408" y="431"/>
                  </a:cubicBezTo>
                  <a:lnTo>
                    <a:pt x="363" y="68"/>
                  </a:lnTo>
                  <a:cubicBezTo>
                    <a:pt x="363" y="68"/>
                    <a:pt x="334" y="0"/>
                    <a:pt x="204" y="0"/>
                  </a:cubicBezTo>
                  <a:cubicBezTo>
                    <a:pt x="69" y="0"/>
                    <a:pt x="45" y="68"/>
                    <a:pt x="45" y="68"/>
                  </a:cubicBezTo>
                  <a:close/>
                </a:path>
              </a:pathLst>
            </a:cu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523720" y="3141720"/>
              <a:ext cx="296640" cy="297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8513640" y="3824280"/>
            <a:ext cx="301320" cy="188640"/>
          </a:xfrm>
          <a:prstGeom prst="rect">
            <a:avLst/>
          </a:prstGeom>
          <a:solidFill>
            <a:srgbClr val="008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管理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386" idx="0"/>
            <a:endCxn id="369" idx="2"/>
          </p:cNvCxnSpPr>
          <p:nvPr/>
        </p:nvCxnSpPr>
        <p:spPr>
          <a:xfrm flipH="1" flipV="1" rot="5400000">
            <a:off x="2868840" y="2308680"/>
            <a:ext cx="556560" cy="3053520"/>
          </a:xfrm>
          <a:prstGeom prst="bentConnector3">
            <a:avLst>
              <a:gd name="adj1" fmla="val 49967"/>
            </a:avLst>
          </a:prstGeom>
          <a:ln w="31680">
            <a:solidFill>
              <a:srgbClr val="808080"/>
            </a:solidFill>
            <a:miter/>
          </a:ln>
        </p:spPr>
      </p:cxnSp>
      <p:cxnSp>
        <p:nvCxnSpPr>
          <p:cNvPr id="452" name=""/>
          <p:cNvCxnSpPr>
            <a:stCxn id="381" idx="0"/>
            <a:endCxn id="369" idx="2"/>
          </p:cNvCxnSpPr>
          <p:nvPr/>
        </p:nvCxnSpPr>
        <p:spPr>
          <a:xfrm flipH="1" flipV="1" rot="5400000">
            <a:off x="3805560" y="3243240"/>
            <a:ext cx="554760" cy="1181880"/>
          </a:xfrm>
          <a:prstGeom prst="bentConnector3">
            <a:avLst>
              <a:gd name="adj1" fmla="val 49805"/>
            </a:avLst>
          </a:prstGeom>
          <a:ln w="31680">
            <a:solidFill>
              <a:srgbClr val="808080"/>
            </a:solidFill>
            <a:miter/>
          </a:ln>
        </p:spPr>
      </p:cxnSp>
      <p:cxnSp>
        <p:nvCxnSpPr>
          <p:cNvPr id="453" name=""/>
          <p:cNvCxnSpPr>
            <a:stCxn id="391" idx="0"/>
            <a:endCxn id="369" idx="2"/>
          </p:cNvCxnSpPr>
          <p:nvPr/>
        </p:nvCxnSpPr>
        <p:spPr>
          <a:xfrm flipV="1" rot="16200000">
            <a:off x="4741200" y="3488760"/>
            <a:ext cx="556560" cy="693000"/>
          </a:xfrm>
          <a:prstGeom prst="bentConnector3">
            <a:avLst>
              <a:gd name="adj1" fmla="val 49967"/>
            </a:avLst>
          </a:prstGeom>
          <a:ln w="31680">
            <a:solidFill>
              <a:srgbClr val="808080"/>
            </a:solidFill>
            <a:miter/>
          </a:ln>
        </p:spPr>
      </p:cxnSp>
      <p:cxnSp>
        <p:nvCxnSpPr>
          <p:cNvPr id="454" name=""/>
          <p:cNvCxnSpPr>
            <a:stCxn id="396" idx="0"/>
            <a:endCxn id="369" idx="2"/>
          </p:cNvCxnSpPr>
          <p:nvPr/>
        </p:nvCxnSpPr>
        <p:spPr>
          <a:xfrm flipV="1" rot="16200000">
            <a:off x="5677200" y="2552760"/>
            <a:ext cx="556560" cy="2564640"/>
          </a:xfrm>
          <a:prstGeom prst="bentConnector3">
            <a:avLst>
              <a:gd name="adj1" fmla="val 49967"/>
            </a:avLst>
          </a:prstGeom>
          <a:ln w="31680">
            <a:solidFill>
              <a:srgbClr val="808080"/>
            </a:solidFill>
            <a:miter/>
          </a:ln>
        </p:spPr>
      </p:cxnSp>
      <p:cxnSp>
        <p:nvCxnSpPr>
          <p:cNvPr id="455" name=""/>
          <p:cNvCxnSpPr>
            <a:stCxn id="376" idx="3"/>
            <a:endCxn id="427" idx="1"/>
          </p:cNvCxnSpPr>
          <p:nvPr/>
        </p:nvCxnSpPr>
        <p:spPr>
          <a:xfrm>
            <a:off x="5288040" y="2319480"/>
            <a:ext cx="1249920" cy="778320"/>
          </a:xfrm>
          <a:prstGeom prst="bentConnector3">
            <a:avLst>
              <a:gd name="adj1" fmla="val 49927"/>
            </a:avLst>
          </a:prstGeom>
          <a:ln w="31680">
            <a:solidFill>
              <a:srgbClr val="808080"/>
            </a:solidFill>
            <a:miter/>
          </a:ln>
        </p:spPr>
      </p:cxnSp>
      <p:cxnSp>
        <p:nvCxnSpPr>
          <p:cNvPr id="456" name=""/>
          <p:cNvCxnSpPr>
            <a:stCxn id="427" idx="3"/>
            <a:endCxn id="443" idx="1"/>
          </p:cNvCxnSpPr>
          <p:nvPr/>
        </p:nvCxnSpPr>
        <p:spPr>
          <a:xfrm>
            <a:off x="7512120" y="3096720"/>
            <a:ext cx="581400" cy="72360"/>
          </a:xfrm>
          <a:prstGeom prst="bentConnector3">
            <a:avLst>
              <a:gd name="adj1" fmla="val 50000"/>
            </a:avLst>
          </a:prstGeom>
          <a:ln w="31680">
            <a:solidFill>
              <a:srgbClr val="808080"/>
            </a:solidFill>
            <a:miter/>
          </a:ln>
        </p:spPr>
      </p:cxnSp>
      <p:cxnSp>
        <p:nvCxnSpPr>
          <p:cNvPr id="457" name=""/>
          <p:cNvCxnSpPr>
            <a:stCxn id="369" idx="0"/>
            <a:endCxn id="376" idx="2"/>
          </p:cNvCxnSpPr>
          <p:nvPr/>
        </p:nvCxnSpPr>
        <p:spPr>
          <a:xfrm flipV="1">
            <a:off x="4673160" y="2418480"/>
            <a:ext cx="1080" cy="939240"/>
          </a:xfrm>
          <a:prstGeom prst="bentConnector2">
            <a:avLst/>
          </a:prstGeom>
          <a:ln w="31680">
            <a:solidFill>
              <a:srgbClr val="808080"/>
            </a:solidFill>
            <a:miter/>
          </a:ln>
        </p:spPr>
      </p:cxnSp>
      <p:cxnSp>
        <p:nvCxnSpPr>
          <p:cNvPr id="458" name=""/>
          <p:cNvCxnSpPr>
            <a:stCxn id="376" idx="0"/>
            <a:endCxn id="416" idx="2"/>
          </p:cNvCxnSpPr>
          <p:nvPr/>
        </p:nvCxnSpPr>
        <p:spPr>
          <a:xfrm flipV="1">
            <a:off x="4673160" y="1252080"/>
            <a:ext cx="1080" cy="967680"/>
          </a:xfrm>
          <a:prstGeom prst="bentConnector2">
            <a:avLst/>
          </a:prstGeom>
          <a:ln w="31680">
            <a:solidFill>
              <a:srgbClr val="808080"/>
            </a:solidFill>
            <a:miter/>
          </a:ln>
        </p:spPr>
      </p:cxnSp>
      <p:cxnSp>
        <p:nvCxnSpPr>
          <p:cNvPr id="459" name=""/>
          <p:cNvCxnSpPr>
            <a:stCxn id="386" idx="2"/>
            <a:endCxn id="402" idx="0"/>
          </p:cNvCxnSpPr>
          <p:nvPr/>
        </p:nvCxnSpPr>
        <p:spPr>
          <a:xfrm flipH="1" rot="16200000">
            <a:off x="1193040" y="4740480"/>
            <a:ext cx="861120" cy="5760"/>
          </a:xfrm>
          <a:prstGeom prst="bentConnector3">
            <a:avLst>
              <a:gd name="adj1" fmla="val 49979"/>
            </a:avLst>
          </a:prstGeom>
          <a:ln w="31680">
            <a:solidFill>
              <a:srgbClr val="808080"/>
            </a:solidFill>
            <a:miter/>
          </a:ln>
        </p:spPr>
      </p:cxnSp>
      <p:cxnSp>
        <p:nvCxnSpPr>
          <p:cNvPr id="460" name=""/>
          <p:cNvCxnSpPr>
            <a:stCxn id="381" idx="2"/>
            <a:endCxn id="423" idx="0"/>
          </p:cNvCxnSpPr>
          <p:nvPr/>
        </p:nvCxnSpPr>
        <p:spPr>
          <a:xfrm flipH="1" rot="16200000">
            <a:off x="3016440" y="4786920"/>
            <a:ext cx="989280" cy="37440"/>
          </a:xfrm>
          <a:prstGeom prst="bentConnector3">
            <a:avLst>
              <a:gd name="adj1" fmla="val 49908"/>
            </a:avLst>
          </a:prstGeom>
          <a:ln w="31680">
            <a:solidFill>
              <a:srgbClr val="80808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2510640" y="6453360"/>
            <a:ext cx="44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システム図は何かを意図して制作したものではありません。使い方のご参考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15800" y="836640"/>
            <a:ext cx="9074160" cy="5688000"/>
          </a:xfrm>
          <a:prstGeom prst="roundRect">
            <a:avLst>
              <a:gd name="adj" fmla="val 3264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4880" y="3860640"/>
            <a:ext cx="3168720" cy="0"/>
          </a:xfrm>
          <a:prstGeom prst="line">
            <a:avLst/>
          </a:prstGeom>
          <a:ln w="3816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システム構成図サンプル４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315040" y="3139560"/>
            <a:ext cx="1404360" cy="1297080"/>
            <a:chOff x="5315040" y="3139560"/>
            <a:chExt cx="1404360" cy="1297080"/>
          </a:xfrm>
        </p:grpSpPr>
        <p:grpSp>
          <p:nvGrpSpPr>
            <p:cNvPr id="466" name=""/>
            <p:cNvGrpSpPr/>
            <p:nvPr/>
          </p:nvGrpSpPr>
          <p:grpSpPr>
            <a:xfrm>
              <a:off x="5315040" y="3139920"/>
              <a:ext cx="1404360" cy="1296720"/>
              <a:chOff x="5315040" y="3139920"/>
              <a:chExt cx="1404360" cy="1296720"/>
            </a:xfrm>
          </p:grpSpPr>
          <p:sp>
            <p:nvSpPr>
              <p:cNvPr id="467" name=""/>
              <p:cNvSpPr/>
              <p:nvPr/>
            </p:nvSpPr>
            <p:spPr>
              <a:xfrm>
                <a:off x="6432480" y="3139920"/>
                <a:ext cx="286920" cy="1296720"/>
              </a:xfrm>
              <a:custGeom>
                <a:avLst/>
                <a:gdLst/>
                <a:ahLst/>
                <a:rect l="l" t="t" r="r" b="b"/>
                <a:pathLst>
                  <a:path w="181" h="817">
                    <a:moveTo>
                      <a:pt x="181" y="817"/>
                    </a:moveTo>
                    <a:lnTo>
                      <a:pt x="0" y="817"/>
                    </a:lnTo>
                    <a:lnTo>
                      <a:pt x="0" y="91"/>
                    </a:lnTo>
                    <a:lnTo>
                      <a:pt x="22" y="0"/>
                    </a:lnTo>
                    <a:lnTo>
                      <a:pt x="158" y="0"/>
                    </a:lnTo>
                    <a:lnTo>
                      <a:pt x="181" y="91"/>
                    </a:lnTo>
                    <a:lnTo>
                      <a:pt x="181" y="817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315040" y="3212640"/>
                <a:ext cx="1044360" cy="899640"/>
              </a:xfrm>
              <a:custGeom>
                <a:avLst/>
                <a:gdLst/>
                <a:ahLst/>
                <a:rect l="l" t="t" r="r" b="b"/>
                <a:pathLst>
                  <a:path w="658" h="567">
                    <a:moveTo>
                      <a:pt x="658" y="22"/>
                    </a:moveTo>
                    <a:lnTo>
                      <a:pt x="613" y="0"/>
                    </a:lnTo>
                    <a:lnTo>
                      <a:pt x="46" y="0"/>
                    </a:lnTo>
                    <a:lnTo>
                      <a:pt x="0" y="22"/>
                    </a:lnTo>
                    <a:lnTo>
                      <a:pt x="0" y="567"/>
                    </a:lnTo>
                    <a:lnTo>
                      <a:pt x="658" y="567"/>
                    </a:lnTo>
                    <a:lnTo>
                      <a:pt x="65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95760" y="4220640"/>
                <a:ext cx="684000" cy="179280"/>
              </a:xfrm>
              <a:custGeom>
                <a:avLst/>
                <a:gdLst/>
                <a:ahLst/>
                <a:rect l="l" t="t" r="r" b="b"/>
                <a:pathLst>
                  <a:path w="431" h="113">
                    <a:moveTo>
                      <a:pt x="431" y="113"/>
                    </a:moveTo>
                    <a:lnTo>
                      <a:pt x="0" y="113"/>
                    </a:lnTo>
                    <a:lnTo>
                      <a:pt x="0" y="90"/>
                    </a:lnTo>
                    <a:lnTo>
                      <a:pt x="45" y="0"/>
                    </a:lnTo>
                    <a:lnTo>
                      <a:pt x="385" y="0"/>
                    </a:lnTo>
                    <a:lnTo>
                      <a:pt x="431" y="90"/>
                    </a:lnTo>
                    <a:lnTo>
                      <a:pt x="431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711760" y="4039920"/>
                <a:ext cx="252000" cy="21708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5315040" y="3139560"/>
              <a:ext cx="1402920" cy="1296720"/>
              <a:chOff x="5315040" y="3139560"/>
              <a:chExt cx="1402920" cy="1296720"/>
            </a:xfrm>
          </p:grpSpPr>
          <p:sp>
            <p:nvSpPr>
              <p:cNvPr id="472" name=""/>
              <p:cNvSpPr/>
              <p:nvPr/>
            </p:nvSpPr>
            <p:spPr>
              <a:xfrm flipV="1">
                <a:off x="5495760" y="4219200"/>
                <a:ext cx="684000" cy="144000"/>
              </a:xfrm>
              <a:custGeom>
                <a:avLst/>
                <a:gdLst>
                  <a:gd name="textAreaLeft" fmla="*/ 93240 w 684000"/>
                  <a:gd name="textAreaRight" fmla="*/ 590760 w 684000"/>
                  <a:gd name="textAreaTop" fmla="*/ 19440 h 144000"/>
                  <a:gd name="textAreaBottom" fmla="*/ 124560 h 14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446" y="21600"/>
                    </a:lnTo>
                    <a:lnTo>
                      <a:pt x="215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711760" y="4076280"/>
                <a:ext cx="252000" cy="2156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495760" y="4363560"/>
                <a:ext cx="684000" cy="363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315040" y="3247560"/>
                <a:ext cx="1044360" cy="8647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5315040" y="3211200"/>
                <a:ext cx="1044360" cy="36000"/>
              </a:xfrm>
              <a:custGeom>
                <a:avLst/>
                <a:gdLst>
                  <a:gd name="textAreaLeft" fmla="*/ 115200 w 1044360"/>
                  <a:gd name="textAreaRight" fmla="*/ 929160 w 1044360"/>
                  <a:gd name="textAreaTop" fmla="*/ 3960 h 36000"/>
                  <a:gd name="textAreaBottom" fmla="*/ 32040 h 3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57" y="21600"/>
                    </a:lnTo>
                    <a:lnTo>
                      <a:pt x="114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386320" y="3320640"/>
                <a:ext cx="899640" cy="71892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430680" y="3284280"/>
                <a:ext cx="287280" cy="11520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6430680" y="3139200"/>
                <a:ext cx="287280" cy="144360"/>
              </a:xfrm>
              <a:custGeom>
                <a:avLst/>
                <a:gdLst>
                  <a:gd name="textAreaLeft" fmla="*/ 43560 w 287280"/>
                  <a:gd name="textAreaRight" fmla="*/ 243720 w 287280"/>
                  <a:gd name="textAreaTop" fmla="*/ 21960 h 144360"/>
                  <a:gd name="textAreaBottom" fmla="*/ 122400 h 14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841" y="21600"/>
                    </a:lnTo>
                    <a:lnTo>
                      <a:pt x="275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9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0" name=""/>
          <p:cNvSpPr/>
          <p:nvPr/>
        </p:nvSpPr>
        <p:spPr>
          <a:xfrm>
            <a:off x="5767560" y="3067200"/>
            <a:ext cx="22500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Ｐ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207040" y="4723920"/>
            <a:ext cx="1440000" cy="360720"/>
            <a:chOff x="5207040" y="4723920"/>
            <a:chExt cx="1440000" cy="360720"/>
          </a:xfrm>
        </p:grpSpPr>
        <p:sp>
          <p:nvSpPr>
            <p:cNvPr id="482" name=""/>
            <p:cNvSpPr/>
            <p:nvPr/>
          </p:nvSpPr>
          <p:spPr>
            <a:xfrm>
              <a:off x="5207040" y="5009760"/>
              <a:ext cx="1440000" cy="7488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5207040" y="4723560"/>
              <a:ext cx="1440000" cy="285480"/>
            </a:xfrm>
            <a:custGeom>
              <a:avLst/>
              <a:gdLst>
                <a:gd name="textAreaLeft" fmla="*/ 155160 w 1440000"/>
                <a:gd name="textAreaRight" fmla="*/ 1284840 w 1440000"/>
                <a:gd name="textAreaTop" fmla="*/ 30600 h 285480"/>
                <a:gd name="textAreaBottom" fmla="*/ 25488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53" y="21600"/>
                  </a:lnTo>
                  <a:lnTo>
                    <a:pt x="1047" y="216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07040" y="5009760"/>
              <a:ext cx="1440000" cy="748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5207040" y="4723560"/>
              <a:ext cx="1440000" cy="285480"/>
            </a:xfrm>
            <a:custGeom>
              <a:avLst/>
              <a:gdLst>
                <a:gd name="textAreaLeft" fmla="*/ 155160 w 1440000"/>
                <a:gd name="textAreaRight" fmla="*/ 1284840 w 1440000"/>
                <a:gd name="textAreaTop" fmla="*/ 30600 h 285480"/>
                <a:gd name="textAreaBottom" fmla="*/ 25488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53" y="21600"/>
                  </a:lnTo>
                  <a:lnTo>
                    <a:pt x="104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5278680" y="4760640"/>
              <a:ext cx="1296720" cy="216000"/>
            </a:xfrm>
            <a:custGeom>
              <a:avLst/>
              <a:gdLst>
                <a:gd name="textAreaLeft" fmla="*/ 139680 w 1296720"/>
                <a:gd name="textAreaRight" fmla="*/ 1157040 w 1296720"/>
                <a:gd name="textAreaTop" fmla="*/ 23040 h 216000"/>
                <a:gd name="textAreaBottom" fmla="*/ 1929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53" y="21600"/>
                  </a:lnTo>
                  <a:lnTo>
                    <a:pt x="1047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5664240" y="4581360"/>
            <a:ext cx="45360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キーボー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899400" y="4724280"/>
            <a:ext cx="360360" cy="358920"/>
            <a:chOff x="6899400" y="4724280"/>
            <a:chExt cx="360360" cy="358920"/>
          </a:xfrm>
        </p:grpSpPr>
        <p:grpSp>
          <p:nvGrpSpPr>
            <p:cNvPr id="489" name=""/>
            <p:cNvGrpSpPr/>
            <p:nvPr/>
          </p:nvGrpSpPr>
          <p:grpSpPr>
            <a:xfrm>
              <a:off x="6899400" y="4724280"/>
              <a:ext cx="360360" cy="358920"/>
              <a:chOff x="6899400" y="4724280"/>
              <a:chExt cx="360360" cy="358920"/>
            </a:xfrm>
          </p:grpSpPr>
          <p:sp>
            <p:nvSpPr>
              <p:cNvPr id="490" name=""/>
              <p:cNvSpPr/>
              <p:nvPr/>
            </p:nvSpPr>
            <p:spPr>
              <a:xfrm>
                <a:off x="6899400" y="4724280"/>
                <a:ext cx="360360" cy="3589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936120" y="4724280"/>
                <a:ext cx="288720" cy="287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72480" y="4724280"/>
                <a:ext cx="71640" cy="108000"/>
              </a:xfrm>
              <a:custGeom>
                <a:avLst/>
                <a:gdLst>
                  <a:gd name="textAreaLeft" fmla="*/ 9360 w 71640"/>
                  <a:gd name="textAreaRight" fmla="*/ 62280 w 71640"/>
                  <a:gd name="textAreaTop" fmla="*/ 9360 h 108000"/>
                  <a:gd name="textAreaBottom" fmla="*/ 98640 h 108000"/>
                </a:gdLst>
                <a:ahLst/>
                <a:rect l="textAreaLeft" t="textAreaTop" r="textAreaRight" b="textAreaBottom"/>
                <a:pathLst>
                  <a:path w="21600" h="32508">
                    <a:moveTo>
                      <a:pt x="9600" y="0"/>
                    </a:moveTo>
                    <a:arcTo wR="9600" hR="9600" stAng="16200000" swAng="-5400000"/>
                    <a:lnTo>
                      <a:pt x="0" y="22908"/>
                    </a:lnTo>
                    <a:arcTo wR="9600" hR="9600" stAng="10800000" swAng="-5400000"/>
                    <a:lnTo>
                      <a:pt x="12000" y="32508"/>
                    </a:lnTo>
                    <a:arcTo wR="9600" hR="9600" stAng="5400000" swAng="-5400000"/>
                    <a:lnTo>
                      <a:pt x="21600" y="9600"/>
                    </a:lnTo>
                    <a:arcTo wR="9600" hR="9600" stAng="0" swAng="-5400000"/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16840" y="4724280"/>
                <a:ext cx="71640" cy="108000"/>
              </a:xfrm>
              <a:custGeom>
                <a:avLst/>
                <a:gdLst>
                  <a:gd name="textAreaLeft" fmla="*/ 9360 w 71640"/>
                  <a:gd name="textAreaRight" fmla="*/ 62280 w 71640"/>
                  <a:gd name="textAreaTop" fmla="*/ 9360 h 108000"/>
                  <a:gd name="textAreaBottom" fmla="*/ 98640 h 108000"/>
                </a:gdLst>
                <a:ahLst/>
                <a:rect l="textAreaLeft" t="textAreaTop" r="textAreaRight" b="textAreaBottom"/>
                <a:pathLst>
                  <a:path w="21600" h="32508">
                    <a:moveTo>
                      <a:pt x="9600" y="0"/>
                    </a:moveTo>
                    <a:arcTo wR="9600" hR="9600" stAng="16200000" swAng="-5400000"/>
                    <a:lnTo>
                      <a:pt x="0" y="22908"/>
                    </a:lnTo>
                    <a:arcTo wR="9600" hR="9600" stAng="10800000" swAng="-5400000"/>
                    <a:lnTo>
                      <a:pt x="12000" y="32508"/>
                    </a:lnTo>
                    <a:arcTo wR="9600" hR="9600" stAng="5400000" swAng="-5400000"/>
                    <a:lnTo>
                      <a:pt x="21600" y="9600"/>
                    </a:lnTo>
                    <a:arcTo wR="9600" hR="9600" stAng="0" swAng="-5400000"/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6899400" y="4724280"/>
              <a:ext cx="360360" cy="358560"/>
              <a:chOff x="6899400" y="4724280"/>
              <a:chExt cx="360360" cy="358560"/>
            </a:xfrm>
          </p:grpSpPr>
          <p:sp>
            <p:nvSpPr>
              <p:cNvPr id="495" name=""/>
              <p:cNvSpPr/>
              <p:nvPr/>
            </p:nvSpPr>
            <p:spPr>
              <a:xfrm>
                <a:off x="6899400" y="4724280"/>
                <a:ext cx="360360" cy="3585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935760" y="4724280"/>
                <a:ext cx="288360" cy="2872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972120" y="4724280"/>
                <a:ext cx="71280" cy="108000"/>
              </a:xfrm>
              <a:custGeom>
                <a:avLst/>
                <a:gdLst>
                  <a:gd name="textAreaLeft" fmla="*/ 9000 w 71280"/>
                  <a:gd name="textAreaRight" fmla="*/ 62280 w 71280"/>
                  <a:gd name="textAreaTop" fmla="*/ 9000 h 108000"/>
                  <a:gd name="textAreaBottom" fmla="*/ 99000 h 108000"/>
                </a:gdLst>
                <a:ahLst/>
                <a:rect l="textAreaLeft" t="textAreaTop" r="textAreaRight" b="textAreaBottom"/>
                <a:pathLst>
                  <a:path w="21600" h="32671">
                    <a:moveTo>
                      <a:pt x="9600" y="0"/>
                    </a:moveTo>
                    <a:arcTo wR="9600" hR="9600" stAng="16200000" swAng="-5400000"/>
                    <a:lnTo>
                      <a:pt x="0" y="23071"/>
                    </a:lnTo>
                    <a:arcTo wR="9600" hR="9600" stAng="10800000" swAng="-5400000"/>
                    <a:lnTo>
                      <a:pt x="12000" y="32671"/>
                    </a:lnTo>
                    <a:arcTo wR="9600" hR="9600" stAng="5400000" swAng="-5400000"/>
                    <a:lnTo>
                      <a:pt x="21600" y="9600"/>
                    </a:lnTo>
                    <a:arcTo wR="9600" hR="9600" stAng="0" swAng="-5400000"/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116840" y="4724280"/>
                <a:ext cx="70920" cy="108000"/>
              </a:xfrm>
              <a:custGeom>
                <a:avLst/>
                <a:gdLst>
                  <a:gd name="textAreaLeft" fmla="*/ 9000 w 70920"/>
                  <a:gd name="textAreaRight" fmla="*/ 61920 w 70920"/>
                  <a:gd name="textAreaTop" fmla="*/ 9000 h 108000"/>
                  <a:gd name="textAreaBottom" fmla="*/ 99000 h 108000"/>
                </a:gdLst>
                <a:ahLst/>
                <a:rect l="textAreaLeft" t="textAreaTop" r="textAreaRight" b="textAreaBottom"/>
                <a:pathLst>
                  <a:path w="21600" h="32836">
                    <a:moveTo>
                      <a:pt x="9600" y="0"/>
                    </a:moveTo>
                    <a:arcTo wR="9600" hR="9600" stAng="16200000" swAng="-5400000"/>
                    <a:lnTo>
                      <a:pt x="0" y="23236"/>
                    </a:lnTo>
                    <a:arcTo wR="9600" hR="9600" stAng="10800000" swAng="-5400000"/>
                    <a:lnTo>
                      <a:pt x="12000" y="32836"/>
                    </a:lnTo>
                    <a:arcTo wR="9600" hR="9600" stAng="5400000" swAng="-5400000"/>
                    <a:lnTo>
                      <a:pt x="21600" y="9600"/>
                    </a:lnTo>
                    <a:arcTo wR="9600" hR="9600" stAng="0" swAng="-5400000"/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9" name=""/>
          <p:cNvSpPr/>
          <p:nvPr/>
        </p:nvSpPr>
        <p:spPr>
          <a:xfrm>
            <a:off x="6946920" y="4545000"/>
            <a:ext cx="30132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マウ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7186680" y="2131920"/>
            <a:ext cx="1439640" cy="934920"/>
            <a:chOff x="7186680" y="2131920"/>
            <a:chExt cx="1439640" cy="934920"/>
          </a:xfrm>
        </p:grpSpPr>
        <p:grpSp>
          <p:nvGrpSpPr>
            <p:cNvPr id="501" name=""/>
            <p:cNvGrpSpPr/>
            <p:nvPr/>
          </p:nvGrpSpPr>
          <p:grpSpPr>
            <a:xfrm>
              <a:off x="7186680" y="2131920"/>
              <a:ext cx="1439640" cy="934920"/>
              <a:chOff x="7186680" y="2131920"/>
              <a:chExt cx="1439640" cy="934920"/>
            </a:xfrm>
          </p:grpSpPr>
          <p:sp>
            <p:nvSpPr>
              <p:cNvPr id="502" name=""/>
              <p:cNvSpPr/>
              <p:nvPr/>
            </p:nvSpPr>
            <p:spPr>
              <a:xfrm>
                <a:off x="7186680" y="2239920"/>
                <a:ext cx="1439640" cy="720720"/>
              </a:xfrm>
              <a:custGeom>
                <a:avLst/>
                <a:gdLst/>
                <a:ahLst/>
                <a:rect l="l" t="t" r="r" b="b"/>
                <a:pathLst>
                  <a:path w="907" h="454">
                    <a:moveTo>
                      <a:pt x="45" y="0"/>
                    </a:moveTo>
                    <a:lnTo>
                      <a:pt x="862" y="0"/>
                    </a:lnTo>
                    <a:lnTo>
                      <a:pt x="907" y="181"/>
                    </a:lnTo>
                    <a:lnTo>
                      <a:pt x="907" y="454"/>
                    </a:lnTo>
                    <a:lnTo>
                      <a:pt x="0" y="454"/>
                    </a:lnTo>
                    <a:lnTo>
                      <a:pt x="0" y="181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7292880" y="2671560"/>
                <a:ext cx="1223640" cy="395280"/>
              </a:xfrm>
              <a:custGeom>
                <a:avLst/>
                <a:gdLst>
                  <a:gd name="textAreaLeft" fmla="*/ 132120 w 1223640"/>
                  <a:gd name="textAreaRight" fmla="*/ 1091520 w 1223640"/>
                  <a:gd name="textAreaTop" fmla="*/ 42480 h 395280"/>
                  <a:gd name="textAreaBottom" fmla="*/ 352800 h 3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53" y="21600"/>
                    </a:lnTo>
                    <a:lnTo>
                      <a:pt x="1047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329240" y="2131920"/>
                <a:ext cx="1152360" cy="21564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7186680" y="2131920"/>
              <a:ext cx="1439640" cy="934920"/>
              <a:chOff x="7186680" y="2131920"/>
              <a:chExt cx="1439640" cy="934920"/>
            </a:xfrm>
          </p:grpSpPr>
          <p:sp>
            <p:nvSpPr>
              <p:cNvPr id="506" name=""/>
              <p:cNvSpPr/>
              <p:nvPr/>
            </p:nvSpPr>
            <p:spPr>
              <a:xfrm>
                <a:off x="7186680" y="2527200"/>
                <a:ext cx="1439640" cy="4334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7186680" y="2239200"/>
                <a:ext cx="1439640" cy="285480"/>
              </a:xfrm>
              <a:custGeom>
                <a:avLst/>
                <a:gdLst>
                  <a:gd name="textAreaLeft" fmla="*/ 155160 w 1439640"/>
                  <a:gd name="textAreaRight" fmla="*/ 1284480 w 1439640"/>
                  <a:gd name="textAreaTop" fmla="*/ 30600 h 285480"/>
                  <a:gd name="textAreaBottom" fmla="*/ 254880 h 285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53" y="21600"/>
                    </a:lnTo>
                    <a:lnTo>
                      <a:pt x="104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9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7294320" y="2671560"/>
                <a:ext cx="1223640" cy="395280"/>
              </a:xfrm>
              <a:custGeom>
                <a:avLst/>
                <a:gdLst>
                  <a:gd name="textAreaLeft" fmla="*/ 132120 w 1223640"/>
                  <a:gd name="textAreaRight" fmla="*/ 1091520 w 1223640"/>
                  <a:gd name="textAreaTop" fmla="*/ 42480 h 395280"/>
                  <a:gd name="textAreaBottom" fmla="*/ 352800 h 3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53" y="21600"/>
                    </a:lnTo>
                    <a:lnTo>
                      <a:pt x="1047" y="2160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7402320" y="2634480"/>
                <a:ext cx="1007640" cy="360360"/>
              </a:xfrm>
              <a:custGeom>
                <a:avLst/>
                <a:gdLst>
                  <a:gd name="textAreaLeft" fmla="*/ 108720 w 1007640"/>
                  <a:gd name="textAreaRight" fmla="*/ 898920 w 1007640"/>
                  <a:gd name="textAreaTop" fmla="*/ 38880 h 360360"/>
                  <a:gd name="textAreaBottom" fmla="*/ 321480 h 36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53" y="21600"/>
                    </a:lnTo>
                    <a:lnTo>
                      <a:pt x="104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f2f3"/>
                  </a:gs>
                  <a:gs pos="100000">
                    <a:srgbClr val="bbe0e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331040" y="2131920"/>
                <a:ext cx="1152000" cy="215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367400" y="2131920"/>
                <a:ext cx="1079280" cy="21564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2" name=""/>
          <p:cNvSpPr/>
          <p:nvPr/>
        </p:nvSpPr>
        <p:spPr>
          <a:xfrm>
            <a:off x="7510320" y="2023920"/>
            <a:ext cx="72072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プリンタ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7186680" y="3357360"/>
            <a:ext cx="1439640" cy="757440"/>
            <a:chOff x="7186680" y="3357360"/>
            <a:chExt cx="1439640" cy="757440"/>
          </a:xfrm>
        </p:grpSpPr>
        <p:grpSp>
          <p:nvGrpSpPr>
            <p:cNvPr id="514" name=""/>
            <p:cNvGrpSpPr/>
            <p:nvPr/>
          </p:nvGrpSpPr>
          <p:grpSpPr>
            <a:xfrm>
              <a:off x="7186680" y="3357720"/>
              <a:ext cx="1439640" cy="757080"/>
              <a:chOff x="7186680" y="3357720"/>
              <a:chExt cx="1439640" cy="757080"/>
            </a:xfrm>
          </p:grpSpPr>
          <p:sp>
            <p:nvSpPr>
              <p:cNvPr id="515" name=""/>
              <p:cNvSpPr/>
              <p:nvPr/>
            </p:nvSpPr>
            <p:spPr>
              <a:xfrm>
                <a:off x="7186680" y="3502080"/>
                <a:ext cx="1439640" cy="612720"/>
              </a:xfrm>
              <a:custGeom>
                <a:avLst/>
                <a:gdLst/>
                <a:ahLst/>
                <a:rect l="l" t="t" r="r" b="b"/>
                <a:pathLst>
                  <a:path w="907" h="386">
                    <a:moveTo>
                      <a:pt x="45" y="0"/>
                    </a:moveTo>
                    <a:lnTo>
                      <a:pt x="862" y="0"/>
                    </a:lnTo>
                    <a:lnTo>
                      <a:pt x="907" y="295"/>
                    </a:lnTo>
                    <a:lnTo>
                      <a:pt x="907" y="386"/>
                    </a:lnTo>
                    <a:lnTo>
                      <a:pt x="0" y="386"/>
                    </a:lnTo>
                    <a:lnTo>
                      <a:pt x="0" y="27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186680" y="3357720"/>
                <a:ext cx="1439640" cy="324000"/>
              </a:xfrm>
              <a:custGeom>
                <a:avLst/>
                <a:gdLst/>
                <a:ahLst/>
                <a:rect l="l" t="t" r="r" b="b"/>
                <a:pathLst>
                  <a:path w="907" h="204">
                    <a:moveTo>
                      <a:pt x="0" y="204"/>
                    </a:moveTo>
                    <a:lnTo>
                      <a:pt x="0" y="159"/>
                    </a:lnTo>
                    <a:lnTo>
                      <a:pt x="68" y="0"/>
                    </a:lnTo>
                    <a:lnTo>
                      <a:pt x="839" y="0"/>
                    </a:lnTo>
                    <a:lnTo>
                      <a:pt x="907" y="159"/>
                    </a:lnTo>
                    <a:lnTo>
                      <a:pt x="907" y="20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7186680" y="3357360"/>
              <a:ext cx="1439640" cy="757440"/>
              <a:chOff x="7186680" y="3357360"/>
              <a:chExt cx="1439640" cy="757440"/>
            </a:xfrm>
          </p:grpSpPr>
          <p:sp>
            <p:nvSpPr>
              <p:cNvPr id="518" name=""/>
              <p:cNvSpPr/>
              <p:nvPr/>
            </p:nvSpPr>
            <p:spPr>
              <a:xfrm>
                <a:off x="7186680" y="3954600"/>
                <a:ext cx="1439640" cy="1602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7186680" y="3488040"/>
                <a:ext cx="1439640" cy="465120"/>
              </a:xfrm>
              <a:custGeom>
                <a:avLst/>
                <a:gdLst>
                  <a:gd name="textAreaLeft" fmla="*/ 155160 w 1439640"/>
                  <a:gd name="textAreaRight" fmla="*/ 1284480 w 1439640"/>
                  <a:gd name="textAreaTop" fmla="*/ 50040 h 465120"/>
                  <a:gd name="textAreaBottom" fmla="*/ 415080 h 46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53" y="21600"/>
                    </a:lnTo>
                    <a:lnTo>
                      <a:pt x="104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7257960" y="3522240"/>
                <a:ext cx="1296360" cy="360360"/>
              </a:xfrm>
              <a:custGeom>
                <a:avLst/>
                <a:gdLst>
                  <a:gd name="textAreaLeft" fmla="*/ 139680 w 1296360"/>
                  <a:gd name="textAreaRight" fmla="*/ 1156680 w 1296360"/>
                  <a:gd name="textAreaTop" fmla="*/ 38880 h 360360"/>
                  <a:gd name="textAreaBottom" fmla="*/ 321480 h 36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53" y="21600"/>
                    </a:lnTo>
                    <a:lnTo>
                      <a:pt x="104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f2f3"/>
                  </a:gs>
                  <a:gs pos="100000">
                    <a:srgbClr val="bbe0e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186680" y="3357000"/>
                <a:ext cx="1439640" cy="252360"/>
              </a:xfrm>
              <a:custGeom>
                <a:avLst/>
                <a:gdLst>
                  <a:gd name="textAreaLeft" fmla="*/ 178200 w 1439640"/>
                  <a:gd name="textAreaRight" fmla="*/ 1261440 w 1439640"/>
                  <a:gd name="textAreaTop" fmla="*/ 30960 h 252360"/>
                  <a:gd name="textAreaBottom" fmla="*/ 221400 h 25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933" y="21600"/>
                    </a:lnTo>
                    <a:lnTo>
                      <a:pt x="166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186680" y="3610080"/>
                <a:ext cx="1439640" cy="716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3" name=""/>
          <p:cNvSpPr/>
          <p:nvPr/>
        </p:nvSpPr>
        <p:spPr>
          <a:xfrm>
            <a:off x="7666200" y="3249720"/>
            <a:ext cx="45360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スキャナ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518160" y="2276640"/>
            <a:ext cx="179280" cy="647640"/>
            <a:chOff x="6518160" y="2276640"/>
            <a:chExt cx="179280" cy="647640"/>
          </a:xfrm>
        </p:grpSpPr>
        <p:grpSp>
          <p:nvGrpSpPr>
            <p:cNvPr id="525" name=""/>
            <p:cNvGrpSpPr/>
            <p:nvPr/>
          </p:nvGrpSpPr>
          <p:grpSpPr>
            <a:xfrm>
              <a:off x="6518160" y="2276640"/>
              <a:ext cx="179280" cy="647640"/>
              <a:chOff x="6518160" y="2276640"/>
              <a:chExt cx="179280" cy="647640"/>
            </a:xfrm>
          </p:grpSpPr>
          <p:sp>
            <p:nvSpPr>
              <p:cNvPr id="526" name=""/>
              <p:cNvSpPr/>
              <p:nvPr/>
            </p:nvSpPr>
            <p:spPr>
              <a:xfrm>
                <a:off x="6518160" y="2453040"/>
                <a:ext cx="179280" cy="47124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6518160" y="2276640"/>
                <a:ext cx="179280" cy="176400"/>
              </a:xfrm>
              <a:custGeom>
                <a:avLst/>
                <a:gdLst>
                  <a:gd name="textAreaLeft" fmla="*/ 19080 w 179280"/>
                  <a:gd name="textAreaRight" fmla="*/ 160200 w 179280"/>
                  <a:gd name="textAreaTop" fmla="*/ 19080 h 176400"/>
                  <a:gd name="textAreaBottom" fmla="*/ 157320 h 176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53" y="21600"/>
                    </a:lnTo>
                    <a:lnTo>
                      <a:pt x="1047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6518160" y="2276640"/>
              <a:ext cx="179280" cy="647640"/>
              <a:chOff x="6518160" y="2276640"/>
              <a:chExt cx="179280" cy="647640"/>
            </a:xfrm>
          </p:grpSpPr>
          <p:sp>
            <p:nvSpPr>
              <p:cNvPr id="529" name=""/>
              <p:cNvSpPr/>
              <p:nvPr/>
            </p:nvSpPr>
            <p:spPr>
              <a:xfrm>
                <a:off x="6518160" y="2453040"/>
                <a:ext cx="179280" cy="4712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6518160" y="2276640"/>
                <a:ext cx="179280" cy="176400"/>
              </a:xfrm>
              <a:custGeom>
                <a:avLst/>
                <a:gdLst>
                  <a:gd name="textAreaLeft" fmla="*/ 19080 w 179280"/>
                  <a:gd name="textAreaRight" fmla="*/ 160200 w 179280"/>
                  <a:gd name="textAreaTop" fmla="*/ 19080 h 176400"/>
                  <a:gd name="textAreaBottom" fmla="*/ 157320 h 176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53" y="21600"/>
                    </a:lnTo>
                    <a:lnTo>
                      <a:pt x="104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9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6353280" y="2131920"/>
            <a:ext cx="52992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外付けＨＤ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3908160" y="3465360"/>
            <a:ext cx="595440" cy="682560"/>
            <a:chOff x="3908160" y="3465360"/>
            <a:chExt cx="595440" cy="682560"/>
          </a:xfrm>
        </p:grpSpPr>
        <p:grpSp>
          <p:nvGrpSpPr>
            <p:cNvPr id="533" name=""/>
            <p:cNvGrpSpPr/>
            <p:nvPr/>
          </p:nvGrpSpPr>
          <p:grpSpPr>
            <a:xfrm>
              <a:off x="3908160" y="3500280"/>
              <a:ext cx="179280" cy="647640"/>
              <a:chOff x="3908160" y="3500280"/>
              <a:chExt cx="179280" cy="64764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3908160" y="3500280"/>
                <a:ext cx="179280" cy="647640"/>
                <a:chOff x="3908160" y="3500280"/>
                <a:chExt cx="179280" cy="647640"/>
              </a:xfrm>
            </p:grpSpPr>
            <p:sp>
              <p:nvSpPr>
                <p:cNvPr id="535" name=""/>
                <p:cNvSpPr/>
                <p:nvPr/>
              </p:nvSpPr>
              <p:spPr>
                <a:xfrm flipH="1">
                  <a:off x="3908160" y="3676680"/>
                  <a:ext cx="179280" cy="4712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 flipV="1">
                  <a:off x="3908160" y="3500280"/>
                  <a:ext cx="179280" cy="176400"/>
                </a:xfrm>
                <a:custGeom>
                  <a:avLst/>
                  <a:gdLst>
                    <a:gd name="textAreaLeft" fmla="*/ 19080 w 179280"/>
                    <a:gd name="textAreaRight" fmla="*/ 160200 w 179280"/>
                    <a:gd name="textAreaTop" fmla="*/ 19080 h 176400"/>
                    <a:gd name="textAreaBottom" fmla="*/ 157320 h 176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553" y="21600"/>
                      </a:lnTo>
                      <a:lnTo>
                        <a:pt x="1047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3908160" y="3500280"/>
                <a:ext cx="179280" cy="647640"/>
                <a:chOff x="3908160" y="3500280"/>
                <a:chExt cx="179280" cy="647640"/>
              </a:xfrm>
            </p:grpSpPr>
            <p:sp>
              <p:nvSpPr>
                <p:cNvPr id="538" name=""/>
                <p:cNvSpPr/>
                <p:nvPr/>
              </p:nvSpPr>
              <p:spPr>
                <a:xfrm flipH="1">
                  <a:off x="3908160" y="3676680"/>
                  <a:ext cx="179280" cy="47124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H="1" flipV="1">
                  <a:off x="3908160" y="3500280"/>
                  <a:ext cx="179280" cy="176400"/>
                </a:xfrm>
                <a:custGeom>
                  <a:avLst/>
                  <a:gdLst>
                    <a:gd name="textAreaLeft" fmla="*/ 19080 w 179280"/>
                    <a:gd name="textAreaRight" fmla="*/ 160200 w 179280"/>
                    <a:gd name="textAreaTop" fmla="*/ 19080 h 176400"/>
                    <a:gd name="textAreaBottom" fmla="*/ 157320 h 176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553" y="21600"/>
                      </a:lnTo>
                      <a:lnTo>
                        <a:pt x="1047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d9d9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0" name=""/>
            <p:cNvSpPr/>
            <p:nvPr/>
          </p:nvSpPr>
          <p:spPr>
            <a:xfrm flipH="1" rot="1800000">
              <a:off x="4229640" y="3499920"/>
              <a:ext cx="216000" cy="287280"/>
            </a:xfrm>
            <a:prstGeom prst="lightningBol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rot="6300000">
              <a:off x="4194000" y="3823920"/>
              <a:ext cx="215640" cy="287640"/>
            </a:xfrm>
            <a:prstGeom prst="lightningBol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3753000" y="3284640"/>
            <a:ext cx="45360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無線ＬＡ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485360" y="3270600"/>
            <a:ext cx="1463040" cy="1323720"/>
            <a:chOff x="1485360" y="3270600"/>
            <a:chExt cx="1463040" cy="1323720"/>
          </a:xfrm>
        </p:grpSpPr>
        <p:sp>
          <p:nvSpPr>
            <p:cNvPr id="544" name=""/>
            <p:cNvSpPr/>
            <p:nvPr/>
          </p:nvSpPr>
          <p:spPr>
            <a:xfrm>
              <a:off x="1712880" y="3429000"/>
              <a:ext cx="1008000" cy="1008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28880" y="364500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1800000">
              <a:off x="1496880" y="3715920"/>
              <a:ext cx="1440000" cy="432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18900000">
              <a:off x="1496880" y="3716280"/>
              <a:ext cx="1440000" cy="432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1897200" y="4363920"/>
            <a:ext cx="606240" cy="188640"/>
          </a:xfrm>
          <a:prstGeom prst="rect">
            <a:avLst/>
          </a:prstGeom>
          <a:solidFill>
            <a:srgbClr val="993366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インターネッ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152880" y="3500280"/>
            <a:ext cx="179280" cy="647640"/>
            <a:chOff x="3152880" y="3500280"/>
            <a:chExt cx="179280" cy="647640"/>
          </a:xfrm>
        </p:grpSpPr>
        <p:grpSp>
          <p:nvGrpSpPr>
            <p:cNvPr id="550" name=""/>
            <p:cNvGrpSpPr/>
            <p:nvPr/>
          </p:nvGrpSpPr>
          <p:grpSpPr>
            <a:xfrm>
              <a:off x="3152880" y="3500280"/>
              <a:ext cx="179280" cy="647640"/>
              <a:chOff x="3152880" y="3500280"/>
              <a:chExt cx="179280" cy="647640"/>
            </a:xfrm>
          </p:grpSpPr>
          <p:sp>
            <p:nvSpPr>
              <p:cNvPr id="551" name=""/>
              <p:cNvSpPr/>
              <p:nvPr/>
            </p:nvSpPr>
            <p:spPr>
              <a:xfrm>
                <a:off x="3152880" y="3676680"/>
                <a:ext cx="179280" cy="47124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152880" y="3500280"/>
                <a:ext cx="179280" cy="176400"/>
              </a:xfrm>
              <a:custGeom>
                <a:avLst/>
                <a:gdLst>
                  <a:gd name="textAreaLeft" fmla="*/ 19080 w 179280"/>
                  <a:gd name="textAreaRight" fmla="*/ 160200 w 179280"/>
                  <a:gd name="textAreaTop" fmla="*/ 19080 h 176400"/>
                  <a:gd name="textAreaBottom" fmla="*/ 157320 h 176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53" y="21600"/>
                    </a:lnTo>
                    <a:lnTo>
                      <a:pt x="1047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3152880" y="3500280"/>
              <a:ext cx="179280" cy="647640"/>
              <a:chOff x="3152880" y="3500280"/>
              <a:chExt cx="179280" cy="647640"/>
            </a:xfrm>
          </p:grpSpPr>
          <p:sp>
            <p:nvSpPr>
              <p:cNvPr id="554" name=""/>
              <p:cNvSpPr/>
              <p:nvPr/>
            </p:nvSpPr>
            <p:spPr>
              <a:xfrm>
                <a:off x="3152880" y="3676680"/>
                <a:ext cx="179280" cy="4712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3152880" y="3500280"/>
                <a:ext cx="179280" cy="176400"/>
              </a:xfrm>
              <a:custGeom>
                <a:avLst/>
                <a:gdLst>
                  <a:gd name="textAreaLeft" fmla="*/ 19080 w 179280"/>
                  <a:gd name="textAreaRight" fmla="*/ 160200 w 179280"/>
                  <a:gd name="textAreaTop" fmla="*/ 19080 h 176400"/>
                  <a:gd name="textAreaBottom" fmla="*/ 157320 h 176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53" y="21600"/>
                    </a:lnTo>
                    <a:lnTo>
                      <a:pt x="104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9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"/>
          <p:cNvSpPr/>
          <p:nvPr/>
        </p:nvSpPr>
        <p:spPr>
          <a:xfrm>
            <a:off x="3102120" y="3284640"/>
            <a:ext cx="30132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モデ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"/>
          <p:cNvCxnSpPr>
            <a:stCxn id="478" idx="3"/>
            <a:endCxn id="519" idx="2"/>
          </p:cNvCxnSpPr>
          <p:nvPr/>
        </p:nvCxnSpPr>
        <p:spPr>
          <a:xfrm flipV="1">
            <a:off x="6718320" y="3720600"/>
            <a:ext cx="504000" cy="140400"/>
          </a:xfrm>
          <a:prstGeom prst="bentConnector3">
            <a:avLst>
              <a:gd name="adj1" fmla="val 46318"/>
            </a:avLst>
          </a:prstGeom>
          <a:ln w="31680">
            <a:solidFill>
              <a:srgbClr val="333333"/>
            </a:solidFill>
            <a:miter/>
          </a:ln>
        </p:spPr>
      </p:cxnSp>
      <p:cxnSp>
        <p:nvCxnSpPr>
          <p:cNvPr id="558" name=""/>
          <p:cNvCxnSpPr>
            <a:stCxn id="478" idx="0"/>
            <a:endCxn id="526" idx="2"/>
          </p:cNvCxnSpPr>
          <p:nvPr/>
        </p:nvCxnSpPr>
        <p:spPr>
          <a:xfrm flipH="1" flipV="1" rot="5400000">
            <a:off x="6420960" y="3096720"/>
            <a:ext cx="342000" cy="34200"/>
          </a:xfrm>
          <a:prstGeom prst="bentConnector3">
            <a:avLst>
              <a:gd name="adj1" fmla="val 53003"/>
            </a:avLst>
          </a:prstGeom>
          <a:ln w="31680">
            <a:solidFill>
              <a:srgbClr val="333333"/>
            </a:solidFill>
            <a:miter/>
          </a:ln>
        </p:spPr>
      </p:cxnSp>
      <p:cxnSp>
        <p:nvCxnSpPr>
          <p:cNvPr id="559" name=""/>
          <p:cNvCxnSpPr>
            <a:stCxn id="478" idx="3"/>
            <a:endCxn id="502" idx="0"/>
          </p:cNvCxnSpPr>
          <p:nvPr/>
        </p:nvCxnSpPr>
        <p:spPr>
          <a:xfrm flipV="1">
            <a:off x="6718320" y="2526840"/>
            <a:ext cx="450000" cy="1334160"/>
          </a:xfrm>
          <a:prstGeom prst="bentConnector3">
            <a:avLst>
              <a:gd name="adj1" fmla="val 51881"/>
            </a:avLst>
          </a:prstGeom>
          <a:ln w="31680">
            <a:solidFill>
              <a:srgbClr val="333333"/>
            </a:solidFill>
            <a:miter/>
          </a:ln>
        </p:spPr>
      </p:cxnSp>
      <p:sp>
        <p:nvSpPr>
          <p:cNvPr id="560" name=""/>
          <p:cNvSpPr/>
          <p:nvPr/>
        </p:nvSpPr>
        <p:spPr>
          <a:xfrm>
            <a:off x="2510640" y="6453360"/>
            <a:ext cx="44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システム図は何かを意図して制作したものではありません。使い方のご参考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415800" y="836640"/>
            <a:ext cx="9074160" cy="5688000"/>
          </a:xfrm>
          <a:prstGeom prst="roundRect">
            <a:avLst>
              <a:gd name="adj" fmla="val 3264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352520" y="1125360"/>
            <a:ext cx="6552720" cy="5163840"/>
            <a:chOff x="1352520" y="1125360"/>
            <a:chExt cx="6552720" cy="5163840"/>
          </a:xfrm>
        </p:grpSpPr>
        <p:sp>
          <p:nvSpPr>
            <p:cNvPr id="563" name=""/>
            <p:cNvSpPr/>
            <p:nvPr/>
          </p:nvSpPr>
          <p:spPr>
            <a:xfrm>
              <a:off x="5043600" y="4609440"/>
              <a:ext cx="372960" cy="373680"/>
            </a:xfrm>
            <a:custGeom>
              <a:avLst/>
              <a:gdLst/>
              <a:ahLst/>
              <a:rect l="l" t="t" r="r" b="b"/>
              <a:pathLst>
                <a:path w="408" h="409">
                  <a:moveTo>
                    <a:pt x="68" y="91"/>
                  </a:moveTo>
                  <a:lnTo>
                    <a:pt x="136" y="46"/>
                  </a:lnTo>
                  <a:lnTo>
                    <a:pt x="159" y="68"/>
                  </a:lnTo>
                  <a:lnTo>
                    <a:pt x="204" y="68"/>
                  </a:lnTo>
                  <a:lnTo>
                    <a:pt x="250" y="0"/>
                  </a:lnTo>
                  <a:lnTo>
                    <a:pt x="318" y="23"/>
                  </a:lnTo>
                  <a:lnTo>
                    <a:pt x="408" y="136"/>
                  </a:lnTo>
                  <a:lnTo>
                    <a:pt x="363" y="182"/>
                  </a:lnTo>
                  <a:lnTo>
                    <a:pt x="386" y="227"/>
                  </a:lnTo>
                  <a:lnTo>
                    <a:pt x="340" y="250"/>
                  </a:lnTo>
                  <a:lnTo>
                    <a:pt x="340" y="340"/>
                  </a:lnTo>
                  <a:lnTo>
                    <a:pt x="295" y="363"/>
                  </a:lnTo>
                  <a:lnTo>
                    <a:pt x="204" y="363"/>
                  </a:lnTo>
                  <a:lnTo>
                    <a:pt x="136" y="409"/>
                  </a:lnTo>
                  <a:lnTo>
                    <a:pt x="91" y="409"/>
                  </a:lnTo>
                  <a:lnTo>
                    <a:pt x="68" y="363"/>
                  </a:lnTo>
                  <a:lnTo>
                    <a:pt x="0" y="340"/>
                  </a:lnTo>
                  <a:lnTo>
                    <a:pt x="0" y="318"/>
                  </a:lnTo>
                  <a:lnTo>
                    <a:pt x="68" y="227"/>
                  </a:lnTo>
                  <a:lnTo>
                    <a:pt x="23" y="182"/>
                  </a:lnTo>
                  <a:lnTo>
                    <a:pt x="23" y="159"/>
                  </a:lnTo>
                  <a:lnTo>
                    <a:pt x="68" y="136"/>
                  </a:lnTo>
                  <a:lnTo>
                    <a:pt x="68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26760" y="4734000"/>
              <a:ext cx="434880" cy="560520"/>
            </a:xfrm>
            <a:custGeom>
              <a:avLst/>
              <a:gdLst/>
              <a:ahLst/>
              <a:rect l="l" t="t" r="r" b="b"/>
              <a:pathLst>
                <a:path w="476" h="613">
                  <a:moveTo>
                    <a:pt x="317" y="0"/>
                  </a:moveTo>
                  <a:lnTo>
                    <a:pt x="317" y="46"/>
                  </a:lnTo>
                  <a:lnTo>
                    <a:pt x="385" y="91"/>
                  </a:lnTo>
                  <a:lnTo>
                    <a:pt x="385" y="46"/>
                  </a:lnTo>
                  <a:lnTo>
                    <a:pt x="408" y="23"/>
                  </a:lnTo>
                  <a:lnTo>
                    <a:pt x="431" y="68"/>
                  </a:lnTo>
                  <a:lnTo>
                    <a:pt x="453" y="91"/>
                  </a:lnTo>
                  <a:lnTo>
                    <a:pt x="476" y="91"/>
                  </a:lnTo>
                  <a:lnTo>
                    <a:pt x="385" y="227"/>
                  </a:lnTo>
                  <a:lnTo>
                    <a:pt x="363" y="295"/>
                  </a:lnTo>
                  <a:lnTo>
                    <a:pt x="340" y="318"/>
                  </a:lnTo>
                  <a:lnTo>
                    <a:pt x="317" y="386"/>
                  </a:lnTo>
                  <a:lnTo>
                    <a:pt x="340" y="499"/>
                  </a:lnTo>
                  <a:lnTo>
                    <a:pt x="385" y="613"/>
                  </a:lnTo>
                  <a:lnTo>
                    <a:pt x="340" y="567"/>
                  </a:lnTo>
                  <a:lnTo>
                    <a:pt x="295" y="477"/>
                  </a:lnTo>
                  <a:lnTo>
                    <a:pt x="181" y="477"/>
                  </a:lnTo>
                  <a:lnTo>
                    <a:pt x="136" y="477"/>
                  </a:lnTo>
                  <a:lnTo>
                    <a:pt x="91" y="431"/>
                  </a:lnTo>
                  <a:lnTo>
                    <a:pt x="0" y="318"/>
                  </a:lnTo>
                  <a:lnTo>
                    <a:pt x="0" y="273"/>
                  </a:lnTo>
                  <a:lnTo>
                    <a:pt x="45" y="273"/>
                  </a:lnTo>
                  <a:lnTo>
                    <a:pt x="113" y="227"/>
                  </a:lnTo>
                  <a:lnTo>
                    <a:pt x="204" y="227"/>
                  </a:lnTo>
                  <a:lnTo>
                    <a:pt x="249" y="204"/>
                  </a:lnTo>
                  <a:lnTo>
                    <a:pt x="249" y="114"/>
                  </a:lnTo>
                  <a:lnTo>
                    <a:pt x="295" y="91"/>
                  </a:lnTo>
                  <a:lnTo>
                    <a:pt x="272" y="46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20960" y="3220560"/>
              <a:ext cx="476280" cy="766800"/>
            </a:xfrm>
            <a:custGeom>
              <a:avLst/>
              <a:gdLst/>
              <a:ahLst/>
              <a:rect l="l" t="t" r="r" b="b"/>
              <a:pathLst>
                <a:path w="521" h="839">
                  <a:moveTo>
                    <a:pt x="159" y="0"/>
                  </a:moveTo>
                  <a:lnTo>
                    <a:pt x="204" y="68"/>
                  </a:lnTo>
                  <a:lnTo>
                    <a:pt x="136" y="181"/>
                  </a:lnTo>
                  <a:lnTo>
                    <a:pt x="68" y="227"/>
                  </a:lnTo>
                  <a:lnTo>
                    <a:pt x="22" y="227"/>
                  </a:lnTo>
                  <a:lnTo>
                    <a:pt x="22" y="272"/>
                  </a:lnTo>
                  <a:lnTo>
                    <a:pt x="45" y="272"/>
                  </a:lnTo>
                  <a:lnTo>
                    <a:pt x="68" y="249"/>
                  </a:lnTo>
                  <a:lnTo>
                    <a:pt x="136" y="295"/>
                  </a:lnTo>
                  <a:lnTo>
                    <a:pt x="113" y="431"/>
                  </a:lnTo>
                  <a:lnTo>
                    <a:pt x="45" y="567"/>
                  </a:lnTo>
                  <a:lnTo>
                    <a:pt x="22" y="589"/>
                  </a:lnTo>
                  <a:lnTo>
                    <a:pt x="0" y="635"/>
                  </a:lnTo>
                  <a:lnTo>
                    <a:pt x="45" y="635"/>
                  </a:lnTo>
                  <a:lnTo>
                    <a:pt x="159" y="725"/>
                  </a:lnTo>
                  <a:lnTo>
                    <a:pt x="159" y="771"/>
                  </a:lnTo>
                  <a:lnTo>
                    <a:pt x="204" y="839"/>
                  </a:lnTo>
                  <a:lnTo>
                    <a:pt x="295" y="794"/>
                  </a:lnTo>
                  <a:lnTo>
                    <a:pt x="317" y="657"/>
                  </a:lnTo>
                  <a:lnTo>
                    <a:pt x="295" y="567"/>
                  </a:lnTo>
                  <a:lnTo>
                    <a:pt x="408" y="431"/>
                  </a:lnTo>
                  <a:lnTo>
                    <a:pt x="431" y="340"/>
                  </a:lnTo>
                  <a:lnTo>
                    <a:pt x="453" y="317"/>
                  </a:lnTo>
                  <a:lnTo>
                    <a:pt x="453" y="249"/>
                  </a:lnTo>
                  <a:lnTo>
                    <a:pt x="499" y="204"/>
                  </a:lnTo>
                  <a:lnTo>
                    <a:pt x="521" y="204"/>
                  </a:lnTo>
                  <a:lnTo>
                    <a:pt x="499" y="181"/>
                  </a:lnTo>
                  <a:lnTo>
                    <a:pt x="521" y="136"/>
                  </a:lnTo>
                  <a:lnTo>
                    <a:pt x="499" y="68"/>
                  </a:lnTo>
                  <a:lnTo>
                    <a:pt x="408" y="90"/>
                  </a:lnTo>
                  <a:lnTo>
                    <a:pt x="363" y="45"/>
                  </a:lnTo>
                  <a:lnTo>
                    <a:pt x="272" y="6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36240" y="4028760"/>
              <a:ext cx="145080" cy="186120"/>
            </a:xfrm>
            <a:custGeom>
              <a:avLst/>
              <a:gdLst/>
              <a:ahLst/>
              <a:rect l="l" t="t" r="r" b="b"/>
              <a:pathLst>
                <a:path w="159" h="204">
                  <a:moveTo>
                    <a:pt x="159" y="0"/>
                  </a:moveTo>
                  <a:lnTo>
                    <a:pt x="68" y="23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46" y="114"/>
                  </a:lnTo>
                  <a:lnTo>
                    <a:pt x="46" y="136"/>
                  </a:lnTo>
                  <a:lnTo>
                    <a:pt x="23" y="159"/>
                  </a:lnTo>
                  <a:lnTo>
                    <a:pt x="0" y="204"/>
                  </a:lnTo>
                  <a:lnTo>
                    <a:pt x="91" y="182"/>
                  </a:lnTo>
                  <a:lnTo>
                    <a:pt x="136" y="136"/>
                  </a:lnTo>
                  <a:lnTo>
                    <a:pt x="136" y="114"/>
                  </a:lnTo>
                  <a:lnTo>
                    <a:pt x="91" y="114"/>
                  </a:lnTo>
                  <a:lnTo>
                    <a:pt x="91" y="91"/>
                  </a:lnTo>
                  <a:lnTo>
                    <a:pt x="136" y="46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14160" y="4443840"/>
              <a:ext cx="352080" cy="289800"/>
            </a:xfrm>
            <a:custGeom>
              <a:avLst/>
              <a:gdLst/>
              <a:ahLst/>
              <a:rect l="l" t="t" r="r" b="b"/>
              <a:pathLst>
                <a:path w="385" h="317">
                  <a:moveTo>
                    <a:pt x="159" y="0"/>
                  </a:moveTo>
                  <a:lnTo>
                    <a:pt x="113" y="45"/>
                  </a:lnTo>
                  <a:lnTo>
                    <a:pt x="136" y="113"/>
                  </a:lnTo>
                  <a:lnTo>
                    <a:pt x="249" y="136"/>
                  </a:lnTo>
                  <a:lnTo>
                    <a:pt x="272" y="68"/>
                  </a:lnTo>
                  <a:lnTo>
                    <a:pt x="385" y="68"/>
                  </a:lnTo>
                  <a:lnTo>
                    <a:pt x="385" y="181"/>
                  </a:lnTo>
                  <a:lnTo>
                    <a:pt x="363" y="249"/>
                  </a:lnTo>
                  <a:lnTo>
                    <a:pt x="272" y="317"/>
                  </a:lnTo>
                  <a:lnTo>
                    <a:pt x="204" y="272"/>
                  </a:lnTo>
                  <a:lnTo>
                    <a:pt x="136" y="272"/>
                  </a:lnTo>
                  <a:lnTo>
                    <a:pt x="68" y="295"/>
                  </a:lnTo>
                  <a:lnTo>
                    <a:pt x="0" y="249"/>
                  </a:lnTo>
                  <a:lnTo>
                    <a:pt x="23" y="136"/>
                  </a:lnTo>
                  <a:lnTo>
                    <a:pt x="68" y="45"/>
                  </a:lnTo>
                  <a:lnTo>
                    <a:pt x="113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18840" y="5812920"/>
              <a:ext cx="372960" cy="476280"/>
            </a:xfrm>
            <a:custGeom>
              <a:avLst/>
              <a:gdLst/>
              <a:ahLst/>
              <a:rect l="l" t="t" r="r" b="b"/>
              <a:pathLst>
                <a:path w="408" h="521">
                  <a:moveTo>
                    <a:pt x="0" y="295"/>
                  </a:moveTo>
                  <a:lnTo>
                    <a:pt x="22" y="363"/>
                  </a:lnTo>
                  <a:lnTo>
                    <a:pt x="90" y="408"/>
                  </a:lnTo>
                  <a:lnTo>
                    <a:pt x="113" y="431"/>
                  </a:lnTo>
                  <a:lnTo>
                    <a:pt x="136" y="431"/>
                  </a:lnTo>
                  <a:lnTo>
                    <a:pt x="158" y="408"/>
                  </a:lnTo>
                  <a:lnTo>
                    <a:pt x="136" y="385"/>
                  </a:lnTo>
                  <a:lnTo>
                    <a:pt x="136" y="340"/>
                  </a:lnTo>
                  <a:lnTo>
                    <a:pt x="113" y="317"/>
                  </a:lnTo>
                  <a:lnTo>
                    <a:pt x="181" y="226"/>
                  </a:lnTo>
                  <a:lnTo>
                    <a:pt x="204" y="204"/>
                  </a:lnTo>
                  <a:lnTo>
                    <a:pt x="249" y="226"/>
                  </a:lnTo>
                  <a:lnTo>
                    <a:pt x="272" y="249"/>
                  </a:lnTo>
                  <a:lnTo>
                    <a:pt x="226" y="295"/>
                  </a:lnTo>
                  <a:lnTo>
                    <a:pt x="204" y="295"/>
                  </a:lnTo>
                  <a:lnTo>
                    <a:pt x="204" y="340"/>
                  </a:lnTo>
                  <a:lnTo>
                    <a:pt x="226" y="408"/>
                  </a:lnTo>
                  <a:lnTo>
                    <a:pt x="181" y="453"/>
                  </a:lnTo>
                  <a:lnTo>
                    <a:pt x="136" y="521"/>
                  </a:lnTo>
                  <a:lnTo>
                    <a:pt x="204" y="499"/>
                  </a:lnTo>
                  <a:lnTo>
                    <a:pt x="249" y="499"/>
                  </a:lnTo>
                  <a:lnTo>
                    <a:pt x="294" y="453"/>
                  </a:lnTo>
                  <a:lnTo>
                    <a:pt x="317" y="453"/>
                  </a:lnTo>
                  <a:lnTo>
                    <a:pt x="317" y="431"/>
                  </a:lnTo>
                  <a:lnTo>
                    <a:pt x="294" y="385"/>
                  </a:lnTo>
                  <a:lnTo>
                    <a:pt x="340" y="340"/>
                  </a:lnTo>
                  <a:lnTo>
                    <a:pt x="362" y="363"/>
                  </a:lnTo>
                  <a:lnTo>
                    <a:pt x="408" y="317"/>
                  </a:lnTo>
                  <a:lnTo>
                    <a:pt x="385" y="295"/>
                  </a:lnTo>
                  <a:lnTo>
                    <a:pt x="340" y="272"/>
                  </a:lnTo>
                  <a:lnTo>
                    <a:pt x="340" y="204"/>
                  </a:lnTo>
                  <a:lnTo>
                    <a:pt x="317" y="181"/>
                  </a:lnTo>
                  <a:lnTo>
                    <a:pt x="294" y="113"/>
                  </a:lnTo>
                  <a:lnTo>
                    <a:pt x="249" y="22"/>
                  </a:lnTo>
                  <a:lnTo>
                    <a:pt x="158" y="0"/>
                  </a:lnTo>
                  <a:lnTo>
                    <a:pt x="68" y="0"/>
                  </a:lnTo>
                  <a:lnTo>
                    <a:pt x="90" y="45"/>
                  </a:lnTo>
                  <a:lnTo>
                    <a:pt x="90" y="68"/>
                  </a:lnTo>
                  <a:lnTo>
                    <a:pt x="90" y="113"/>
                  </a:lnTo>
                  <a:lnTo>
                    <a:pt x="45" y="158"/>
                  </a:lnTo>
                  <a:lnTo>
                    <a:pt x="90" y="226"/>
                  </a:lnTo>
                  <a:lnTo>
                    <a:pt x="68" y="295"/>
                  </a:lnTo>
                  <a:lnTo>
                    <a:pt x="45" y="317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67600" y="5626440"/>
              <a:ext cx="456120" cy="580680"/>
            </a:xfrm>
            <a:custGeom>
              <a:avLst/>
              <a:gdLst/>
              <a:ahLst/>
              <a:rect l="l" t="t" r="r" b="b"/>
              <a:pathLst>
                <a:path w="499" h="635">
                  <a:moveTo>
                    <a:pt x="0" y="272"/>
                  </a:moveTo>
                  <a:lnTo>
                    <a:pt x="22" y="317"/>
                  </a:lnTo>
                  <a:lnTo>
                    <a:pt x="45" y="385"/>
                  </a:lnTo>
                  <a:lnTo>
                    <a:pt x="68" y="408"/>
                  </a:lnTo>
                  <a:lnTo>
                    <a:pt x="68" y="476"/>
                  </a:lnTo>
                  <a:lnTo>
                    <a:pt x="113" y="499"/>
                  </a:lnTo>
                  <a:lnTo>
                    <a:pt x="136" y="521"/>
                  </a:lnTo>
                  <a:lnTo>
                    <a:pt x="90" y="567"/>
                  </a:lnTo>
                  <a:lnTo>
                    <a:pt x="113" y="589"/>
                  </a:lnTo>
                  <a:lnTo>
                    <a:pt x="136" y="635"/>
                  </a:lnTo>
                  <a:lnTo>
                    <a:pt x="181" y="589"/>
                  </a:lnTo>
                  <a:lnTo>
                    <a:pt x="181" y="544"/>
                  </a:lnTo>
                  <a:lnTo>
                    <a:pt x="204" y="521"/>
                  </a:lnTo>
                  <a:lnTo>
                    <a:pt x="249" y="476"/>
                  </a:lnTo>
                  <a:lnTo>
                    <a:pt x="227" y="430"/>
                  </a:lnTo>
                  <a:lnTo>
                    <a:pt x="385" y="204"/>
                  </a:lnTo>
                  <a:lnTo>
                    <a:pt x="408" y="181"/>
                  </a:lnTo>
                  <a:lnTo>
                    <a:pt x="408" y="158"/>
                  </a:lnTo>
                  <a:lnTo>
                    <a:pt x="476" y="90"/>
                  </a:lnTo>
                  <a:lnTo>
                    <a:pt x="499" y="68"/>
                  </a:lnTo>
                  <a:lnTo>
                    <a:pt x="453" y="45"/>
                  </a:lnTo>
                  <a:lnTo>
                    <a:pt x="408" y="68"/>
                  </a:lnTo>
                  <a:lnTo>
                    <a:pt x="363" y="45"/>
                  </a:lnTo>
                  <a:lnTo>
                    <a:pt x="363" y="22"/>
                  </a:lnTo>
                  <a:lnTo>
                    <a:pt x="317" y="22"/>
                  </a:lnTo>
                  <a:lnTo>
                    <a:pt x="272" y="0"/>
                  </a:lnTo>
                  <a:lnTo>
                    <a:pt x="204" y="90"/>
                  </a:lnTo>
                  <a:lnTo>
                    <a:pt x="136" y="113"/>
                  </a:lnTo>
                  <a:lnTo>
                    <a:pt x="158" y="181"/>
                  </a:lnTo>
                  <a:lnTo>
                    <a:pt x="136" y="226"/>
                  </a:lnTo>
                  <a:lnTo>
                    <a:pt x="136" y="294"/>
                  </a:lnTo>
                  <a:lnTo>
                    <a:pt x="68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932840" y="5314680"/>
              <a:ext cx="352800" cy="373680"/>
            </a:xfrm>
            <a:custGeom>
              <a:avLst/>
              <a:gdLst/>
              <a:ahLst/>
              <a:rect l="l" t="t" r="r" b="b"/>
              <a:pathLst>
                <a:path w="386" h="409">
                  <a:moveTo>
                    <a:pt x="159" y="0"/>
                  </a:moveTo>
                  <a:lnTo>
                    <a:pt x="136" y="46"/>
                  </a:lnTo>
                  <a:lnTo>
                    <a:pt x="68" y="23"/>
                  </a:lnTo>
                  <a:lnTo>
                    <a:pt x="0" y="91"/>
                  </a:lnTo>
                  <a:lnTo>
                    <a:pt x="0" y="159"/>
                  </a:lnTo>
                  <a:lnTo>
                    <a:pt x="46" y="182"/>
                  </a:lnTo>
                  <a:lnTo>
                    <a:pt x="91" y="182"/>
                  </a:lnTo>
                  <a:lnTo>
                    <a:pt x="91" y="227"/>
                  </a:lnTo>
                  <a:lnTo>
                    <a:pt x="114" y="273"/>
                  </a:lnTo>
                  <a:lnTo>
                    <a:pt x="91" y="318"/>
                  </a:lnTo>
                  <a:lnTo>
                    <a:pt x="136" y="363"/>
                  </a:lnTo>
                  <a:lnTo>
                    <a:pt x="182" y="363"/>
                  </a:lnTo>
                  <a:lnTo>
                    <a:pt x="182" y="386"/>
                  </a:lnTo>
                  <a:lnTo>
                    <a:pt x="227" y="409"/>
                  </a:lnTo>
                  <a:lnTo>
                    <a:pt x="272" y="386"/>
                  </a:lnTo>
                  <a:lnTo>
                    <a:pt x="318" y="409"/>
                  </a:lnTo>
                  <a:lnTo>
                    <a:pt x="363" y="409"/>
                  </a:lnTo>
                  <a:lnTo>
                    <a:pt x="386" y="363"/>
                  </a:lnTo>
                  <a:lnTo>
                    <a:pt x="340" y="341"/>
                  </a:lnTo>
                  <a:lnTo>
                    <a:pt x="386" y="295"/>
                  </a:lnTo>
                  <a:lnTo>
                    <a:pt x="340" y="295"/>
                  </a:lnTo>
                  <a:lnTo>
                    <a:pt x="318" y="273"/>
                  </a:lnTo>
                  <a:lnTo>
                    <a:pt x="386" y="227"/>
                  </a:lnTo>
                  <a:lnTo>
                    <a:pt x="295" y="204"/>
                  </a:lnTo>
                  <a:lnTo>
                    <a:pt x="250" y="204"/>
                  </a:lnTo>
                  <a:lnTo>
                    <a:pt x="227" y="159"/>
                  </a:lnTo>
                  <a:lnTo>
                    <a:pt x="250" y="114"/>
                  </a:lnTo>
                  <a:lnTo>
                    <a:pt x="272" y="136"/>
                  </a:lnTo>
                  <a:lnTo>
                    <a:pt x="295" y="136"/>
                  </a:lnTo>
                  <a:lnTo>
                    <a:pt x="340" y="114"/>
                  </a:lnTo>
                  <a:lnTo>
                    <a:pt x="363" y="68"/>
                  </a:lnTo>
                  <a:lnTo>
                    <a:pt x="340" y="23"/>
                  </a:lnTo>
                  <a:lnTo>
                    <a:pt x="295" y="0"/>
                  </a:lnTo>
                  <a:lnTo>
                    <a:pt x="250" y="46"/>
                  </a:lnTo>
                  <a:lnTo>
                    <a:pt x="204" y="46"/>
                  </a:lnTo>
                  <a:lnTo>
                    <a:pt x="182" y="23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63200" y="5438880"/>
              <a:ext cx="393840" cy="456120"/>
            </a:xfrm>
            <a:custGeom>
              <a:avLst/>
              <a:gdLst/>
              <a:ahLst/>
              <a:rect l="l" t="t" r="r" b="b"/>
              <a:pathLst>
                <a:path w="431" h="499">
                  <a:moveTo>
                    <a:pt x="114" y="46"/>
                  </a:moveTo>
                  <a:lnTo>
                    <a:pt x="227" y="0"/>
                  </a:lnTo>
                  <a:lnTo>
                    <a:pt x="318" y="114"/>
                  </a:lnTo>
                  <a:lnTo>
                    <a:pt x="341" y="68"/>
                  </a:lnTo>
                  <a:lnTo>
                    <a:pt x="341" y="46"/>
                  </a:lnTo>
                  <a:lnTo>
                    <a:pt x="386" y="46"/>
                  </a:lnTo>
                  <a:lnTo>
                    <a:pt x="386" y="68"/>
                  </a:lnTo>
                  <a:lnTo>
                    <a:pt x="386" y="91"/>
                  </a:lnTo>
                  <a:lnTo>
                    <a:pt x="409" y="137"/>
                  </a:lnTo>
                  <a:lnTo>
                    <a:pt x="386" y="182"/>
                  </a:lnTo>
                  <a:lnTo>
                    <a:pt x="431" y="227"/>
                  </a:lnTo>
                  <a:lnTo>
                    <a:pt x="386" y="205"/>
                  </a:lnTo>
                  <a:lnTo>
                    <a:pt x="318" y="295"/>
                  </a:lnTo>
                  <a:lnTo>
                    <a:pt x="250" y="318"/>
                  </a:lnTo>
                  <a:lnTo>
                    <a:pt x="272" y="386"/>
                  </a:lnTo>
                  <a:lnTo>
                    <a:pt x="250" y="431"/>
                  </a:lnTo>
                  <a:lnTo>
                    <a:pt x="250" y="499"/>
                  </a:lnTo>
                  <a:lnTo>
                    <a:pt x="182" y="477"/>
                  </a:lnTo>
                  <a:lnTo>
                    <a:pt x="114" y="477"/>
                  </a:lnTo>
                  <a:lnTo>
                    <a:pt x="91" y="431"/>
                  </a:lnTo>
                  <a:lnTo>
                    <a:pt x="0" y="409"/>
                  </a:lnTo>
                  <a:lnTo>
                    <a:pt x="68" y="341"/>
                  </a:lnTo>
                  <a:lnTo>
                    <a:pt x="114" y="318"/>
                  </a:lnTo>
                  <a:lnTo>
                    <a:pt x="114" y="273"/>
                  </a:lnTo>
                  <a:lnTo>
                    <a:pt x="182" y="250"/>
                  </a:lnTo>
                  <a:lnTo>
                    <a:pt x="159" y="227"/>
                  </a:lnTo>
                  <a:lnTo>
                    <a:pt x="91" y="227"/>
                  </a:lnTo>
                  <a:lnTo>
                    <a:pt x="159" y="205"/>
                  </a:lnTo>
                  <a:lnTo>
                    <a:pt x="159" y="137"/>
                  </a:lnTo>
                  <a:lnTo>
                    <a:pt x="136" y="137"/>
                  </a:lnTo>
                  <a:lnTo>
                    <a:pt x="136" y="114"/>
                  </a:lnTo>
                  <a:lnTo>
                    <a:pt x="114" y="91"/>
                  </a:lnTo>
                  <a:lnTo>
                    <a:pt x="136" y="46"/>
                  </a:lnTo>
                  <a:lnTo>
                    <a:pt x="114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05320" y="5149080"/>
              <a:ext cx="372960" cy="393840"/>
            </a:xfrm>
            <a:custGeom>
              <a:avLst/>
              <a:gdLst/>
              <a:ahLst/>
              <a:rect l="l" t="t" r="r" b="b"/>
              <a:pathLst>
                <a:path w="408" h="431">
                  <a:moveTo>
                    <a:pt x="363" y="23"/>
                  </a:moveTo>
                  <a:lnTo>
                    <a:pt x="340" y="45"/>
                  </a:lnTo>
                  <a:lnTo>
                    <a:pt x="317" y="0"/>
                  </a:lnTo>
                  <a:lnTo>
                    <a:pt x="272" y="0"/>
                  </a:lnTo>
                  <a:lnTo>
                    <a:pt x="249" y="23"/>
                  </a:lnTo>
                  <a:lnTo>
                    <a:pt x="204" y="23"/>
                  </a:lnTo>
                  <a:lnTo>
                    <a:pt x="158" y="45"/>
                  </a:lnTo>
                  <a:lnTo>
                    <a:pt x="158" y="68"/>
                  </a:lnTo>
                  <a:lnTo>
                    <a:pt x="136" y="91"/>
                  </a:lnTo>
                  <a:lnTo>
                    <a:pt x="136" y="113"/>
                  </a:lnTo>
                  <a:lnTo>
                    <a:pt x="90" y="113"/>
                  </a:lnTo>
                  <a:lnTo>
                    <a:pt x="68" y="91"/>
                  </a:lnTo>
                  <a:lnTo>
                    <a:pt x="22" y="113"/>
                  </a:lnTo>
                  <a:lnTo>
                    <a:pt x="45" y="136"/>
                  </a:lnTo>
                  <a:lnTo>
                    <a:pt x="0" y="136"/>
                  </a:lnTo>
                  <a:lnTo>
                    <a:pt x="68" y="159"/>
                  </a:lnTo>
                  <a:lnTo>
                    <a:pt x="90" y="204"/>
                  </a:lnTo>
                  <a:lnTo>
                    <a:pt x="158" y="204"/>
                  </a:lnTo>
                  <a:lnTo>
                    <a:pt x="136" y="249"/>
                  </a:lnTo>
                  <a:lnTo>
                    <a:pt x="45" y="295"/>
                  </a:lnTo>
                  <a:lnTo>
                    <a:pt x="68" y="317"/>
                  </a:lnTo>
                  <a:lnTo>
                    <a:pt x="68" y="363"/>
                  </a:lnTo>
                  <a:lnTo>
                    <a:pt x="181" y="317"/>
                  </a:lnTo>
                  <a:lnTo>
                    <a:pt x="272" y="431"/>
                  </a:lnTo>
                  <a:lnTo>
                    <a:pt x="295" y="385"/>
                  </a:lnTo>
                  <a:lnTo>
                    <a:pt x="295" y="363"/>
                  </a:lnTo>
                  <a:lnTo>
                    <a:pt x="249" y="340"/>
                  </a:lnTo>
                  <a:lnTo>
                    <a:pt x="249" y="272"/>
                  </a:lnTo>
                  <a:lnTo>
                    <a:pt x="317" y="204"/>
                  </a:lnTo>
                  <a:lnTo>
                    <a:pt x="385" y="227"/>
                  </a:lnTo>
                  <a:lnTo>
                    <a:pt x="408" y="181"/>
                  </a:lnTo>
                  <a:lnTo>
                    <a:pt x="363" y="159"/>
                  </a:lnTo>
                  <a:lnTo>
                    <a:pt x="363" y="136"/>
                  </a:lnTo>
                  <a:lnTo>
                    <a:pt x="340" y="113"/>
                  </a:lnTo>
                  <a:lnTo>
                    <a:pt x="363" y="91"/>
                  </a:lnTo>
                  <a:lnTo>
                    <a:pt x="340" y="68"/>
                  </a:lnTo>
                  <a:lnTo>
                    <a:pt x="385" y="23"/>
                  </a:lnTo>
                  <a:lnTo>
                    <a:pt x="363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80760" y="5232240"/>
              <a:ext cx="268920" cy="268560"/>
            </a:xfrm>
            <a:custGeom>
              <a:avLst/>
              <a:gdLst/>
              <a:ahLst/>
              <a:rect l="l" t="t" r="r" b="b"/>
              <a:pathLst>
                <a:path w="294" h="294">
                  <a:moveTo>
                    <a:pt x="22" y="90"/>
                  </a:moveTo>
                  <a:lnTo>
                    <a:pt x="0" y="136"/>
                  </a:lnTo>
                  <a:lnTo>
                    <a:pt x="68" y="181"/>
                  </a:lnTo>
                  <a:lnTo>
                    <a:pt x="68" y="249"/>
                  </a:lnTo>
                  <a:lnTo>
                    <a:pt x="113" y="294"/>
                  </a:lnTo>
                  <a:lnTo>
                    <a:pt x="113" y="204"/>
                  </a:lnTo>
                  <a:lnTo>
                    <a:pt x="158" y="181"/>
                  </a:lnTo>
                  <a:lnTo>
                    <a:pt x="181" y="204"/>
                  </a:lnTo>
                  <a:lnTo>
                    <a:pt x="272" y="158"/>
                  </a:lnTo>
                  <a:lnTo>
                    <a:pt x="294" y="112"/>
                  </a:lnTo>
                  <a:lnTo>
                    <a:pt x="226" y="113"/>
                  </a:lnTo>
                  <a:lnTo>
                    <a:pt x="204" y="68"/>
                  </a:lnTo>
                  <a:lnTo>
                    <a:pt x="136" y="45"/>
                  </a:lnTo>
                  <a:lnTo>
                    <a:pt x="113" y="68"/>
                  </a:lnTo>
                  <a:lnTo>
                    <a:pt x="90" y="45"/>
                  </a:lnTo>
                  <a:lnTo>
                    <a:pt x="90" y="22"/>
                  </a:lnTo>
                  <a:lnTo>
                    <a:pt x="68" y="0"/>
                  </a:lnTo>
                  <a:lnTo>
                    <a:pt x="45" y="22"/>
                  </a:lnTo>
                  <a:lnTo>
                    <a:pt x="22" y="45"/>
                  </a:lnTo>
                  <a:lnTo>
                    <a:pt x="68" y="68"/>
                  </a:lnTo>
                  <a:lnTo>
                    <a:pt x="45" y="90"/>
                  </a:lnTo>
                  <a:lnTo>
                    <a:pt x="45" y="113"/>
                  </a:lnTo>
                  <a:lnTo>
                    <a:pt x="22" y="113"/>
                  </a:lnTo>
                  <a:lnTo>
                    <a:pt x="22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006800" y="4236480"/>
              <a:ext cx="497160" cy="559440"/>
            </a:xfrm>
            <a:custGeom>
              <a:avLst/>
              <a:gdLst/>
              <a:ahLst/>
              <a:rect l="l" t="t" r="r" b="b"/>
              <a:pathLst>
                <a:path w="544" h="612">
                  <a:moveTo>
                    <a:pt x="386" y="227"/>
                  </a:moveTo>
                  <a:lnTo>
                    <a:pt x="340" y="227"/>
                  </a:lnTo>
                  <a:lnTo>
                    <a:pt x="295" y="272"/>
                  </a:lnTo>
                  <a:lnTo>
                    <a:pt x="250" y="363"/>
                  </a:lnTo>
                  <a:lnTo>
                    <a:pt x="227" y="476"/>
                  </a:lnTo>
                  <a:lnTo>
                    <a:pt x="204" y="522"/>
                  </a:lnTo>
                  <a:lnTo>
                    <a:pt x="227" y="544"/>
                  </a:lnTo>
                  <a:lnTo>
                    <a:pt x="159" y="612"/>
                  </a:lnTo>
                  <a:lnTo>
                    <a:pt x="114" y="612"/>
                  </a:lnTo>
                  <a:lnTo>
                    <a:pt x="114" y="567"/>
                  </a:lnTo>
                  <a:lnTo>
                    <a:pt x="45" y="544"/>
                  </a:lnTo>
                  <a:lnTo>
                    <a:pt x="0" y="476"/>
                  </a:lnTo>
                  <a:lnTo>
                    <a:pt x="23" y="454"/>
                  </a:lnTo>
                  <a:lnTo>
                    <a:pt x="68" y="454"/>
                  </a:lnTo>
                  <a:lnTo>
                    <a:pt x="159" y="386"/>
                  </a:lnTo>
                  <a:lnTo>
                    <a:pt x="250" y="295"/>
                  </a:lnTo>
                  <a:lnTo>
                    <a:pt x="272" y="227"/>
                  </a:lnTo>
                  <a:lnTo>
                    <a:pt x="295" y="204"/>
                  </a:lnTo>
                  <a:lnTo>
                    <a:pt x="272" y="181"/>
                  </a:lnTo>
                  <a:lnTo>
                    <a:pt x="295" y="136"/>
                  </a:lnTo>
                  <a:lnTo>
                    <a:pt x="272" y="113"/>
                  </a:lnTo>
                  <a:lnTo>
                    <a:pt x="295" y="68"/>
                  </a:lnTo>
                  <a:lnTo>
                    <a:pt x="318" y="45"/>
                  </a:lnTo>
                  <a:lnTo>
                    <a:pt x="363" y="23"/>
                  </a:lnTo>
                  <a:lnTo>
                    <a:pt x="386" y="45"/>
                  </a:lnTo>
                  <a:lnTo>
                    <a:pt x="454" y="23"/>
                  </a:lnTo>
                  <a:lnTo>
                    <a:pt x="544" y="0"/>
                  </a:lnTo>
                  <a:lnTo>
                    <a:pt x="544" y="45"/>
                  </a:lnTo>
                  <a:lnTo>
                    <a:pt x="499" y="45"/>
                  </a:lnTo>
                  <a:lnTo>
                    <a:pt x="476" y="68"/>
                  </a:lnTo>
                  <a:lnTo>
                    <a:pt x="476" y="113"/>
                  </a:lnTo>
                  <a:lnTo>
                    <a:pt x="431" y="91"/>
                  </a:lnTo>
                  <a:lnTo>
                    <a:pt x="386" y="136"/>
                  </a:lnTo>
                  <a:lnTo>
                    <a:pt x="363" y="113"/>
                  </a:lnTo>
                  <a:lnTo>
                    <a:pt x="318" y="136"/>
                  </a:lnTo>
                  <a:lnTo>
                    <a:pt x="340" y="159"/>
                  </a:lnTo>
                  <a:lnTo>
                    <a:pt x="318" y="181"/>
                  </a:lnTo>
                  <a:lnTo>
                    <a:pt x="340" y="181"/>
                  </a:lnTo>
                  <a:lnTo>
                    <a:pt x="363" y="204"/>
                  </a:lnTo>
                  <a:lnTo>
                    <a:pt x="386" y="204"/>
                  </a:lnTo>
                  <a:lnTo>
                    <a:pt x="386" y="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39000" y="5646600"/>
              <a:ext cx="186120" cy="124200"/>
            </a:xfrm>
            <a:custGeom>
              <a:avLst/>
              <a:gdLst/>
              <a:ahLst/>
              <a:rect l="l" t="t" r="r" b="b"/>
              <a:pathLst>
                <a:path w="204" h="136">
                  <a:moveTo>
                    <a:pt x="91" y="46"/>
                  </a:moveTo>
                  <a:lnTo>
                    <a:pt x="159" y="23"/>
                  </a:lnTo>
                  <a:lnTo>
                    <a:pt x="204" y="46"/>
                  </a:lnTo>
                  <a:lnTo>
                    <a:pt x="182" y="91"/>
                  </a:lnTo>
                  <a:lnTo>
                    <a:pt x="159" y="68"/>
                  </a:lnTo>
                  <a:lnTo>
                    <a:pt x="114" y="68"/>
                  </a:lnTo>
                  <a:lnTo>
                    <a:pt x="91" y="91"/>
                  </a:lnTo>
                  <a:lnTo>
                    <a:pt x="23" y="136"/>
                  </a:lnTo>
                  <a:lnTo>
                    <a:pt x="0" y="114"/>
                  </a:lnTo>
                  <a:lnTo>
                    <a:pt x="23" y="91"/>
                  </a:lnTo>
                  <a:lnTo>
                    <a:pt x="0" y="68"/>
                  </a:lnTo>
                  <a:lnTo>
                    <a:pt x="68" y="0"/>
                  </a:lnTo>
                  <a:lnTo>
                    <a:pt x="114" y="0"/>
                  </a:lnTo>
                  <a:lnTo>
                    <a:pt x="9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97600" y="5273280"/>
              <a:ext cx="227520" cy="353160"/>
            </a:xfrm>
            <a:custGeom>
              <a:avLst/>
              <a:gdLst/>
              <a:ahLst/>
              <a:rect l="l" t="t" r="r" b="b"/>
              <a:pathLst>
                <a:path w="249" h="386">
                  <a:moveTo>
                    <a:pt x="204" y="249"/>
                  </a:moveTo>
                  <a:lnTo>
                    <a:pt x="159" y="204"/>
                  </a:lnTo>
                  <a:lnTo>
                    <a:pt x="159" y="136"/>
                  </a:lnTo>
                  <a:lnTo>
                    <a:pt x="91" y="91"/>
                  </a:lnTo>
                  <a:lnTo>
                    <a:pt x="113" y="45"/>
                  </a:lnTo>
                  <a:lnTo>
                    <a:pt x="91" y="23"/>
                  </a:lnTo>
                  <a:lnTo>
                    <a:pt x="68" y="23"/>
                  </a:lnTo>
                  <a:lnTo>
                    <a:pt x="23" y="0"/>
                  </a:lnTo>
                  <a:lnTo>
                    <a:pt x="23" y="23"/>
                  </a:lnTo>
                  <a:lnTo>
                    <a:pt x="45" y="45"/>
                  </a:lnTo>
                  <a:lnTo>
                    <a:pt x="23" y="68"/>
                  </a:lnTo>
                  <a:lnTo>
                    <a:pt x="45" y="113"/>
                  </a:lnTo>
                  <a:lnTo>
                    <a:pt x="91" y="113"/>
                  </a:lnTo>
                  <a:lnTo>
                    <a:pt x="68" y="136"/>
                  </a:lnTo>
                  <a:lnTo>
                    <a:pt x="113" y="159"/>
                  </a:lnTo>
                  <a:lnTo>
                    <a:pt x="136" y="204"/>
                  </a:lnTo>
                  <a:lnTo>
                    <a:pt x="113" y="227"/>
                  </a:lnTo>
                  <a:lnTo>
                    <a:pt x="136" y="272"/>
                  </a:lnTo>
                  <a:lnTo>
                    <a:pt x="113" y="272"/>
                  </a:lnTo>
                  <a:lnTo>
                    <a:pt x="91" y="249"/>
                  </a:lnTo>
                  <a:lnTo>
                    <a:pt x="68" y="272"/>
                  </a:lnTo>
                  <a:lnTo>
                    <a:pt x="45" y="227"/>
                  </a:lnTo>
                  <a:lnTo>
                    <a:pt x="68" y="204"/>
                  </a:lnTo>
                  <a:lnTo>
                    <a:pt x="68" y="181"/>
                  </a:lnTo>
                  <a:lnTo>
                    <a:pt x="45" y="181"/>
                  </a:lnTo>
                  <a:lnTo>
                    <a:pt x="68" y="159"/>
                  </a:lnTo>
                  <a:lnTo>
                    <a:pt x="45" y="136"/>
                  </a:lnTo>
                  <a:lnTo>
                    <a:pt x="0" y="204"/>
                  </a:lnTo>
                  <a:lnTo>
                    <a:pt x="23" y="249"/>
                  </a:lnTo>
                  <a:lnTo>
                    <a:pt x="45" y="249"/>
                  </a:lnTo>
                  <a:lnTo>
                    <a:pt x="45" y="295"/>
                  </a:lnTo>
                  <a:lnTo>
                    <a:pt x="68" y="318"/>
                  </a:lnTo>
                  <a:lnTo>
                    <a:pt x="23" y="363"/>
                  </a:lnTo>
                  <a:lnTo>
                    <a:pt x="68" y="340"/>
                  </a:lnTo>
                  <a:lnTo>
                    <a:pt x="91" y="295"/>
                  </a:lnTo>
                  <a:lnTo>
                    <a:pt x="113" y="318"/>
                  </a:lnTo>
                  <a:lnTo>
                    <a:pt x="159" y="295"/>
                  </a:lnTo>
                  <a:lnTo>
                    <a:pt x="181" y="318"/>
                  </a:lnTo>
                  <a:lnTo>
                    <a:pt x="181" y="340"/>
                  </a:lnTo>
                  <a:lnTo>
                    <a:pt x="159" y="363"/>
                  </a:lnTo>
                  <a:lnTo>
                    <a:pt x="181" y="386"/>
                  </a:lnTo>
                  <a:lnTo>
                    <a:pt x="204" y="363"/>
                  </a:lnTo>
                  <a:lnTo>
                    <a:pt x="227" y="363"/>
                  </a:lnTo>
                  <a:lnTo>
                    <a:pt x="249" y="318"/>
                  </a:lnTo>
                  <a:lnTo>
                    <a:pt x="249" y="272"/>
                  </a:lnTo>
                  <a:lnTo>
                    <a:pt x="227" y="295"/>
                  </a:lnTo>
                  <a:lnTo>
                    <a:pt x="181" y="295"/>
                  </a:lnTo>
                  <a:lnTo>
                    <a:pt x="159" y="272"/>
                  </a:lnTo>
                  <a:lnTo>
                    <a:pt x="204" y="2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51240" y="5273280"/>
              <a:ext cx="497160" cy="435240"/>
            </a:xfrm>
            <a:custGeom>
              <a:avLst/>
              <a:gdLst/>
              <a:ahLst/>
              <a:rect l="l" t="t" r="r" b="b"/>
              <a:pathLst>
                <a:path w="544" h="476">
                  <a:moveTo>
                    <a:pt x="295" y="0"/>
                  </a:moveTo>
                  <a:lnTo>
                    <a:pt x="204" y="23"/>
                  </a:lnTo>
                  <a:lnTo>
                    <a:pt x="204" y="68"/>
                  </a:lnTo>
                  <a:lnTo>
                    <a:pt x="159" y="91"/>
                  </a:lnTo>
                  <a:lnTo>
                    <a:pt x="159" y="136"/>
                  </a:lnTo>
                  <a:lnTo>
                    <a:pt x="114" y="159"/>
                  </a:lnTo>
                  <a:lnTo>
                    <a:pt x="46" y="181"/>
                  </a:lnTo>
                  <a:lnTo>
                    <a:pt x="0" y="204"/>
                  </a:lnTo>
                  <a:lnTo>
                    <a:pt x="23" y="227"/>
                  </a:lnTo>
                  <a:lnTo>
                    <a:pt x="0" y="272"/>
                  </a:lnTo>
                  <a:lnTo>
                    <a:pt x="46" y="295"/>
                  </a:lnTo>
                  <a:lnTo>
                    <a:pt x="46" y="318"/>
                  </a:lnTo>
                  <a:lnTo>
                    <a:pt x="0" y="363"/>
                  </a:lnTo>
                  <a:lnTo>
                    <a:pt x="0" y="408"/>
                  </a:lnTo>
                  <a:lnTo>
                    <a:pt x="23" y="476"/>
                  </a:lnTo>
                  <a:lnTo>
                    <a:pt x="46" y="476"/>
                  </a:lnTo>
                  <a:lnTo>
                    <a:pt x="68" y="408"/>
                  </a:lnTo>
                  <a:lnTo>
                    <a:pt x="91" y="386"/>
                  </a:lnTo>
                  <a:lnTo>
                    <a:pt x="136" y="340"/>
                  </a:lnTo>
                  <a:lnTo>
                    <a:pt x="182" y="340"/>
                  </a:lnTo>
                  <a:lnTo>
                    <a:pt x="159" y="249"/>
                  </a:lnTo>
                  <a:lnTo>
                    <a:pt x="250" y="272"/>
                  </a:lnTo>
                  <a:lnTo>
                    <a:pt x="295" y="181"/>
                  </a:lnTo>
                  <a:lnTo>
                    <a:pt x="363" y="136"/>
                  </a:lnTo>
                  <a:lnTo>
                    <a:pt x="431" y="159"/>
                  </a:lnTo>
                  <a:lnTo>
                    <a:pt x="476" y="159"/>
                  </a:lnTo>
                  <a:lnTo>
                    <a:pt x="499" y="159"/>
                  </a:lnTo>
                  <a:lnTo>
                    <a:pt x="544" y="113"/>
                  </a:lnTo>
                  <a:lnTo>
                    <a:pt x="522" y="68"/>
                  </a:lnTo>
                  <a:lnTo>
                    <a:pt x="454" y="113"/>
                  </a:lnTo>
                  <a:lnTo>
                    <a:pt x="408" y="91"/>
                  </a:lnTo>
                  <a:lnTo>
                    <a:pt x="318" y="91"/>
                  </a:lnTo>
                  <a:lnTo>
                    <a:pt x="295" y="45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472480" y="5397840"/>
              <a:ext cx="621720" cy="394200"/>
            </a:xfrm>
            <a:custGeom>
              <a:avLst/>
              <a:gdLst/>
              <a:ahLst/>
              <a:rect l="l" t="t" r="r" b="b"/>
              <a:pathLst>
                <a:path w="680" h="431">
                  <a:moveTo>
                    <a:pt x="567" y="68"/>
                  </a:moveTo>
                  <a:lnTo>
                    <a:pt x="544" y="45"/>
                  </a:lnTo>
                  <a:lnTo>
                    <a:pt x="499" y="45"/>
                  </a:lnTo>
                  <a:lnTo>
                    <a:pt x="476" y="23"/>
                  </a:lnTo>
                  <a:lnTo>
                    <a:pt x="408" y="23"/>
                  </a:lnTo>
                  <a:lnTo>
                    <a:pt x="340" y="0"/>
                  </a:lnTo>
                  <a:lnTo>
                    <a:pt x="272" y="45"/>
                  </a:lnTo>
                  <a:lnTo>
                    <a:pt x="227" y="136"/>
                  </a:lnTo>
                  <a:lnTo>
                    <a:pt x="136" y="113"/>
                  </a:lnTo>
                  <a:lnTo>
                    <a:pt x="159" y="204"/>
                  </a:lnTo>
                  <a:lnTo>
                    <a:pt x="113" y="204"/>
                  </a:lnTo>
                  <a:lnTo>
                    <a:pt x="45" y="272"/>
                  </a:lnTo>
                  <a:lnTo>
                    <a:pt x="23" y="340"/>
                  </a:lnTo>
                  <a:lnTo>
                    <a:pt x="45" y="363"/>
                  </a:lnTo>
                  <a:lnTo>
                    <a:pt x="0" y="386"/>
                  </a:lnTo>
                  <a:lnTo>
                    <a:pt x="45" y="408"/>
                  </a:lnTo>
                  <a:lnTo>
                    <a:pt x="68" y="408"/>
                  </a:lnTo>
                  <a:lnTo>
                    <a:pt x="113" y="431"/>
                  </a:lnTo>
                  <a:lnTo>
                    <a:pt x="113" y="386"/>
                  </a:lnTo>
                  <a:lnTo>
                    <a:pt x="136" y="386"/>
                  </a:lnTo>
                  <a:lnTo>
                    <a:pt x="136" y="340"/>
                  </a:lnTo>
                  <a:lnTo>
                    <a:pt x="159" y="318"/>
                  </a:lnTo>
                  <a:lnTo>
                    <a:pt x="181" y="340"/>
                  </a:lnTo>
                  <a:lnTo>
                    <a:pt x="272" y="250"/>
                  </a:lnTo>
                  <a:lnTo>
                    <a:pt x="272" y="227"/>
                  </a:lnTo>
                  <a:lnTo>
                    <a:pt x="295" y="204"/>
                  </a:lnTo>
                  <a:lnTo>
                    <a:pt x="363" y="204"/>
                  </a:lnTo>
                  <a:lnTo>
                    <a:pt x="385" y="182"/>
                  </a:lnTo>
                  <a:lnTo>
                    <a:pt x="476" y="159"/>
                  </a:lnTo>
                  <a:lnTo>
                    <a:pt x="498" y="191"/>
                  </a:lnTo>
                  <a:lnTo>
                    <a:pt x="548" y="211"/>
                  </a:lnTo>
                  <a:lnTo>
                    <a:pt x="567" y="250"/>
                  </a:lnTo>
                  <a:lnTo>
                    <a:pt x="600" y="337"/>
                  </a:lnTo>
                  <a:lnTo>
                    <a:pt x="658" y="250"/>
                  </a:lnTo>
                  <a:lnTo>
                    <a:pt x="680" y="227"/>
                  </a:lnTo>
                  <a:lnTo>
                    <a:pt x="635" y="204"/>
                  </a:lnTo>
                  <a:lnTo>
                    <a:pt x="635" y="182"/>
                  </a:lnTo>
                  <a:lnTo>
                    <a:pt x="658" y="159"/>
                  </a:lnTo>
                  <a:lnTo>
                    <a:pt x="612" y="136"/>
                  </a:lnTo>
                  <a:lnTo>
                    <a:pt x="612" y="91"/>
                  </a:lnTo>
                  <a:lnTo>
                    <a:pt x="567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928600" y="5252400"/>
              <a:ext cx="289800" cy="124200"/>
            </a:xfrm>
            <a:custGeom>
              <a:avLst/>
              <a:gdLst/>
              <a:ahLst/>
              <a:rect l="l" t="t" r="r" b="b"/>
              <a:pathLst>
                <a:path w="317" h="136">
                  <a:moveTo>
                    <a:pt x="0" y="91"/>
                  </a:moveTo>
                  <a:lnTo>
                    <a:pt x="22" y="136"/>
                  </a:lnTo>
                  <a:lnTo>
                    <a:pt x="68" y="91"/>
                  </a:lnTo>
                  <a:lnTo>
                    <a:pt x="136" y="136"/>
                  </a:lnTo>
                  <a:lnTo>
                    <a:pt x="204" y="114"/>
                  </a:lnTo>
                  <a:lnTo>
                    <a:pt x="249" y="114"/>
                  </a:lnTo>
                  <a:lnTo>
                    <a:pt x="295" y="136"/>
                  </a:lnTo>
                  <a:lnTo>
                    <a:pt x="317" y="114"/>
                  </a:lnTo>
                  <a:lnTo>
                    <a:pt x="272" y="91"/>
                  </a:lnTo>
                  <a:lnTo>
                    <a:pt x="227" y="46"/>
                  </a:lnTo>
                  <a:lnTo>
                    <a:pt x="204" y="0"/>
                  </a:lnTo>
                  <a:lnTo>
                    <a:pt x="181" y="23"/>
                  </a:lnTo>
                  <a:lnTo>
                    <a:pt x="136" y="0"/>
                  </a:lnTo>
                  <a:lnTo>
                    <a:pt x="66" y="18"/>
                  </a:lnTo>
                  <a:lnTo>
                    <a:pt x="48" y="36"/>
                  </a:lnTo>
                  <a:lnTo>
                    <a:pt x="11" y="17"/>
                  </a:lnTo>
                  <a:lnTo>
                    <a:pt x="20" y="5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907720" y="5335560"/>
              <a:ext cx="352800" cy="269640"/>
            </a:xfrm>
            <a:custGeom>
              <a:avLst/>
              <a:gdLst/>
              <a:ahLst/>
              <a:rect l="l" t="t" r="r" b="b"/>
              <a:pathLst>
                <a:path w="386" h="295">
                  <a:moveTo>
                    <a:pt x="340" y="23"/>
                  </a:moveTo>
                  <a:lnTo>
                    <a:pt x="318" y="45"/>
                  </a:lnTo>
                  <a:lnTo>
                    <a:pt x="272" y="23"/>
                  </a:lnTo>
                  <a:lnTo>
                    <a:pt x="227" y="23"/>
                  </a:lnTo>
                  <a:lnTo>
                    <a:pt x="159" y="45"/>
                  </a:lnTo>
                  <a:lnTo>
                    <a:pt x="91" y="0"/>
                  </a:lnTo>
                  <a:lnTo>
                    <a:pt x="0" y="91"/>
                  </a:lnTo>
                  <a:lnTo>
                    <a:pt x="23" y="113"/>
                  </a:lnTo>
                  <a:lnTo>
                    <a:pt x="68" y="113"/>
                  </a:lnTo>
                  <a:lnTo>
                    <a:pt x="91" y="136"/>
                  </a:lnTo>
                  <a:lnTo>
                    <a:pt x="136" y="159"/>
                  </a:lnTo>
                  <a:lnTo>
                    <a:pt x="136" y="204"/>
                  </a:lnTo>
                  <a:lnTo>
                    <a:pt x="182" y="227"/>
                  </a:lnTo>
                  <a:lnTo>
                    <a:pt x="159" y="250"/>
                  </a:lnTo>
                  <a:lnTo>
                    <a:pt x="159" y="272"/>
                  </a:lnTo>
                  <a:lnTo>
                    <a:pt x="204" y="295"/>
                  </a:lnTo>
                  <a:lnTo>
                    <a:pt x="227" y="272"/>
                  </a:lnTo>
                  <a:lnTo>
                    <a:pt x="250" y="250"/>
                  </a:lnTo>
                  <a:lnTo>
                    <a:pt x="295" y="250"/>
                  </a:lnTo>
                  <a:lnTo>
                    <a:pt x="340" y="204"/>
                  </a:lnTo>
                  <a:lnTo>
                    <a:pt x="363" y="204"/>
                  </a:lnTo>
                  <a:lnTo>
                    <a:pt x="363" y="181"/>
                  </a:lnTo>
                  <a:lnTo>
                    <a:pt x="386" y="159"/>
                  </a:lnTo>
                  <a:lnTo>
                    <a:pt x="340" y="113"/>
                  </a:lnTo>
                  <a:lnTo>
                    <a:pt x="363" y="68"/>
                  </a:lnTo>
                  <a:lnTo>
                    <a:pt x="386" y="45"/>
                  </a:lnTo>
                  <a:lnTo>
                    <a:pt x="363" y="23"/>
                  </a:lnTo>
                  <a:lnTo>
                    <a:pt x="34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280680" y="5252400"/>
              <a:ext cx="145080" cy="14508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59" y="0"/>
                  </a:moveTo>
                  <a:lnTo>
                    <a:pt x="91" y="23"/>
                  </a:lnTo>
                  <a:lnTo>
                    <a:pt x="23" y="91"/>
                  </a:lnTo>
                  <a:lnTo>
                    <a:pt x="0" y="91"/>
                  </a:lnTo>
                  <a:lnTo>
                    <a:pt x="23" y="136"/>
                  </a:lnTo>
                  <a:lnTo>
                    <a:pt x="46" y="159"/>
                  </a:lnTo>
                  <a:lnTo>
                    <a:pt x="68" y="136"/>
                  </a:lnTo>
                  <a:lnTo>
                    <a:pt x="91" y="136"/>
                  </a:lnTo>
                  <a:lnTo>
                    <a:pt x="114" y="114"/>
                  </a:lnTo>
                  <a:lnTo>
                    <a:pt x="91" y="91"/>
                  </a:lnTo>
                  <a:lnTo>
                    <a:pt x="114" y="46"/>
                  </a:lnTo>
                  <a:lnTo>
                    <a:pt x="159" y="23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037240" y="4941360"/>
              <a:ext cx="434880" cy="352800"/>
            </a:xfrm>
            <a:custGeom>
              <a:avLst/>
              <a:gdLst/>
              <a:ahLst/>
              <a:rect l="l" t="t" r="r" b="b"/>
              <a:pathLst>
                <a:path w="476" h="386">
                  <a:moveTo>
                    <a:pt x="340" y="0"/>
                  </a:moveTo>
                  <a:lnTo>
                    <a:pt x="317" y="0"/>
                  </a:lnTo>
                  <a:lnTo>
                    <a:pt x="294" y="46"/>
                  </a:lnTo>
                  <a:lnTo>
                    <a:pt x="249" y="46"/>
                  </a:lnTo>
                  <a:lnTo>
                    <a:pt x="226" y="91"/>
                  </a:lnTo>
                  <a:lnTo>
                    <a:pt x="136" y="91"/>
                  </a:lnTo>
                  <a:lnTo>
                    <a:pt x="90" y="46"/>
                  </a:lnTo>
                  <a:lnTo>
                    <a:pt x="68" y="68"/>
                  </a:lnTo>
                  <a:lnTo>
                    <a:pt x="22" y="68"/>
                  </a:lnTo>
                  <a:lnTo>
                    <a:pt x="22" y="91"/>
                  </a:lnTo>
                  <a:lnTo>
                    <a:pt x="22" y="136"/>
                  </a:lnTo>
                  <a:lnTo>
                    <a:pt x="0" y="159"/>
                  </a:lnTo>
                  <a:lnTo>
                    <a:pt x="0" y="227"/>
                  </a:lnTo>
                  <a:lnTo>
                    <a:pt x="45" y="204"/>
                  </a:lnTo>
                  <a:lnTo>
                    <a:pt x="90" y="250"/>
                  </a:lnTo>
                  <a:lnTo>
                    <a:pt x="90" y="272"/>
                  </a:lnTo>
                  <a:lnTo>
                    <a:pt x="136" y="272"/>
                  </a:lnTo>
                  <a:lnTo>
                    <a:pt x="158" y="250"/>
                  </a:lnTo>
                  <a:lnTo>
                    <a:pt x="181" y="272"/>
                  </a:lnTo>
                  <a:lnTo>
                    <a:pt x="204" y="250"/>
                  </a:lnTo>
                  <a:lnTo>
                    <a:pt x="204" y="272"/>
                  </a:lnTo>
                  <a:lnTo>
                    <a:pt x="226" y="250"/>
                  </a:lnTo>
                  <a:lnTo>
                    <a:pt x="294" y="272"/>
                  </a:lnTo>
                  <a:lnTo>
                    <a:pt x="317" y="272"/>
                  </a:lnTo>
                  <a:lnTo>
                    <a:pt x="362" y="340"/>
                  </a:lnTo>
                  <a:lnTo>
                    <a:pt x="408" y="386"/>
                  </a:lnTo>
                  <a:lnTo>
                    <a:pt x="408" y="340"/>
                  </a:lnTo>
                  <a:lnTo>
                    <a:pt x="453" y="340"/>
                  </a:lnTo>
                  <a:lnTo>
                    <a:pt x="453" y="295"/>
                  </a:lnTo>
                  <a:lnTo>
                    <a:pt x="476" y="272"/>
                  </a:lnTo>
                  <a:lnTo>
                    <a:pt x="476" y="227"/>
                  </a:lnTo>
                  <a:lnTo>
                    <a:pt x="453" y="182"/>
                  </a:lnTo>
                  <a:lnTo>
                    <a:pt x="453" y="114"/>
                  </a:lnTo>
                  <a:lnTo>
                    <a:pt x="430" y="159"/>
                  </a:lnTo>
                  <a:lnTo>
                    <a:pt x="385" y="182"/>
                  </a:lnTo>
                  <a:lnTo>
                    <a:pt x="340" y="159"/>
                  </a:lnTo>
                  <a:lnTo>
                    <a:pt x="362" y="114"/>
                  </a:lnTo>
                  <a:lnTo>
                    <a:pt x="317" y="91"/>
                  </a:lnTo>
                  <a:lnTo>
                    <a:pt x="340" y="46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27040" y="4692600"/>
              <a:ext cx="642600" cy="415080"/>
            </a:xfrm>
            <a:custGeom>
              <a:avLst/>
              <a:gdLst/>
              <a:ahLst/>
              <a:rect l="l" t="t" r="r" b="b"/>
              <a:pathLst>
                <a:path w="703" h="454">
                  <a:moveTo>
                    <a:pt x="23" y="272"/>
                  </a:moveTo>
                  <a:lnTo>
                    <a:pt x="23" y="318"/>
                  </a:lnTo>
                  <a:lnTo>
                    <a:pt x="0" y="363"/>
                  </a:lnTo>
                  <a:lnTo>
                    <a:pt x="45" y="386"/>
                  </a:lnTo>
                  <a:lnTo>
                    <a:pt x="23" y="431"/>
                  </a:lnTo>
                  <a:lnTo>
                    <a:pt x="68" y="454"/>
                  </a:lnTo>
                  <a:lnTo>
                    <a:pt x="113" y="431"/>
                  </a:lnTo>
                  <a:lnTo>
                    <a:pt x="136" y="386"/>
                  </a:lnTo>
                  <a:lnTo>
                    <a:pt x="182" y="318"/>
                  </a:lnTo>
                  <a:lnTo>
                    <a:pt x="204" y="295"/>
                  </a:lnTo>
                  <a:lnTo>
                    <a:pt x="272" y="272"/>
                  </a:lnTo>
                  <a:lnTo>
                    <a:pt x="340" y="272"/>
                  </a:lnTo>
                  <a:lnTo>
                    <a:pt x="408" y="295"/>
                  </a:lnTo>
                  <a:lnTo>
                    <a:pt x="408" y="272"/>
                  </a:lnTo>
                  <a:lnTo>
                    <a:pt x="408" y="249"/>
                  </a:lnTo>
                  <a:lnTo>
                    <a:pt x="454" y="227"/>
                  </a:lnTo>
                  <a:lnTo>
                    <a:pt x="499" y="181"/>
                  </a:lnTo>
                  <a:lnTo>
                    <a:pt x="567" y="227"/>
                  </a:lnTo>
                  <a:lnTo>
                    <a:pt x="590" y="227"/>
                  </a:lnTo>
                  <a:lnTo>
                    <a:pt x="612" y="159"/>
                  </a:lnTo>
                  <a:lnTo>
                    <a:pt x="680" y="159"/>
                  </a:lnTo>
                  <a:lnTo>
                    <a:pt x="703" y="91"/>
                  </a:lnTo>
                  <a:lnTo>
                    <a:pt x="635" y="68"/>
                  </a:lnTo>
                  <a:lnTo>
                    <a:pt x="635" y="23"/>
                  </a:lnTo>
                  <a:lnTo>
                    <a:pt x="680" y="23"/>
                  </a:lnTo>
                  <a:lnTo>
                    <a:pt x="635" y="0"/>
                  </a:lnTo>
                  <a:lnTo>
                    <a:pt x="590" y="23"/>
                  </a:lnTo>
                  <a:lnTo>
                    <a:pt x="522" y="0"/>
                  </a:lnTo>
                  <a:lnTo>
                    <a:pt x="499" y="23"/>
                  </a:lnTo>
                  <a:lnTo>
                    <a:pt x="454" y="23"/>
                  </a:lnTo>
                  <a:lnTo>
                    <a:pt x="476" y="45"/>
                  </a:lnTo>
                  <a:lnTo>
                    <a:pt x="454" y="91"/>
                  </a:lnTo>
                  <a:lnTo>
                    <a:pt x="363" y="113"/>
                  </a:lnTo>
                  <a:lnTo>
                    <a:pt x="272" y="159"/>
                  </a:lnTo>
                  <a:lnTo>
                    <a:pt x="159" y="227"/>
                  </a:lnTo>
                  <a:lnTo>
                    <a:pt x="113" y="249"/>
                  </a:lnTo>
                  <a:lnTo>
                    <a:pt x="91" y="272"/>
                  </a:lnTo>
                  <a:lnTo>
                    <a:pt x="23" y="2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93560" y="4465080"/>
              <a:ext cx="290880" cy="207360"/>
            </a:xfrm>
            <a:custGeom>
              <a:avLst/>
              <a:gdLst/>
              <a:ahLst/>
              <a:rect l="l" t="t" r="r" b="b"/>
              <a:pathLst>
                <a:path w="318" h="227">
                  <a:moveTo>
                    <a:pt x="205" y="0"/>
                  </a:moveTo>
                  <a:lnTo>
                    <a:pt x="159" y="46"/>
                  </a:lnTo>
                  <a:lnTo>
                    <a:pt x="91" y="114"/>
                  </a:lnTo>
                  <a:lnTo>
                    <a:pt x="23" y="159"/>
                  </a:lnTo>
                  <a:lnTo>
                    <a:pt x="0" y="182"/>
                  </a:lnTo>
                  <a:lnTo>
                    <a:pt x="46" y="227"/>
                  </a:lnTo>
                  <a:lnTo>
                    <a:pt x="69" y="159"/>
                  </a:lnTo>
                  <a:lnTo>
                    <a:pt x="114" y="136"/>
                  </a:lnTo>
                  <a:lnTo>
                    <a:pt x="205" y="68"/>
                  </a:lnTo>
                  <a:lnTo>
                    <a:pt x="250" y="68"/>
                  </a:lnTo>
                  <a:lnTo>
                    <a:pt x="318" y="46"/>
                  </a:lnTo>
                  <a:lnTo>
                    <a:pt x="250" y="46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25480" y="4299480"/>
              <a:ext cx="435960" cy="227520"/>
            </a:xfrm>
            <a:custGeom>
              <a:avLst/>
              <a:gdLst/>
              <a:ahLst/>
              <a:rect l="l" t="t" r="r" b="b"/>
              <a:pathLst>
                <a:path w="477" h="249">
                  <a:moveTo>
                    <a:pt x="182" y="91"/>
                  </a:moveTo>
                  <a:lnTo>
                    <a:pt x="159" y="113"/>
                  </a:lnTo>
                  <a:lnTo>
                    <a:pt x="68" y="159"/>
                  </a:lnTo>
                  <a:lnTo>
                    <a:pt x="91" y="181"/>
                  </a:lnTo>
                  <a:lnTo>
                    <a:pt x="46" y="181"/>
                  </a:lnTo>
                  <a:lnTo>
                    <a:pt x="0" y="227"/>
                  </a:lnTo>
                  <a:lnTo>
                    <a:pt x="23" y="249"/>
                  </a:lnTo>
                  <a:lnTo>
                    <a:pt x="46" y="227"/>
                  </a:lnTo>
                  <a:lnTo>
                    <a:pt x="91" y="227"/>
                  </a:lnTo>
                  <a:lnTo>
                    <a:pt x="136" y="159"/>
                  </a:lnTo>
                  <a:lnTo>
                    <a:pt x="182" y="159"/>
                  </a:lnTo>
                  <a:lnTo>
                    <a:pt x="204" y="113"/>
                  </a:lnTo>
                  <a:lnTo>
                    <a:pt x="227" y="136"/>
                  </a:lnTo>
                  <a:lnTo>
                    <a:pt x="318" y="91"/>
                  </a:lnTo>
                  <a:lnTo>
                    <a:pt x="409" y="68"/>
                  </a:lnTo>
                  <a:lnTo>
                    <a:pt x="454" y="68"/>
                  </a:lnTo>
                  <a:lnTo>
                    <a:pt x="454" y="45"/>
                  </a:lnTo>
                  <a:lnTo>
                    <a:pt x="477" y="23"/>
                  </a:lnTo>
                  <a:lnTo>
                    <a:pt x="431" y="0"/>
                  </a:lnTo>
                  <a:lnTo>
                    <a:pt x="386" y="45"/>
                  </a:lnTo>
                  <a:lnTo>
                    <a:pt x="318" y="68"/>
                  </a:lnTo>
                  <a:lnTo>
                    <a:pt x="295" y="68"/>
                  </a:lnTo>
                  <a:lnTo>
                    <a:pt x="273" y="45"/>
                  </a:lnTo>
                  <a:lnTo>
                    <a:pt x="273" y="0"/>
                  </a:lnTo>
                  <a:lnTo>
                    <a:pt x="250" y="23"/>
                  </a:lnTo>
                  <a:lnTo>
                    <a:pt x="250" y="68"/>
                  </a:lnTo>
                  <a:lnTo>
                    <a:pt x="227" y="68"/>
                  </a:lnTo>
                  <a:lnTo>
                    <a:pt x="204" y="91"/>
                  </a:lnTo>
                  <a:lnTo>
                    <a:pt x="182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810760" y="1125360"/>
              <a:ext cx="2094480" cy="1720800"/>
            </a:xfrm>
            <a:custGeom>
              <a:avLst/>
              <a:gdLst/>
              <a:ahLst/>
              <a:rect l="l" t="t" r="r" b="b"/>
              <a:pathLst>
                <a:path w="2291" h="1882">
                  <a:moveTo>
                    <a:pt x="68" y="1497"/>
                  </a:moveTo>
                  <a:lnTo>
                    <a:pt x="114" y="1588"/>
                  </a:lnTo>
                  <a:lnTo>
                    <a:pt x="91" y="1656"/>
                  </a:lnTo>
                  <a:lnTo>
                    <a:pt x="23" y="1701"/>
                  </a:lnTo>
                  <a:lnTo>
                    <a:pt x="0" y="1769"/>
                  </a:lnTo>
                  <a:lnTo>
                    <a:pt x="0" y="1860"/>
                  </a:lnTo>
                  <a:lnTo>
                    <a:pt x="46" y="1882"/>
                  </a:lnTo>
                  <a:lnTo>
                    <a:pt x="114" y="1814"/>
                  </a:lnTo>
                  <a:lnTo>
                    <a:pt x="159" y="1814"/>
                  </a:lnTo>
                  <a:lnTo>
                    <a:pt x="182" y="1746"/>
                  </a:lnTo>
                  <a:lnTo>
                    <a:pt x="227" y="1746"/>
                  </a:lnTo>
                  <a:lnTo>
                    <a:pt x="272" y="1701"/>
                  </a:lnTo>
                  <a:lnTo>
                    <a:pt x="318" y="1746"/>
                  </a:lnTo>
                  <a:lnTo>
                    <a:pt x="386" y="1814"/>
                  </a:lnTo>
                  <a:lnTo>
                    <a:pt x="454" y="1769"/>
                  </a:lnTo>
                  <a:lnTo>
                    <a:pt x="409" y="1701"/>
                  </a:lnTo>
                  <a:lnTo>
                    <a:pt x="340" y="1565"/>
                  </a:lnTo>
                  <a:lnTo>
                    <a:pt x="272" y="1565"/>
                  </a:lnTo>
                  <a:lnTo>
                    <a:pt x="227" y="1497"/>
                  </a:lnTo>
                  <a:lnTo>
                    <a:pt x="182" y="1452"/>
                  </a:lnTo>
                  <a:lnTo>
                    <a:pt x="250" y="1361"/>
                  </a:lnTo>
                  <a:lnTo>
                    <a:pt x="318" y="1316"/>
                  </a:lnTo>
                  <a:lnTo>
                    <a:pt x="340" y="1338"/>
                  </a:lnTo>
                  <a:lnTo>
                    <a:pt x="386" y="1338"/>
                  </a:lnTo>
                  <a:lnTo>
                    <a:pt x="431" y="1361"/>
                  </a:lnTo>
                  <a:lnTo>
                    <a:pt x="409" y="1384"/>
                  </a:lnTo>
                  <a:lnTo>
                    <a:pt x="454" y="1429"/>
                  </a:lnTo>
                  <a:lnTo>
                    <a:pt x="454" y="1474"/>
                  </a:lnTo>
                  <a:lnTo>
                    <a:pt x="477" y="1520"/>
                  </a:lnTo>
                  <a:lnTo>
                    <a:pt x="567" y="1452"/>
                  </a:lnTo>
                  <a:lnTo>
                    <a:pt x="681" y="1406"/>
                  </a:lnTo>
                  <a:lnTo>
                    <a:pt x="794" y="1429"/>
                  </a:lnTo>
                  <a:lnTo>
                    <a:pt x="862" y="1520"/>
                  </a:lnTo>
                  <a:lnTo>
                    <a:pt x="907" y="1542"/>
                  </a:lnTo>
                  <a:lnTo>
                    <a:pt x="975" y="1656"/>
                  </a:lnTo>
                  <a:lnTo>
                    <a:pt x="1089" y="1746"/>
                  </a:lnTo>
                  <a:lnTo>
                    <a:pt x="1202" y="1814"/>
                  </a:lnTo>
                  <a:lnTo>
                    <a:pt x="1225" y="1882"/>
                  </a:lnTo>
                  <a:lnTo>
                    <a:pt x="1293" y="1769"/>
                  </a:lnTo>
                  <a:lnTo>
                    <a:pt x="1270" y="1724"/>
                  </a:lnTo>
                  <a:lnTo>
                    <a:pt x="1452" y="1588"/>
                  </a:lnTo>
                  <a:lnTo>
                    <a:pt x="1679" y="1474"/>
                  </a:lnTo>
                  <a:lnTo>
                    <a:pt x="1769" y="1474"/>
                  </a:lnTo>
                  <a:lnTo>
                    <a:pt x="1792" y="1520"/>
                  </a:lnTo>
                  <a:lnTo>
                    <a:pt x="1905" y="1542"/>
                  </a:lnTo>
                  <a:lnTo>
                    <a:pt x="1928" y="1497"/>
                  </a:lnTo>
                  <a:lnTo>
                    <a:pt x="1996" y="1497"/>
                  </a:lnTo>
                  <a:lnTo>
                    <a:pt x="1996" y="1542"/>
                  </a:lnTo>
                  <a:lnTo>
                    <a:pt x="2087" y="1474"/>
                  </a:lnTo>
                  <a:lnTo>
                    <a:pt x="2223" y="1497"/>
                  </a:lnTo>
                  <a:lnTo>
                    <a:pt x="2246" y="1452"/>
                  </a:lnTo>
                  <a:lnTo>
                    <a:pt x="2178" y="1452"/>
                  </a:lnTo>
                  <a:lnTo>
                    <a:pt x="2109" y="1384"/>
                  </a:lnTo>
                  <a:lnTo>
                    <a:pt x="2155" y="1361"/>
                  </a:lnTo>
                  <a:lnTo>
                    <a:pt x="2178" y="1247"/>
                  </a:lnTo>
                  <a:lnTo>
                    <a:pt x="2132" y="1247"/>
                  </a:lnTo>
                  <a:lnTo>
                    <a:pt x="2132" y="1157"/>
                  </a:lnTo>
                  <a:lnTo>
                    <a:pt x="2246" y="1021"/>
                  </a:lnTo>
                  <a:lnTo>
                    <a:pt x="2246" y="998"/>
                  </a:lnTo>
                  <a:lnTo>
                    <a:pt x="2291" y="953"/>
                  </a:lnTo>
                  <a:lnTo>
                    <a:pt x="2291" y="907"/>
                  </a:lnTo>
                  <a:lnTo>
                    <a:pt x="2223" y="975"/>
                  </a:lnTo>
                  <a:lnTo>
                    <a:pt x="2155" y="998"/>
                  </a:lnTo>
                  <a:lnTo>
                    <a:pt x="2064" y="1066"/>
                  </a:lnTo>
                  <a:lnTo>
                    <a:pt x="1996" y="1066"/>
                  </a:lnTo>
                  <a:lnTo>
                    <a:pt x="1883" y="1021"/>
                  </a:lnTo>
                  <a:lnTo>
                    <a:pt x="1860" y="953"/>
                  </a:lnTo>
                  <a:lnTo>
                    <a:pt x="1815" y="975"/>
                  </a:lnTo>
                  <a:lnTo>
                    <a:pt x="1792" y="953"/>
                  </a:lnTo>
                  <a:lnTo>
                    <a:pt x="1837" y="907"/>
                  </a:lnTo>
                  <a:lnTo>
                    <a:pt x="1769" y="885"/>
                  </a:lnTo>
                  <a:lnTo>
                    <a:pt x="1747" y="907"/>
                  </a:lnTo>
                  <a:lnTo>
                    <a:pt x="1701" y="885"/>
                  </a:lnTo>
                  <a:lnTo>
                    <a:pt x="1679" y="885"/>
                  </a:lnTo>
                  <a:lnTo>
                    <a:pt x="1679" y="817"/>
                  </a:lnTo>
                  <a:lnTo>
                    <a:pt x="1588" y="726"/>
                  </a:lnTo>
                  <a:lnTo>
                    <a:pt x="1474" y="590"/>
                  </a:lnTo>
                  <a:lnTo>
                    <a:pt x="1361" y="363"/>
                  </a:lnTo>
                  <a:lnTo>
                    <a:pt x="1361" y="295"/>
                  </a:lnTo>
                  <a:lnTo>
                    <a:pt x="1270" y="113"/>
                  </a:lnTo>
                  <a:lnTo>
                    <a:pt x="1225" y="0"/>
                  </a:lnTo>
                  <a:lnTo>
                    <a:pt x="1180" y="45"/>
                  </a:lnTo>
                  <a:lnTo>
                    <a:pt x="1112" y="45"/>
                  </a:lnTo>
                  <a:lnTo>
                    <a:pt x="1044" y="113"/>
                  </a:lnTo>
                  <a:lnTo>
                    <a:pt x="1066" y="272"/>
                  </a:lnTo>
                  <a:lnTo>
                    <a:pt x="1044" y="476"/>
                  </a:lnTo>
                  <a:lnTo>
                    <a:pt x="953" y="590"/>
                  </a:lnTo>
                  <a:lnTo>
                    <a:pt x="930" y="726"/>
                  </a:lnTo>
                  <a:lnTo>
                    <a:pt x="885" y="794"/>
                  </a:lnTo>
                  <a:lnTo>
                    <a:pt x="794" y="817"/>
                  </a:lnTo>
                  <a:lnTo>
                    <a:pt x="771" y="862"/>
                  </a:lnTo>
                  <a:lnTo>
                    <a:pt x="771" y="907"/>
                  </a:lnTo>
                  <a:lnTo>
                    <a:pt x="749" y="953"/>
                  </a:lnTo>
                  <a:lnTo>
                    <a:pt x="771" y="1021"/>
                  </a:lnTo>
                  <a:lnTo>
                    <a:pt x="749" y="1066"/>
                  </a:lnTo>
                  <a:lnTo>
                    <a:pt x="635" y="1134"/>
                  </a:lnTo>
                  <a:lnTo>
                    <a:pt x="567" y="1089"/>
                  </a:lnTo>
                  <a:lnTo>
                    <a:pt x="567" y="1043"/>
                  </a:lnTo>
                  <a:lnTo>
                    <a:pt x="522" y="1066"/>
                  </a:lnTo>
                  <a:lnTo>
                    <a:pt x="409" y="953"/>
                  </a:lnTo>
                  <a:lnTo>
                    <a:pt x="363" y="953"/>
                  </a:lnTo>
                  <a:lnTo>
                    <a:pt x="340" y="998"/>
                  </a:lnTo>
                  <a:lnTo>
                    <a:pt x="386" y="1066"/>
                  </a:lnTo>
                  <a:lnTo>
                    <a:pt x="386" y="1134"/>
                  </a:lnTo>
                  <a:lnTo>
                    <a:pt x="318" y="1157"/>
                  </a:lnTo>
                  <a:lnTo>
                    <a:pt x="272" y="1225"/>
                  </a:lnTo>
                  <a:lnTo>
                    <a:pt x="250" y="1202"/>
                  </a:lnTo>
                  <a:lnTo>
                    <a:pt x="204" y="1225"/>
                  </a:lnTo>
                  <a:lnTo>
                    <a:pt x="136" y="1247"/>
                  </a:lnTo>
                  <a:lnTo>
                    <a:pt x="91" y="1225"/>
                  </a:lnTo>
                  <a:lnTo>
                    <a:pt x="68" y="1270"/>
                  </a:lnTo>
                  <a:lnTo>
                    <a:pt x="68" y="1316"/>
                  </a:lnTo>
                  <a:lnTo>
                    <a:pt x="23" y="1384"/>
                  </a:lnTo>
                  <a:lnTo>
                    <a:pt x="23" y="1429"/>
                  </a:lnTo>
                  <a:lnTo>
                    <a:pt x="46" y="1452"/>
                  </a:lnTo>
                  <a:lnTo>
                    <a:pt x="46" y="1497"/>
                  </a:lnTo>
                  <a:lnTo>
                    <a:pt x="68" y="14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732920" y="4609440"/>
              <a:ext cx="393840" cy="393840"/>
            </a:xfrm>
            <a:custGeom>
              <a:avLst/>
              <a:gdLst/>
              <a:ahLst/>
              <a:rect l="l" t="t" r="r" b="b"/>
              <a:pathLst>
                <a:path w="431" h="431">
                  <a:moveTo>
                    <a:pt x="431" y="409"/>
                  </a:moveTo>
                  <a:lnTo>
                    <a:pt x="408" y="363"/>
                  </a:lnTo>
                  <a:lnTo>
                    <a:pt x="340" y="340"/>
                  </a:lnTo>
                  <a:lnTo>
                    <a:pt x="340" y="318"/>
                  </a:lnTo>
                  <a:lnTo>
                    <a:pt x="408" y="227"/>
                  </a:lnTo>
                  <a:lnTo>
                    <a:pt x="363" y="182"/>
                  </a:lnTo>
                  <a:lnTo>
                    <a:pt x="363" y="159"/>
                  </a:lnTo>
                  <a:lnTo>
                    <a:pt x="408" y="136"/>
                  </a:lnTo>
                  <a:lnTo>
                    <a:pt x="408" y="91"/>
                  </a:lnTo>
                  <a:lnTo>
                    <a:pt x="385" y="68"/>
                  </a:lnTo>
                  <a:lnTo>
                    <a:pt x="340" y="68"/>
                  </a:lnTo>
                  <a:lnTo>
                    <a:pt x="317" y="0"/>
                  </a:lnTo>
                  <a:lnTo>
                    <a:pt x="272" y="0"/>
                  </a:lnTo>
                  <a:lnTo>
                    <a:pt x="272" y="46"/>
                  </a:lnTo>
                  <a:lnTo>
                    <a:pt x="159" y="91"/>
                  </a:lnTo>
                  <a:lnTo>
                    <a:pt x="68" y="91"/>
                  </a:lnTo>
                  <a:lnTo>
                    <a:pt x="0" y="159"/>
                  </a:lnTo>
                  <a:lnTo>
                    <a:pt x="0" y="182"/>
                  </a:lnTo>
                  <a:lnTo>
                    <a:pt x="45" y="227"/>
                  </a:lnTo>
                  <a:lnTo>
                    <a:pt x="91" y="227"/>
                  </a:lnTo>
                  <a:lnTo>
                    <a:pt x="91" y="272"/>
                  </a:lnTo>
                  <a:lnTo>
                    <a:pt x="45" y="295"/>
                  </a:lnTo>
                  <a:lnTo>
                    <a:pt x="68" y="318"/>
                  </a:lnTo>
                  <a:lnTo>
                    <a:pt x="45" y="363"/>
                  </a:lnTo>
                  <a:lnTo>
                    <a:pt x="68" y="409"/>
                  </a:lnTo>
                  <a:lnTo>
                    <a:pt x="68" y="431"/>
                  </a:lnTo>
                  <a:lnTo>
                    <a:pt x="113" y="409"/>
                  </a:lnTo>
                  <a:lnTo>
                    <a:pt x="204" y="386"/>
                  </a:lnTo>
                  <a:lnTo>
                    <a:pt x="249" y="340"/>
                  </a:lnTo>
                  <a:lnTo>
                    <a:pt x="363" y="409"/>
                  </a:lnTo>
                  <a:lnTo>
                    <a:pt x="431" y="4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43600" y="5024520"/>
              <a:ext cx="434880" cy="518400"/>
            </a:xfrm>
            <a:custGeom>
              <a:avLst/>
              <a:gdLst/>
              <a:ahLst/>
              <a:rect l="l" t="t" r="r" b="b"/>
              <a:pathLst>
                <a:path w="476" h="567">
                  <a:moveTo>
                    <a:pt x="91" y="0"/>
                  </a:moveTo>
                  <a:lnTo>
                    <a:pt x="227" y="159"/>
                  </a:lnTo>
                  <a:lnTo>
                    <a:pt x="386" y="159"/>
                  </a:lnTo>
                  <a:lnTo>
                    <a:pt x="431" y="249"/>
                  </a:lnTo>
                  <a:lnTo>
                    <a:pt x="476" y="295"/>
                  </a:lnTo>
                  <a:lnTo>
                    <a:pt x="408" y="295"/>
                  </a:lnTo>
                  <a:lnTo>
                    <a:pt x="386" y="272"/>
                  </a:lnTo>
                  <a:lnTo>
                    <a:pt x="295" y="317"/>
                  </a:lnTo>
                  <a:lnTo>
                    <a:pt x="250" y="385"/>
                  </a:lnTo>
                  <a:lnTo>
                    <a:pt x="250" y="431"/>
                  </a:lnTo>
                  <a:lnTo>
                    <a:pt x="227" y="476"/>
                  </a:lnTo>
                  <a:lnTo>
                    <a:pt x="159" y="499"/>
                  </a:lnTo>
                  <a:lnTo>
                    <a:pt x="136" y="476"/>
                  </a:lnTo>
                  <a:lnTo>
                    <a:pt x="91" y="499"/>
                  </a:lnTo>
                  <a:lnTo>
                    <a:pt x="68" y="521"/>
                  </a:lnTo>
                  <a:lnTo>
                    <a:pt x="23" y="567"/>
                  </a:lnTo>
                  <a:lnTo>
                    <a:pt x="0" y="521"/>
                  </a:lnTo>
                  <a:lnTo>
                    <a:pt x="23" y="521"/>
                  </a:lnTo>
                  <a:lnTo>
                    <a:pt x="23" y="499"/>
                  </a:lnTo>
                  <a:lnTo>
                    <a:pt x="45" y="453"/>
                  </a:lnTo>
                  <a:lnTo>
                    <a:pt x="45" y="431"/>
                  </a:lnTo>
                  <a:lnTo>
                    <a:pt x="68" y="408"/>
                  </a:lnTo>
                  <a:lnTo>
                    <a:pt x="68" y="385"/>
                  </a:lnTo>
                  <a:lnTo>
                    <a:pt x="45" y="385"/>
                  </a:lnTo>
                  <a:lnTo>
                    <a:pt x="68" y="363"/>
                  </a:lnTo>
                  <a:lnTo>
                    <a:pt x="91" y="363"/>
                  </a:lnTo>
                  <a:lnTo>
                    <a:pt x="91" y="340"/>
                  </a:lnTo>
                  <a:lnTo>
                    <a:pt x="136" y="317"/>
                  </a:lnTo>
                  <a:lnTo>
                    <a:pt x="182" y="295"/>
                  </a:lnTo>
                  <a:lnTo>
                    <a:pt x="182" y="272"/>
                  </a:lnTo>
                  <a:lnTo>
                    <a:pt x="182" y="249"/>
                  </a:lnTo>
                  <a:lnTo>
                    <a:pt x="136" y="204"/>
                  </a:lnTo>
                  <a:lnTo>
                    <a:pt x="114" y="227"/>
                  </a:lnTo>
                  <a:lnTo>
                    <a:pt x="91" y="227"/>
                  </a:lnTo>
                  <a:lnTo>
                    <a:pt x="136" y="181"/>
                  </a:lnTo>
                  <a:lnTo>
                    <a:pt x="136" y="136"/>
                  </a:lnTo>
                  <a:lnTo>
                    <a:pt x="114" y="6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795200" y="4920480"/>
              <a:ext cx="372960" cy="269640"/>
            </a:xfrm>
            <a:custGeom>
              <a:avLst/>
              <a:gdLst/>
              <a:ahLst/>
              <a:rect l="l" t="t" r="r" b="b"/>
              <a:pathLst>
                <a:path w="408" h="295">
                  <a:moveTo>
                    <a:pt x="0" y="91"/>
                  </a:moveTo>
                  <a:lnTo>
                    <a:pt x="0" y="137"/>
                  </a:lnTo>
                  <a:lnTo>
                    <a:pt x="68" y="182"/>
                  </a:lnTo>
                  <a:lnTo>
                    <a:pt x="91" y="159"/>
                  </a:lnTo>
                  <a:lnTo>
                    <a:pt x="159" y="205"/>
                  </a:lnTo>
                  <a:lnTo>
                    <a:pt x="227" y="205"/>
                  </a:lnTo>
                  <a:lnTo>
                    <a:pt x="295" y="250"/>
                  </a:lnTo>
                  <a:lnTo>
                    <a:pt x="363" y="250"/>
                  </a:lnTo>
                  <a:lnTo>
                    <a:pt x="386" y="273"/>
                  </a:lnTo>
                  <a:lnTo>
                    <a:pt x="408" y="295"/>
                  </a:lnTo>
                  <a:lnTo>
                    <a:pt x="408" y="250"/>
                  </a:lnTo>
                  <a:lnTo>
                    <a:pt x="363" y="114"/>
                  </a:lnTo>
                  <a:lnTo>
                    <a:pt x="363" y="69"/>
                  </a:lnTo>
                  <a:lnTo>
                    <a:pt x="295" y="69"/>
                  </a:lnTo>
                  <a:lnTo>
                    <a:pt x="181" y="0"/>
                  </a:lnTo>
                  <a:lnTo>
                    <a:pt x="136" y="46"/>
                  </a:lnTo>
                  <a:lnTo>
                    <a:pt x="45" y="69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57120" y="5065920"/>
              <a:ext cx="310680" cy="207360"/>
            </a:xfrm>
            <a:custGeom>
              <a:avLst/>
              <a:gdLst/>
              <a:ahLst/>
              <a:rect l="l" t="t" r="r" b="b"/>
              <a:pathLst>
                <a:path w="340" h="227">
                  <a:moveTo>
                    <a:pt x="295" y="182"/>
                  </a:moveTo>
                  <a:lnTo>
                    <a:pt x="340" y="136"/>
                  </a:lnTo>
                  <a:lnTo>
                    <a:pt x="295" y="91"/>
                  </a:lnTo>
                  <a:lnTo>
                    <a:pt x="227" y="91"/>
                  </a:lnTo>
                  <a:lnTo>
                    <a:pt x="159" y="46"/>
                  </a:lnTo>
                  <a:lnTo>
                    <a:pt x="91" y="46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23" y="46"/>
                  </a:lnTo>
                  <a:lnTo>
                    <a:pt x="23" y="91"/>
                  </a:lnTo>
                  <a:lnTo>
                    <a:pt x="45" y="114"/>
                  </a:lnTo>
                  <a:lnTo>
                    <a:pt x="113" y="159"/>
                  </a:lnTo>
                  <a:lnTo>
                    <a:pt x="136" y="204"/>
                  </a:lnTo>
                  <a:lnTo>
                    <a:pt x="159" y="159"/>
                  </a:lnTo>
                  <a:lnTo>
                    <a:pt x="204" y="159"/>
                  </a:lnTo>
                  <a:lnTo>
                    <a:pt x="227" y="204"/>
                  </a:lnTo>
                  <a:lnTo>
                    <a:pt x="272" y="227"/>
                  </a:lnTo>
                  <a:lnTo>
                    <a:pt x="249" y="204"/>
                  </a:lnTo>
                  <a:lnTo>
                    <a:pt x="272" y="159"/>
                  </a:lnTo>
                  <a:lnTo>
                    <a:pt x="295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795200" y="5169960"/>
              <a:ext cx="310680" cy="248760"/>
            </a:xfrm>
            <a:custGeom>
              <a:avLst/>
              <a:gdLst/>
              <a:ahLst/>
              <a:rect l="l" t="t" r="r" b="b"/>
              <a:pathLst>
                <a:path w="340" h="272">
                  <a:moveTo>
                    <a:pt x="340" y="113"/>
                  </a:moveTo>
                  <a:lnTo>
                    <a:pt x="295" y="90"/>
                  </a:lnTo>
                  <a:lnTo>
                    <a:pt x="272" y="45"/>
                  </a:lnTo>
                  <a:lnTo>
                    <a:pt x="227" y="45"/>
                  </a:lnTo>
                  <a:lnTo>
                    <a:pt x="204" y="90"/>
                  </a:lnTo>
                  <a:lnTo>
                    <a:pt x="181" y="45"/>
                  </a:lnTo>
                  <a:lnTo>
                    <a:pt x="113" y="0"/>
                  </a:lnTo>
                  <a:lnTo>
                    <a:pt x="113" y="68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23" y="113"/>
                  </a:lnTo>
                  <a:lnTo>
                    <a:pt x="0" y="181"/>
                  </a:lnTo>
                  <a:lnTo>
                    <a:pt x="45" y="226"/>
                  </a:lnTo>
                  <a:lnTo>
                    <a:pt x="68" y="181"/>
                  </a:lnTo>
                  <a:lnTo>
                    <a:pt x="136" y="158"/>
                  </a:lnTo>
                  <a:lnTo>
                    <a:pt x="204" y="181"/>
                  </a:lnTo>
                  <a:lnTo>
                    <a:pt x="227" y="204"/>
                  </a:lnTo>
                  <a:lnTo>
                    <a:pt x="227" y="249"/>
                  </a:lnTo>
                  <a:lnTo>
                    <a:pt x="249" y="272"/>
                  </a:lnTo>
                  <a:lnTo>
                    <a:pt x="249" y="249"/>
                  </a:lnTo>
                  <a:lnTo>
                    <a:pt x="272" y="249"/>
                  </a:lnTo>
                  <a:lnTo>
                    <a:pt x="295" y="249"/>
                  </a:lnTo>
                  <a:lnTo>
                    <a:pt x="249" y="204"/>
                  </a:lnTo>
                  <a:lnTo>
                    <a:pt x="249" y="136"/>
                  </a:lnTo>
                  <a:lnTo>
                    <a:pt x="272" y="136"/>
                  </a:lnTo>
                  <a:lnTo>
                    <a:pt x="34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255560" y="5107680"/>
              <a:ext cx="580320" cy="456120"/>
            </a:xfrm>
            <a:custGeom>
              <a:avLst/>
              <a:gdLst/>
              <a:ahLst/>
              <a:rect l="l" t="t" r="r" b="b"/>
              <a:pathLst>
                <a:path w="635" h="499">
                  <a:moveTo>
                    <a:pt x="635" y="294"/>
                  </a:moveTo>
                  <a:lnTo>
                    <a:pt x="590" y="249"/>
                  </a:lnTo>
                  <a:lnTo>
                    <a:pt x="613" y="181"/>
                  </a:lnTo>
                  <a:lnTo>
                    <a:pt x="590" y="158"/>
                  </a:lnTo>
                  <a:lnTo>
                    <a:pt x="545" y="181"/>
                  </a:lnTo>
                  <a:lnTo>
                    <a:pt x="522" y="181"/>
                  </a:lnTo>
                  <a:lnTo>
                    <a:pt x="477" y="113"/>
                  </a:lnTo>
                  <a:lnTo>
                    <a:pt x="431" y="136"/>
                  </a:lnTo>
                  <a:lnTo>
                    <a:pt x="431" y="204"/>
                  </a:lnTo>
                  <a:lnTo>
                    <a:pt x="409" y="226"/>
                  </a:lnTo>
                  <a:lnTo>
                    <a:pt x="386" y="204"/>
                  </a:lnTo>
                  <a:lnTo>
                    <a:pt x="386" y="158"/>
                  </a:lnTo>
                  <a:lnTo>
                    <a:pt x="340" y="136"/>
                  </a:lnTo>
                  <a:lnTo>
                    <a:pt x="386" y="68"/>
                  </a:lnTo>
                  <a:lnTo>
                    <a:pt x="363" y="0"/>
                  </a:lnTo>
                  <a:lnTo>
                    <a:pt x="318" y="22"/>
                  </a:lnTo>
                  <a:lnTo>
                    <a:pt x="318" y="90"/>
                  </a:lnTo>
                  <a:lnTo>
                    <a:pt x="159" y="136"/>
                  </a:lnTo>
                  <a:lnTo>
                    <a:pt x="159" y="181"/>
                  </a:lnTo>
                  <a:lnTo>
                    <a:pt x="91" y="226"/>
                  </a:lnTo>
                  <a:lnTo>
                    <a:pt x="68" y="272"/>
                  </a:lnTo>
                  <a:lnTo>
                    <a:pt x="23" y="272"/>
                  </a:lnTo>
                  <a:lnTo>
                    <a:pt x="0" y="340"/>
                  </a:lnTo>
                  <a:lnTo>
                    <a:pt x="114" y="385"/>
                  </a:lnTo>
                  <a:lnTo>
                    <a:pt x="159" y="385"/>
                  </a:lnTo>
                  <a:lnTo>
                    <a:pt x="250" y="430"/>
                  </a:lnTo>
                  <a:lnTo>
                    <a:pt x="295" y="362"/>
                  </a:lnTo>
                  <a:lnTo>
                    <a:pt x="340" y="317"/>
                  </a:lnTo>
                  <a:lnTo>
                    <a:pt x="409" y="294"/>
                  </a:lnTo>
                  <a:lnTo>
                    <a:pt x="454" y="249"/>
                  </a:lnTo>
                  <a:lnTo>
                    <a:pt x="545" y="272"/>
                  </a:lnTo>
                  <a:lnTo>
                    <a:pt x="567" y="294"/>
                  </a:lnTo>
                  <a:lnTo>
                    <a:pt x="545" y="317"/>
                  </a:lnTo>
                  <a:lnTo>
                    <a:pt x="499" y="317"/>
                  </a:lnTo>
                  <a:lnTo>
                    <a:pt x="499" y="340"/>
                  </a:lnTo>
                  <a:lnTo>
                    <a:pt x="477" y="385"/>
                  </a:lnTo>
                  <a:lnTo>
                    <a:pt x="454" y="453"/>
                  </a:lnTo>
                  <a:lnTo>
                    <a:pt x="477" y="499"/>
                  </a:lnTo>
                  <a:lnTo>
                    <a:pt x="545" y="476"/>
                  </a:lnTo>
                  <a:lnTo>
                    <a:pt x="590" y="408"/>
                  </a:lnTo>
                  <a:lnTo>
                    <a:pt x="635" y="385"/>
                  </a:lnTo>
                  <a:lnTo>
                    <a:pt x="613" y="340"/>
                  </a:lnTo>
                  <a:lnTo>
                    <a:pt x="613" y="317"/>
                  </a:lnTo>
                  <a:lnTo>
                    <a:pt x="635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566240" y="4983480"/>
              <a:ext cx="331920" cy="330840"/>
            </a:xfrm>
            <a:custGeom>
              <a:avLst/>
              <a:gdLst/>
              <a:ahLst/>
              <a:rect l="l" t="t" r="r" b="b"/>
              <a:pathLst>
                <a:path w="363" h="362">
                  <a:moveTo>
                    <a:pt x="23" y="136"/>
                  </a:moveTo>
                  <a:lnTo>
                    <a:pt x="46" y="204"/>
                  </a:lnTo>
                  <a:lnTo>
                    <a:pt x="0" y="272"/>
                  </a:lnTo>
                  <a:lnTo>
                    <a:pt x="46" y="294"/>
                  </a:lnTo>
                  <a:lnTo>
                    <a:pt x="46" y="340"/>
                  </a:lnTo>
                  <a:lnTo>
                    <a:pt x="69" y="362"/>
                  </a:lnTo>
                  <a:lnTo>
                    <a:pt x="91" y="340"/>
                  </a:lnTo>
                  <a:lnTo>
                    <a:pt x="91" y="272"/>
                  </a:lnTo>
                  <a:lnTo>
                    <a:pt x="137" y="249"/>
                  </a:lnTo>
                  <a:lnTo>
                    <a:pt x="182" y="317"/>
                  </a:lnTo>
                  <a:lnTo>
                    <a:pt x="205" y="317"/>
                  </a:lnTo>
                  <a:lnTo>
                    <a:pt x="250" y="294"/>
                  </a:lnTo>
                  <a:lnTo>
                    <a:pt x="250" y="272"/>
                  </a:lnTo>
                  <a:lnTo>
                    <a:pt x="363" y="272"/>
                  </a:lnTo>
                  <a:lnTo>
                    <a:pt x="363" y="204"/>
                  </a:lnTo>
                  <a:lnTo>
                    <a:pt x="341" y="181"/>
                  </a:lnTo>
                  <a:lnTo>
                    <a:pt x="341" y="136"/>
                  </a:lnTo>
                  <a:lnTo>
                    <a:pt x="318" y="113"/>
                  </a:lnTo>
                  <a:lnTo>
                    <a:pt x="250" y="68"/>
                  </a:lnTo>
                  <a:lnTo>
                    <a:pt x="114" y="0"/>
                  </a:lnTo>
                  <a:lnTo>
                    <a:pt x="91" y="45"/>
                  </a:lnTo>
                  <a:lnTo>
                    <a:pt x="69" y="22"/>
                  </a:lnTo>
                  <a:lnTo>
                    <a:pt x="23" y="68"/>
                  </a:lnTo>
                  <a:lnTo>
                    <a:pt x="23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317840" y="4547160"/>
              <a:ext cx="560160" cy="684720"/>
            </a:xfrm>
            <a:custGeom>
              <a:avLst/>
              <a:gdLst/>
              <a:ahLst/>
              <a:rect l="l" t="t" r="r" b="b"/>
              <a:pathLst>
                <a:path w="613" h="749">
                  <a:moveTo>
                    <a:pt x="91" y="749"/>
                  </a:moveTo>
                  <a:lnTo>
                    <a:pt x="250" y="703"/>
                  </a:lnTo>
                  <a:lnTo>
                    <a:pt x="250" y="635"/>
                  </a:lnTo>
                  <a:lnTo>
                    <a:pt x="295" y="613"/>
                  </a:lnTo>
                  <a:lnTo>
                    <a:pt x="295" y="545"/>
                  </a:lnTo>
                  <a:lnTo>
                    <a:pt x="341" y="499"/>
                  </a:lnTo>
                  <a:lnTo>
                    <a:pt x="363" y="522"/>
                  </a:lnTo>
                  <a:lnTo>
                    <a:pt x="386" y="477"/>
                  </a:lnTo>
                  <a:lnTo>
                    <a:pt x="522" y="545"/>
                  </a:lnTo>
                  <a:lnTo>
                    <a:pt x="522" y="499"/>
                  </a:lnTo>
                  <a:lnTo>
                    <a:pt x="522" y="477"/>
                  </a:lnTo>
                  <a:lnTo>
                    <a:pt x="499" y="431"/>
                  </a:lnTo>
                  <a:lnTo>
                    <a:pt x="522" y="386"/>
                  </a:lnTo>
                  <a:lnTo>
                    <a:pt x="499" y="363"/>
                  </a:lnTo>
                  <a:lnTo>
                    <a:pt x="545" y="340"/>
                  </a:lnTo>
                  <a:lnTo>
                    <a:pt x="545" y="295"/>
                  </a:lnTo>
                  <a:lnTo>
                    <a:pt x="499" y="295"/>
                  </a:lnTo>
                  <a:lnTo>
                    <a:pt x="454" y="250"/>
                  </a:lnTo>
                  <a:lnTo>
                    <a:pt x="454" y="227"/>
                  </a:lnTo>
                  <a:lnTo>
                    <a:pt x="522" y="159"/>
                  </a:lnTo>
                  <a:lnTo>
                    <a:pt x="613" y="159"/>
                  </a:lnTo>
                  <a:lnTo>
                    <a:pt x="613" y="114"/>
                  </a:lnTo>
                  <a:lnTo>
                    <a:pt x="567" y="91"/>
                  </a:lnTo>
                  <a:lnTo>
                    <a:pt x="590" y="23"/>
                  </a:lnTo>
                  <a:lnTo>
                    <a:pt x="545" y="0"/>
                  </a:lnTo>
                  <a:lnTo>
                    <a:pt x="477" y="46"/>
                  </a:lnTo>
                  <a:lnTo>
                    <a:pt x="386" y="68"/>
                  </a:lnTo>
                  <a:lnTo>
                    <a:pt x="386" y="23"/>
                  </a:lnTo>
                  <a:lnTo>
                    <a:pt x="341" y="23"/>
                  </a:lnTo>
                  <a:lnTo>
                    <a:pt x="272" y="68"/>
                  </a:lnTo>
                  <a:lnTo>
                    <a:pt x="250" y="136"/>
                  </a:lnTo>
                  <a:lnTo>
                    <a:pt x="159" y="204"/>
                  </a:lnTo>
                  <a:lnTo>
                    <a:pt x="182" y="250"/>
                  </a:lnTo>
                  <a:lnTo>
                    <a:pt x="136" y="295"/>
                  </a:lnTo>
                  <a:lnTo>
                    <a:pt x="136" y="363"/>
                  </a:lnTo>
                  <a:lnTo>
                    <a:pt x="91" y="408"/>
                  </a:lnTo>
                  <a:lnTo>
                    <a:pt x="23" y="408"/>
                  </a:lnTo>
                  <a:lnTo>
                    <a:pt x="0" y="454"/>
                  </a:lnTo>
                  <a:lnTo>
                    <a:pt x="46" y="477"/>
                  </a:lnTo>
                  <a:lnTo>
                    <a:pt x="46" y="545"/>
                  </a:lnTo>
                  <a:lnTo>
                    <a:pt x="91" y="613"/>
                  </a:lnTo>
                  <a:lnTo>
                    <a:pt x="46" y="658"/>
                  </a:lnTo>
                  <a:lnTo>
                    <a:pt x="23" y="726"/>
                  </a:lnTo>
                  <a:lnTo>
                    <a:pt x="91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44520" y="4671720"/>
              <a:ext cx="539280" cy="539280"/>
            </a:xfrm>
            <a:custGeom>
              <a:avLst/>
              <a:gdLst/>
              <a:ahLst/>
              <a:rect l="l" t="t" r="r" b="b"/>
              <a:pathLst>
                <a:path w="590" h="590">
                  <a:moveTo>
                    <a:pt x="431" y="590"/>
                  </a:moveTo>
                  <a:lnTo>
                    <a:pt x="454" y="522"/>
                  </a:lnTo>
                  <a:lnTo>
                    <a:pt x="499" y="477"/>
                  </a:lnTo>
                  <a:lnTo>
                    <a:pt x="454" y="409"/>
                  </a:lnTo>
                  <a:lnTo>
                    <a:pt x="454" y="341"/>
                  </a:lnTo>
                  <a:lnTo>
                    <a:pt x="408" y="318"/>
                  </a:lnTo>
                  <a:lnTo>
                    <a:pt x="431" y="272"/>
                  </a:lnTo>
                  <a:lnTo>
                    <a:pt x="499" y="272"/>
                  </a:lnTo>
                  <a:lnTo>
                    <a:pt x="544" y="227"/>
                  </a:lnTo>
                  <a:lnTo>
                    <a:pt x="544" y="159"/>
                  </a:lnTo>
                  <a:lnTo>
                    <a:pt x="590" y="114"/>
                  </a:lnTo>
                  <a:lnTo>
                    <a:pt x="567" y="68"/>
                  </a:lnTo>
                  <a:lnTo>
                    <a:pt x="499" y="23"/>
                  </a:lnTo>
                  <a:lnTo>
                    <a:pt x="431" y="23"/>
                  </a:lnTo>
                  <a:lnTo>
                    <a:pt x="363" y="46"/>
                  </a:lnTo>
                  <a:lnTo>
                    <a:pt x="295" y="0"/>
                  </a:lnTo>
                  <a:lnTo>
                    <a:pt x="272" y="46"/>
                  </a:lnTo>
                  <a:lnTo>
                    <a:pt x="295" y="68"/>
                  </a:lnTo>
                  <a:lnTo>
                    <a:pt x="227" y="136"/>
                  </a:lnTo>
                  <a:lnTo>
                    <a:pt x="204" y="182"/>
                  </a:lnTo>
                  <a:lnTo>
                    <a:pt x="250" y="250"/>
                  </a:lnTo>
                  <a:lnTo>
                    <a:pt x="204" y="272"/>
                  </a:lnTo>
                  <a:lnTo>
                    <a:pt x="136" y="250"/>
                  </a:lnTo>
                  <a:lnTo>
                    <a:pt x="91" y="250"/>
                  </a:lnTo>
                  <a:lnTo>
                    <a:pt x="45" y="227"/>
                  </a:lnTo>
                  <a:lnTo>
                    <a:pt x="23" y="272"/>
                  </a:lnTo>
                  <a:lnTo>
                    <a:pt x="23" y="341"/>
                  </a:lnTo>
                  <a:lnTo>
                    <a:pt x="45" y="409"/>
                  </a:lnTo>
                  <a:lnTo>
                    <a:pt x="0" y="454"/>
                  </a:lnTo>
                  <a:lnTo>
                    <a:pt x="0" y="499"/>
                  </a:lnTo>
                  <a:lnTo>
                    <a:pt x="68" y="477"/>
                  </a:lnTo>
                  <a:lnTo>
                    <a:pt x="91" y="545"/>
                  </a:lnTo>
                  <a:lnTo>
                    <a:pt x="136" y="477"/>
                  </a:lnTo>
                  <a:lnTo>
                    <a:pt x="250" y="454"/>
                  </a:lnTo>
                  <a:lnTo>
                    <a:pt x="272" y="522"/>
                  </a:lnTo>
                  <a:lnTo>
                    <a:pt x="318" y="545"/>
                  </a:lnTo>
                  <a:lnTo>
                    <a:pt x="340" y="522"/>
                  </a:lnTo>
                  <a:lnTo>
                    <a:pt x="386" y="590"/>
                  </a:lnTo>
                  <a:lnTo>
                    <a:pt x="408" y="567"/>
                  </a:lnTo>
                  <a:lnTo>
                    <a:pt x="431" y="5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027680" y="5086800"/>
              <a:ext cx="372960" cy="331920"/>
            </a:xfrm>
            <a:custGeom>
              <a:avLst/>
              <a:gdLst/>
              <a:ahLst/>
              <a:rect l="l" t="t" r="r" b="b"/>
              <a:pathLst>
                <a:path w="408" h="363">
                  <a:moveTo>
                    <a:pt x="68" y="363"/>
                  </a:moveTo>
                  <a:lnTo>
                    <a:pt x="249" y="363"/>
                  </a:lnTo>
                  <a:lnTo>
                    <a:pt x="272" y="295"/>
                  </a:lnTo>
                  <a:lnTo>
                    <a:pt x="317" y="295"/>
                  </a:lnTo>
                  <a:lnTo>
                    <a:pt x="340" y="249"/>
                  </a:lnTo>
                  <a:lnTo>
                    <a:pt x="408" y="204"/>
                  </a:lnTo>
                  <a:lnTo>
                    <a:pt x="408" y="159"/>
                  </a:lnTo>
                  <a:lnTo>
                    <a:pt x="340" y="136"/>
                  </a:lnTo>
                  <a:lnTo>
                    <a:pt x="317" y="113"/>
                  </a:lnTo>
                  <a:lnTo>
                    <a:pt x="295" y="136"/>
                  </a:lnTo>
                  <a:lnTo>
                    <a:pt x="249" y="68"/>
                  </a:lnTo>
                  <a:lnTo>
                    <a:pt x="227" y="91"/>
                  </a:lnTo>
                  <a:lnTo>
                    <a:pt x="181" y="68"/>
                  </a:lnTo>
                  <a:lnTo>
                    <a:pt x="159" y="0"/>
                  </a:lnTo>
                  <a:lnTo>
                    <a:pt x="45" y="23"/>
                  </a:lnTo>
                  <a:lnTo>
                    <a:pt x="0" y="91"/>
                  </a:lnTo>
                  <a:lnTo>
                    <a:pt x="22" y="91"/>
                  </a:lnTo>
                  <a:lnTo>
                    <a:pt x="45" y="136"/>
                  </a:lnTo>
                  <a:lnTo>
                    <a:pt x="91" y="136"/>
                  </a:lnTo>
                  <a:lnTo>
                    <a:pt x="45" y="181"/>
                  </a:lnTo>
                  <a:lnTo>
                    <a:pt x="45" y="249"/>
                  </a:lnTo>
                  <a:lnTo>
                    <a:pt x="22" y="272"/>
                  </a:lnTo>
                  <a:lnTo>
                    <a:pt x="68" y="317"/>
                  </a:lnTo>
                  <a:lnTo>
                    <a:pt x="68" y="295"/>
                  </a:lnTo>
                  <a:lnTo>
                    <a:pt x="45" y="272"/>
                  </a:lnTo>
                  <a:lnTo>
                    <a:pt x="68" y="227"/>
                  </a:lnTo>
                  <a:lnTo>
                    <a:pt x="91" y="227"/>
                  </a:lnTo>
                  <a:lnTo>
                    <a:pt x="91" y="272"/>
                  </a:lnTo>
                  <a:lnTo>
                    <a:pt x="113" y="272"/>
                  </a:lnTo>
                  <a:lnTo>
                    <a:pt x="159" y="295"/>
                  </a:lnTo>
                  <a:lnTo>
                    <a:pt x="181" y="272"/>
                  </a:lnTo>
                  <a:lnTo>
                    <a:pt x="204" y="295"/>
                  </a:lnTo>
                  <a:lnTo>
                    <a:pt x="204" y="340"/>
                  </a:lnTo>
                  <a:lnTo>
                    <a:pt x="159" y="340"/>
                  </a:lnTo>
                  <a:lnTo>
                    <a:pt x="103" y="337"/>
                  </a:lnTo>
                  <a:lnTo>
                    <a:pt x="68" y="3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33480" y="5107680"/>
              <a:ext cx="434880" cy="580680"/>
            </a:xfrm>
            <a:custGeom>
              <a:avLst/>
              <a:gdLst/>
              <a:ahLst/>
              <a:rect l="l" t="t" r="r" b="b"/>
              <a:pathLst>
                <a:path w="476" h="635">
                  <a:moveTo>
                    <a:pt x="340" y="22"/>
                  </a:moveTo>
                  <a:lnTo>
                    <a:pt x="408" y="0"/>
                  </a:lnTo>
                  <a:lnTo>
                    <a:pt x="431" y="68"/>
                  </a:lnTo>
                  <a:lnTo>
                    <a:pt x="453" y="68"/>
                  </a:lnTo>
                  <a:lnTo>
                    <a:pt x="476" y="113"/>
                  </a:lnTo>
                  <a:lnTo>
                    <a:pt x="408" y="136"/>
                  </a:lnTo>
                  <a:lnTo>
                    <a:pt x="385" y="181"/>
                  </a:lnTo>
                  <a:lnTo>
                    <a:pt x="317" y="226"/>
                  </a:lnTo>
                  <a:lnTo>
                    <a:pt x="340" y="272"/>
                  </a:lnTo>
                  <a:lnTo>
                    <a:pt x="317" y="294"/>
                  </a:lnTo>
                  <a:lnTo>
                    <a:pt x="363" y="317"/>
                  </a:lnTo>
                  <a:lnTo>
                    <a:pt x="408" y="362"/>
                  </a:lnTo>
                  <a:lnTo>
                    <a:pt x="453" y="408"/>
                  </a:lnTo>
                  <a:lnTo>
                    <a:pt x="408" y="430"/>
                  </a:lnTo>
                  <a:lnTo>
                    <a:pt x="408" y="453"/>
                  </a:lnTo>
                  <a:lnTo>
                    <a:pt x="385" y="430"/>
                  </a:lnTo>
                  <a:lnTo>
                    <a:pt x="340" y="430"/>
                  </a:lnTo>
                  <a:lnTo>
                    <a:pt x="317" y="430"/>
                  </a:lnTo>
                  <a:lnTo>
                    <a:pt x="204" y="430"/>
                  </a:lnTo>
                  <a:lnTo>
                    <a:pt x="181" y="476"/>
                  </a:lnTo>
                  <a:lnTo>
                    <a:pt x="159" y="476"/>
                  </a:lnTo>
                  <a:lnTo>
                    <a:pt x="136" y="499"/>
                  </a:lnTo>
                  <a:lnTo>
                    <a:pt x="159" y="521"/>
                  </a:lnTo>
                  <a:lnTo>
                    <a:pt x="136" y="544"/>
                  </a:lnTo>
                  <a:lnTo>
                    <a:pt x="68" y="567"/>
                  </a:lnTo>
                  <a:lnTo>
                    <a:pt x="45" y="635"/>
                  </a:lnTo>
                  <a:lnTo>
                    <a:pt x="0" y="567"/>
                  </a:lnTo>
                  <a:lnTo>
                    <a:pt x="23" y="521"/>
                  </a:lnTo>
                  <a:lnTo>
                    <a:pt x="68" y="521"/>
                  </a:lnTo>
                  <a:lnTo>
                    <a:pt x="113" y="499"/>
                  </a:lnTo>
                  <a:lnTo>
                    <a:pt x="159" y="317"/>
                  </a:lnTo>
                  <a:lnTo>
                    <a:pt x="204" y="294"/>
                  </a:lnTo>
                  <a:lnTo>
                    <a:pt x="159" y="272"/>
                  </a:lnTo>
                  <a:lnTo>
                    <a:pt x="181" y="226"/>
                  </a:lnTo>
                  <a:lnTo>
                    <a:pt x="159" y="181"/>
                  </a:lnTo>
                  <a:lnTo>
                    <a:pt x="181" y="136"/>
                  </a:lnTo>
                  <a:lnTo>
                    <a:pt x="204" y="113"/>
                  </a:lnTo>
                  <a:lnTo>
                    <a:pt x="272" y="158"/>
                  </a:lnTo>
                  <a:lnTo>
                    <a:pt x="340" y="113"/>
                  </a:lnTo>
                  <a:lnTo>
                    <a:pt x="340" y="68"/>
                  </a:lnTo>
                  <a:lnTo>
                    <a:pt x="363" y="45"/>
                  </a:lnTo>
                  <a:lnTo>
                    <a:pt x="34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50680" y="5232240"/>
              <a:ext cx="269640" cy="394200"/>
            </a:xfrm>
            <a:custGeom>
              <a:avLst/>
              <a:gdLst/>
              <a:ahLst/>
              <a:rect l="l" t="t" r="r" b="b"/>
              <a:pathLst>
                <a:path w="295" h="431">
                  <a:moveTo>
                    <a:pt x="250" y="45"/>
                  </a:moveTo>
                  <a:lnTo>
                    <a:pt x="272" y="90"/>
                  </a:lnTo>
                  <a:lnTo>
                    <a:pt x="250" y="136"/>
                  </a:lnTo>
                  <a:lnTo>
                    <a:pt x="295" y="158"/>
                  </a:lnTo>
                  <a:lnTo>
                    <a:pt x="250" y="181"/>
                  </a:lnTo>
                  <a:lnTo>
                    <a:pt x="204" y="363"/>
                  </a:lnTo>
                  <a:lnTo>
                    <a:pt x="159" y="385"/>
                  </a:lnTo>
                  <a:lnTo>
                    <a:pt x="114" y="385"/>
                  </a:lnTo>
                  <a:lnTo>
                    <a:pt x="91" y="431"/>
                  </a:lnTo>
                  <a:lnTo>
                    <a:pt x="0" y="363"/>
                  </a:lnTo>
                  <a:lnTo>
                    <a:pt x="0" y="294"/>
                  </a:lnTo>
                  <a:lnTo>
                    <a:pt x="46" y="249"/>
                  </a:lnTo>
                  <a:lnTo>
                    <a:pt x="91" y="249"/>
                  </a:lnTo>
                  <a:lnTo>
                    <a:pt x="68" y="158"/>
                  </a:lnTo>
                  <a:lnTo>
                    <a:pt x="114" y="90"/>
                  </a:lnTo>
                  <a:lnTo>
                    <a:pt x="114" y="45"/>
                  </a:lnTo>
                  <a:lnTo>
                    <a:pt x="159" y="0"/>
                  </a:lnTo>
                  <a:lnTo>
                    <a:pt x="159" y="45"/>
                  </a:lnTo>
                  <a:lnTo>
                    <a:pt x="25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674880" y="4671720"/>
              <a:ext cx="498240" cy="331560"/>
            </a:xfrm>
            <a:custGeom>
              <a:avLst/>
              <a:gdLst/>
              <a:ahLst/>
              <a:rect l="l" t="t" r="r" b="b"/>
              <a:pathLst>
                <a:path w="545" h="363">
                  <a:moveTo>
                    <a:pt x="318" y="272"/>
                  </a:moveTo>
                  <a:lnTo>
                    <a:pt x="340" y="227"/>
                  </a:lnTo>
                  <a:lnTo>
                    <a:pt x="386" y="250"/>
                  </a:lnTo>
                  <a:lnTo>
                    <a:pt x="431" y="250"/>
                  </a:lnTo>
                  <a:lnTo>
                    <a:pt x="499" y="272"/>
                  </a:lnTo>
                  <a:lnTo>
                    <a:pt x="545" y="250"/>
                  </a:lnTo>
                  <a:lnTo>
                    <a:pt x="499" y="182"/>
                  </a:lnTo>
                  <a:lnTo>
                    <a:pt x="522" y="136"/>
                  </a:lnTo>
                  <a:lnTo>
                    <a:pt x="477" y="136"/>
                  </a:lnTo>
                  <a:lnTo>
                    <a:pt x="477" y="91"/>
                  </a:lnTo>
                  <a:lnTo>
                    <a:pt x="408" y="68"/>
                  </a:lnTo>
                  <a:lnTo>
                    <a:pt x="363" y="0"/>
                  </a:lnTo>
                  <a:lnTo>
                    <a:pt x="340" y="0"/>
                  </a:lnTo>
                  <a:lnTo>
                    <a:pt x="318" y="46"/>
                  </a:lnTo>
                  <a:lnTo>
                    <a:pt x="272" y="68"/>
                  </a:lnTo>
                  <a:lnTo>
                    <a:pt x="227" y="114"/>
                  </a:lnTo>
                  <a:lnTo>
                    <a:pt x="250" y="136"/>
                  </a:lnTo>
                  <a:lnTo>
                    <a:pt x="272" y="204"/>
                  </a:lnTo>
                  <a:lnTo>
                    <a:pt x="250" y="250"/>
                  </a:lnTo>
                  <a:lnTo>
                    <a:pt x="227" y="272"/>
                  </a:lnTo>
                  <a:lnTo>
                    <a:pt x="227" y="227"/>
                  </a:lnTo>
                  <a:lnTo>
                    <a:pt x="204" y="272"/>
                  </a:lnTo>
                  <a:lnTo>
                    <a:pt x="159" y="272"/>
                  </a:lnTo>
                  <a:lnTo>
                    <a:pt x="136" y="295"/>
                  </a:lnTo>
                  <a:lnTo>
                    <a:pt x="114" y="295"/>
                  </a:lnTo>
                  <a:lnTo>
                    <a:pt x="91" y="318"/>
                  </a:lnTo>
                  <a:lnTo>
                    <a:pt x="46" y="295"/>
                  </a:lnTo>
                  <a:lnTo>
                    <a:pt x="0" y="250"/>
                  </a:lnTo>
                  <a:lnTo>
                    <a:pt x="0" y="341"/>
                  </a:lnTo>
                  <a:lnTo>
                    <a:pt x="91" y="363"/>
                  </a:lnTo>
                  <a:lnTo>
                    <a:pt x="136" y="363"/>
                  </a:lnTo>
                  <a:lnTo>
                    <a:pt x="182" y="318"/>
                  </a:lnTo>
                  <a:lnTo>
                    <a:pt x="250" y="318"/>
                  </a:lnTo>
                  <a:lnTo>
                    <a:pt x="295" y="272"/>
                  </a:lnTo>
                  <a:lnTo>
                    <a:pt x="318" y="2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737160" y="4920480"/>
              <a:ext cx="248400" cy="331920"/>
            </a:xfrm>
            <a:custGeom>
              <a:avLst/>
              <a:gdLst/>
              <a:ahLst/>
              <a:rect l="l" t="t" r="r" b="b"/>
              <a:pathLst>
                <a:path w="272" h="363">
                  <a:moveTo>
                    <a:pt x="23" y="91"/>
                  </a:moveTo>
                  <a:lnTo>
                    <a:pt x="68" y="91"/>
                  </a:lnTo>
                  <a:lnTo>
                    <a:pt x="114" y="46"/>
                  </a:lnTo>
                  <a:lnTo>
                    <a:pt x="182" y="46"/>
                  </a:lnTo>
                  <a:lnTo>
                    <a:pt x="227" y="0"/>
                  </a:lnTo>
                  <a:lnTo>
                    <a:pt x="250" y="0"/>
                  </a:lnTo>
                  <a:lnTo>
                    <a:pt x="250" y="69"/>
                  </a:lnTo>
                  <a:lnTo>
                    <a:pt x="272" y="137"/>
                  </a:lnTo>
                  <a:lnTo>
                    <a:pt x="227" y="182"/>
                  </a:lnTo>
                  <a:lnTo>
                    <a:pt x="227" y="227"/>
                  </a:lnTo>
                  <a:lnTo>
                    <a:pt x="250" y="250"/>
                  </a:lnTo>
                  <a:lnTo>
                    <a:pt x="227" y="273"/>
                  </a:lnTo>
                  <a:lnTo>
                    <a:pt x="227" y="318"/>
                  </a:lnTo>
                  <a:lnTo>
                    <a:pt x="159" y="363"/>
                  </a:lnTo>
                  <a:lnTo>
                    <a:pt x="91" y="318"/>
                  </a:lnTo>
                  <a:lnTo>
                    <a:pt x="68" y="341"/>
                  </a:lnTo>
                  <a:lnTo>
                    <a:pt x="23" y="318"/>
                  </a:lnTo>
                  <a:lnTo>
                    <a:pt x="0" y="227"/>
                  </a:lnTo>
                  <a:lnTo>
                    <a:pt x="46" y="182"/>
                  </a:lnTo>
                  <a:lnTo>
                    <a:pt x="46" y="137"/>
                  </a:lnTo>
                  <a:lnTo>
                    <a:pt x="23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385080" y="5376960"/>
              <a:ext cx="289800" cy="373680"/>
            </a:xfrm>
            <a:custGeom>
              <a:avLst/>
              <a:gdLst/>
              <a:ahLst/>
              <a:rect l="l" t="t" r="r" b="b"/>
              <a:pathLst>
                <a:path w="317" h="409">
                  <a:moveTo>
                    <a:pt x="249" y="0"/>
                  </a:moveTo>
                  <a:lnTo>
                    <a:pt x="272" y="91"/>
                  </a:lnTo>
                  <a:lnTo>
                    <a:pt x="227" y="91"/>
                  </a:lnTo>
                  <a:lnTo>
                    <a:pt x="181" y="136"/>
                  </a:lnTo>
                  <a:lnTo>
                    <a:pt x="181" y="205"/>
                  </a:lnTo>
                  <a:lnTo>
                    <a:pt x="272" y="273"/>
                  </a:lnTo>
                  <a:lnTo>
                    <a:pt x="317" y="341"/>
                  </a:lnTo>
                  <a:lnTo>
                    <a:pt x="272" y="363"/>
                  </a:lnTo>
                  <a:lnTo>
                    <a:pt x="249" y="386"/>
                  </a:lnTo>
                  <a:lnTo>
                    <a:pt x="204" y="409"/>
                  </a:lnTo>
                  <a:lnTo>
                    <a:pt x="136" y="386"/>
                  </a:lnTo>
                  <a:lnTo>
                    <a:pt x="90" y="318"/>
                  </a:lnTo>
                  <a:lnTo>
                    <a:pt x="90" y="273"/>
                  </a:lnTo>
                  <a:lnTo>
                    <a:pt x="45" y="227"/>
                  </a:lnTo>
                  <a:lnTo>
                    <a:pt x="45" y="182"/>
                  </a:lnTo>
                  <a:lnTo>
                    <a:pt x="0" y="159"/>
                  </a:lnTo>
                  <a:lnTo>
                    <a:pt x="22" y="136"/>
                  </a:lnTo>
                  <a:lnTo>
                    <a:pt x="45" y="114"/>
                  </a:lnTo>
                  <a:lnTo>
                    <a:pt x="45" y="91"/>
                  </a:lnTo>
                  <a:lnTo>
                    <a:pt x="90" y="68"/>
                  </a:lnTo>
                  <a:lnTo>
                    <a:pt x="68" y="46"/>
                  </a:lnTo>
                  <a:lnTo>
                    <a:pt x="45" y="0"/>
                  </a:lnTo>
                  <a:lnTo>
                    <a:pt x="113" y="0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26120" y="5127840"/>
              <a:ext cx="269640" cy="248760"/>
            </a:xfrm>
            <a:custGeom>
              <a:avLst/>
              <a:gdLst/>
              <a:ahLst/>
              <a:rect l="l" t="t" r="r" b="b"/>
              <a:pathLst>
                <a:path w="295" h="272">
                  <a:moveTo>
                    <a:pt x="0" y="272"/>
                  </a:moveTo>
                  <a:lnTo>
                    <a:pt x="204" y="272"/>
                  </a:lnTo>
                  <a:lnTo>
                    <a:pt x="250" y="204"/>
                  </a:lnTo>
                  <a:lnTo>
                    <a:pt x="250" y="159"/>
                  </a:lnTo>
                  <a:lnTo>
                    <a:pt x="295" y="114"/>
                  </a:lnTo>
                  <a:lnTo>
                    <a:pt x="272" y="46"/>
                  </a:lnTo>
                  <a:lnTo>
                    <a:pt x="227" y="0"/>
                  </a:lnTo>
                  <a:lnTo>
                    <a:pt x="182" y="46"/>
                  </a:lnTo>
                  <a:lnTo>
                    <a:pt x="159" y="136"/>
                  </a:lnTo>
                  <a:lnTo>
                    <a:pt x="159" y="182"/>
                  </a:lnTo>
                  <a:lnTo>
                    <a:pt x="114" y="227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67520" y="4795920"/>
              <a:ext cx="331560" cy="477360"/>
            </a:xfrm>
            <a:custGeom>
              <a:avLst/>
              <a:gdLst/>
              <a:ahLst/>
              <a:rect l="l" t="t" r="r" b="b"/>
              <a:pathLst>
                <a:path w="363" h="522">
                  <a:moveTo>
                    <a:pt x="227" y="114"/>
                  </a:moveTo>
                  <a:lnTo>
                    <a:pt x="205" y="114"/>
                  </a:lnTo>
                  <a:lnTo>
                    <a:pt x="205" y="136"/>
                  </a:lnTo>
                  <a:lnTo>
                    <a:pt x="159" y="136"/>
                  </a:lnTo>
                  <a:lnTo>
                    <a:pt x="159" y="114"/>
                  </a:lnTo>
                  <a:lnTo>
                    <a:pt x="137" y="91"/>
                  </a:lnTo>
                  <a:lnTo>
                    <a:pt x="159" y="68"/>
                  </a:lnTo>
                  <a:lnTo>
                    <a:pt x="182" y="46"/>
                  </a:lnTo>
                  <a:lnTo>
                    <a:pt x="159" y="0"/>
                  </a:lnTo>
                  <a:lnTo>
                    <a:pt x="69" y="23"/>
                  </a:lnTo>
                  <a:lnTo>
                    <a:pt x="46" y="23"/>
                  </a:lnTo>
                  <a:lnTo>
                    <a:pt x="46" y="91"/>
                  </a:lnTo>
                  <a:lnTo>
                    <a:pt x="91" y="91"/>
                  </a:lnTo>
                  <a:lnTo>
                    <a:pt x="69" y="136"/>
                  </a:lnTo>
                  <a:lnTo>
                    <a:pt x="0" y="136"/>
                  </a:lnTo>
                  <a:lnTo>
                    <a:pt x="0" y="182"/>
                  </a:lnTo>
                  <a:lnTo>
                    <a:pt x="69" y="205"/>
                  </a:lnTo>
                  <a:lnTo>
                    <a:pt x="91" y="250"/>
                  </a:lnTo>
                  <a:lnTo>
                    <a:pt x="91" y="318"/>
                  </a:lnTo>
                  <a:lnTo>
                    <a:pt x="182" y="363"/>
                  </a:lnTo>
                  <a:lnTo>
                    <a:pt x="227" y="409"/>
                  </a:lnTo>
                  <a:lnTo>
                    <a:pt x="250" y="477"/>
                  </a:lnTo>
                  <a:lnTo>
                    <a:pt x="250" y="522"/>
                  </a:lnTo>
                  <a:lnTo>
                    <a:pt x="341" y="522"/>
                  </a:lnTo>
                  <a:lnTo>
                    <a:pt x="363" y="477"/>
                  </a:lnTo>
                  <a:lnTo>
                    <a:pt x="318" y="454"/>
                  </a:lnTo>
                  <a:lnTo>
                    <a:pt x="295" y="363"/>
                  </a:lnTo>
                  <a:lnTo>
                    <a:pt x="341" y="318"/>
                  </a:lnTo>
                  <a:lnTo>
                    <a:pt x="341" y="273"/>
                  </a:lnTo>
                  <a:lnTo>
                    <a:pt x="318" y="227"/>
                  </a:lnTo>
                  <a:lnTo>
                    <a:pt x="227" y="205"/>
                  </a:lnTo>
                  <a:lnTo>
                    <a:pt x="227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218400" y="4775760"/>
              <a:ext cx="415080" cy="476280"/>
            </a:xfrm>
            <a:custGeom>
              <a:avLst/>
              <a:gdLst/>
              <a:ahLst/>
              <a:rect l="l" t="t" r="r" b="b"/>
              <a:pathLst>
                <a:path w="454" h="521">
                  <a:moveTo>
                    <a:pt x="386" y="521"/>
                  </a:moveTo>
                  <a:lnTo>
                    <a:pt x="409" y="431"/>
                  </a:lnTo>
                  <a:lnTo>
                    <a:pt x="454" y="385"/>
                  </a:lnTo>
                  <a:lnTo>
                    <a:pt x="363" y="340"/>
                  </a:lnTo>
                  <a:lnTo>
                    <a:pt x="363" y="272"/>
                  </a:lnTo>
                  <a:lnTo>
                    <a:pt x="341" y="227"/>
                  </a:lnTo>
                  <a:lnTo>
                    <a:pt x="272" y="204"/>
                  </a:lnTo>
                  <a:lnTo>
                    <a:pt x="272" y="158"/>
                  </a:lnTo>
                  <a:lnTo>
                    <a:pt x="341" y="158"/>
                  </a:lnTo>
                  <a:lnTo>
                    <a:pt x="363" y="113"/>
                  </a:lnTo>
                  <a:lnTo>
                    <a:pt x="318" y="113"/>
                  </a:lnTo>
                  <a:lnTo>
                    <a:pt x="318" y="45"/>
                  </a:lnTo>
                  <a:lnTo>
                    <a:pt x="272" y="22"/>
                  </a:lnTo>
                  <a:lnTo>
                    <a:pt x="227" y="22"/>
                  </a:lnTo>
                  <a:lnTo>
                    <a:pt x="182" y="0"/>
                  </a:lnTo>
                  <a:lnTo>
                    <a:pt x="136" y="22"/>
                  </a:lnTo>
                  <a:lnTo>
                    <a:pt x="136" y="68"/>
                  </a:lnTo>
                  <a:lnTo>
                    <a:pt x="136" y="158"/>
                  </a:lnTo>
                  <a:lnTo>
                    <a:pt x="91" y="181"/>
                  </a:lnTo>
                  <a:lnTo>
                    <a:pt x="0" y="295"/>
                  </a:lnTo>
                  <a:lnTo>
                    <a:pt x="0" y="340"/>
                  </a:lnTo>
                  <a:lnTo>
                    <a:pt x="23" y="363"/>
                  </a:lnTo>
                  <a:lnTo>
                    <a:pt x="23" y="408"/>
                  </a:lnTo>
                  <a:lnTo>
                    <a:pt x="46" y="385"/>
                  </a:lnTo>
                  <a:lnTo>
                    <a:pt x="91" y="385"/>
                  </a:lnTo>
                  <a:lnTo>
                    <a:pt x="114" y="408"/>
                  </a:lnTo>
                  <a:lnTo>
                    <a:pt x="114" y="385"/>
                  </a:lnTo>
                  <a:lnTo>
                    <a:pt x="182" y="408"/>
                  </a:lnTo>
                  <a:lnTo>
                    <a:pt x="182" y="453"/>
                  </a:lnTo>
                  <a:lnTo>
                    <a:pt x="250" y="499"/>
                  </a:lnTo>
                  <a:lnTo>
                    <a:pt x="295" y="499"/>
                  </a:lnTo>
                  <a:lnTo>
                    <a:pt x="318" y="476"/>
                  </a:lnTo>
                  <a:lnTo>
                    <a:pt x="341" y="476"/>
                  </a:lnTo>
                  <a:lnTo>
                    <a:pt x="363" y="499"/>
                  </a:lnTo>
                  <a:lnTo>
                    <a:pt x="386" y="5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66320" y="4754880"/>
              <a:ext cx="476280" cy="186480"/>
            </a:xfrm>
            <a:custGeom>
              <a:avLst/>
              <a:gdLst/>
              <a:ahLst/>
              <a:rect l="l" t="t" r="r" b="b"/>
              <a:pathLst>
                <a:path w="521" h="204">
                  <a:moveTo>
                    <a:pt x="521" y="45"/>
                  </a:moveTo>
                  <a:lnTo>
                    <a:pt x="521" y="181"/>
                  </a:lnTo>
                  <a:lnTo>
                    <a:pt x="476" y="204"/>
                  </a:lnTo>
                  <a:lnTo>
                    <a:pt x="385" y="204"/>
                  </a:lnTo>
                  <a:lnTo>
                    <a:pt x="385" y="159"/>
                  </a:lnTo>
                  <a:lnTo>
                    <a:pt x="363" y="136"/>
                  </a:lnTo>
                  <a:lnTo>
                    <a:pt x="317" y="113"/>
                  </a:lnTo>
                  <a:lnTo>
                    <a:pt x="272" y="136"/>
                  </a:lnTo>
                  <a:lnTo>
                    <a:pt x="249" y="113"/>
                  </a:lnTo>
                  <a:lnTo>
                    <a:pt x="204" y="91"/>
                  </a:lnTo>
                  <a:lnTo>
                    <a:pt x="159" y="136"/>
                  </a:lnTo>
                  <a:lnTo>
                    <a:pt x="90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22" y="91"/>
                  </a:lnTo>
                  <a:lnTo>
                    <a:pt x="90" y="91"/>
                  </a:lnTo>
                  <a:lnTo>
                    <a:pt x="113" y="23"/>
                  </a:lnTo>
                  <a:lnTo>
                    <a:pt x="136" y="23"/>
                  </a:lnTo>
                  <a:lnTo>
                    <a:pt x="181" y="0"/>
                  </a:lnTo>
                  <a:lnTo>
                    <a:pt x="204" y="0"/>
                  </a:lnTo>
                  <a:lnTo>
                    <a:pt x="272" y="45"/>
                  </a:lnTo>
                  <a:lnTo>
                    <a:pt x="385" y="68"/>
                  </a:lnTo>
                  <a:lnTo>
                    <a:pt x="476" y="68"/>
                  </a:lnTo>
                  <a:lnTo>
                    <a:pt x="521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66320" y="4838040"/>
              <a:ext cx="435240" cy="372960"/>
            </a:xfrm>
            <a:custGeom>
              <a:avLst/>
              <a:gdLst/>
              <a:ahLst/>
              <a:rect l="l" t="t" r="r" b="b"/>
              <a:pathLst>
                <a:path w="476" h="408">
                  <a:moveTo>
                    <a:pt x="0" y="68"/>
                  </a:moveTo>
                  <a:lnTo>
                    <a:pt x="90" y="68"/>
                  </a:lnTo>
                  <a:lnTo>
                    <a:pt x="159" y="45"/>
                  </a:lnTo>
                  <a:lnTo>
                    <a:pt x="204" y="0"/>
                  </a:lnTo>
                  <a:lnTo>
                    <a:pt x="249" y="22"/>
                  </a:lnTo>
                  <a:lnTo>
                    <a:pt x="272" y="45"/>
                  </a:lnTo>
                  <a:lnTo>
                    <a:pt x="317" y="22"/>
                  </a:lnTo>
                  <a:lnTo>
                    <a:pt x="363" y="45"/>
                  </a:lnTo>
                  <a:lnTo>
                    <a:pt x="385" y="68"/>
                  </a:lnTo>
                  <a:lnTo>
                    <a:pt x="385" y="113"/>
                  </a:lnTo>
                  <a:lnTo>
                    <a:pt x="476" y="113"/>
                  </a:lnTo>
                  <a:lnTo>
                    <a:pt x="385" y="227"/>
                  </a:lnTo>
                  <a:lnTo>
                    <a:pt x="385" y="272"/>
                  </a:lnTo>
                  <a:lnTo>
                    <a:pt x="408" y="295"/>
                  </a:lnTo>
                  <a:lnTo>
                    <a:pt x="408" y="340"/>
                  </a:lnTo>
                  <a:lnTo>
                    <a:pt x="385" y="317"/>
                  </a:lnTo>
                  <a:lnTo>
                    <a:pt x="363" y="317"/>
                  </a:lnTo>
                  <a:lnTo>
                    <a:pt x="340" y="295"/>
                  </a:lnTo>
                  <a:lnTo>
                    <a:pt x="317" y="317"/>
                  </a:lnTo>
                  <a:lnTo>
                    <a:pt x="363" y="340"/>
                  </a:lnTo>
                  <a:lnTo>
                    <a:pt x="295" y="363"/>
                  </a:lnTo>
                  <a:lnTo>
                    <a:pt x="249" y="317"/>
                  </a:lnTo>
                  <a:lnTo>
                    <a:pt x="227" y="340"/>
                  </a:lnTo>
                  <a:lnTo>
                    <a:pt x="227" y="363"/>
                  </a:lnTo>
                  <a:lnTo>
                    <a:pt x="204" y="408"/>
                  </a:lnTo>
                  <a:lnTo>
                    <a:pt x="181" y="385"/>
                  </a:lnTo>
                  <a:lnTo>
                    <a:pt x="159" y="385"/>
                  </a:lnTo>
                  <a:lnTo>
                    <a:pt x="159" y="340"/>
                  </a:lnTo>
                  <a:lnTo>
                    <a:pt x="113" y="340"/>
                  </a:lnTo>
                  <a:lnTo>
                    <a:pt x="90" y="363"/>
                  </a:lnTo>
                  <a:lnTo>
                    <a:pt x="45" y="363"/>
                  </a:lnTo>
                  <a:lnTo>
                    <a:pt x="45" y="317"/>
                  </a:lnTo>
                  <a:lnTo>
                    <a:pt x="68" y="204"/>
                  </a:lnTo>
                  <a:lnTo>
                    <a:pt x="45" y="181"/>
                  </a:lnTo>
                  <a:lnTo>
                    <a:pt x="68" y="113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451240" y="4858200"/>
              <a:ext cx="477000" cy="331920"/>
            </a:xfrm>
            <a:custGeom>
              <a:avLst/>
              <a:gdLst/>
              <a:ahLst/>
              <a:rect l="l" t="t" r="r" b="b"/>
              <a:pathLst>
                <a:path w="522" h="363">
                  <a:moveTo>
                    <a:pt x="23" y="318"/>
                  </a:moveTo>
                  <a:lnTo>
                    <a:pt x="0" y="273"/>
                  </a:lnTo>
                  <a:lnTo>
                    <a:pt x="0" y="205"/>
                  </a:lnTo>
                  <a:lnTo>
                    <a:pt x="46" y="137"/>
                  </a:lnTo>
                  <a:lnTo>
                    <a:pt x="68" y="114"/>
                  </a:lnTo>
                  <a:lnTo>
                    <a:pt x="136" y="91"/>
                  </a:lnTo>
                  <a:lnTo>
                    <a:pt x="204" y="91"/>
                  </a:lnTo>
                  <a:lnTo>
                    <a:pt x="272" y="114"/>
                  </a:lnTo>
                  <a:lnTo>
                    <a:pt x="272" y="68"/>
                  </a:lnTo>
                  <a:lnTo>
                    <a:pt x="318" y="46"/>
                  </a:lnTo>
                  <a:lnTo>
                    <a:pt x="363" y="0"/>
                  </a:lnTo>
                  <a:lnTo>
                    <a:pt x="431" y="46"/>
                  </a:lnTo>
                  <a:lnTo>
                    <a:pt x="454" y="46"/>
                  </a:lnTo>
                  <a:lnTo>
                    <a:pt x="522" y="91"/>
                  </a:lnTo>
                  <a:lnTo>
                    <a:pt x="499" y="159"/>
                  </a:lnTo>
                  <a:lnTo>
                    <a:pt x="522" y="182"/>
                  </a:lnTo>
                  <a:lnTo>
                    <a:pt x="499" y="295"/>
                  </a:lnTo>
                  <a:lnTo>
                    <a:pt x="499" y="341"/>
                  </a:lnTo>
                  <a:lnTo>
                    <a:pt x="454" y="363"/>
                  </a:lnTo>
                  <a:lnTo>
                    <a:pt x="431" y="341"/>
                  </a:lnTo>
                  <a:lnTo>
                    <a:pt x="431" y="318"/>
                  </a:lnTo>
                  <a:lnTo>
                    <a:pt x="408" y="341"/>
                  </a:lnTo>
                  <a:lnTo>
                    <a:pt x="386" y="341"/>
                  </a:lnTo>
                  <a:lnTo>
                    <a:pt x="363" y="318"/>
                  </a:lnTo>
                  <a:lnTo>
                    <a:pt x="363" y="341"/>
                  </a:lnTo>
                  <a:lnTo>
                    <a:pt x="340" y="363"/>
                  </a:lnTo>
                  <a:lnTo>
                    <a:pt x="318" y="341"/>
                  </a:lnTo>
                  <a:lnTo>
                    <a:pt x="295" y="341"/>
                  </a:lnTo>
                  <a:lnTo>
                    <a:pt x="272" y="363"/>
                  </a:lnTo>
                  <a:lnTo>
                    <a:pt x="250" y="341"/>
                  </a:lnTo>
                  <a:lnTo>
                    <a:pt x="204" y="363"/>
                  </a:lnTo>
                  <a:lnTo>
                    <a:pt x="182" y="363"/>
                  </a:lnTo>
                  <a:lnTo>
                    <a:pt x="159" y="341"/>
                  </a:lnTo>
                  <a:lnTo>
                    <a:pt x="159" y="318"/>
                  </a:lnTo>
                  <a:lnTo>
                    <a:pt x="159" y="295"/>
                  </a:lnTo>
                  <a:lnTo>
                    <a:pt x="114" y="273"/>
                  </a:lnTo>
                  <a:lnTo>
                    <a:pt x="46" y="318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84640" y="4257360"/>
              <a:ext cx="643680" cy="559440"/>
            </a:xfrm>
            <a:custGeom>
              <a:avLst/>
              <a:gdLst/>
              <a:ahLst/>
              <a:rect l="l" t="t" r="r" b="b"/>
              <a:pathLst>
                <a:path w="704" h="612">
                  <a:moveTo>
                    <a:pt x="0" y="453"/>
                  </a:moveTo>
                  <a:lnTo>
                    <a:pt x="0" y="340"/>
                  </a:lnTo>
                  <a:lnTo>
                    <a:pt x="23" y="317"/>
                  </a:lnTo>
                  <a:lnTo>
                    <a:pt x="0" y="249"/>
                  </a:lnTo>
                  <a:lnTo>
                    <a:pt x="46" y="204"/>
                  </a:lnTo>
                  <a:lnTo>
                    <a:pt x="159" y="204"/>
                  </a:lnTo>
                  <a:lnTo>
                    <a:pt x="227" y="90"/>
                  </a:lnTo>
                  <a:lnTo>
                    <a:pt x="273" y="90"/>
                  </a:lnTo>
                  <a:lnTo>
                    <a:pt x="363" y="158"/>
                  </a:lnTo>
                  <a:lnTo>
                    <a:pt x="409" y="158"/>
                  </a:lnTo>
                  <a:lnTo>
                    <a:pt x="431" y="113"/>
                  </a:lnTo>
                  <a:lnTo>
                    <a:pt x="454" y="90"/>
                  </a:lnTo>
                  <a:lnTo>
                    <a:pt x="477" y="0"/>
                  </a:lnTo>
                  <a:lnTo>
                    <a:pt x="499" y="0"/>
                  </a:lnTo>
                  <a:lnTo>
                    <a:pt x="522" y="45"/>
                  </a:lnTo>
                  <a:lnTo>
                    <a:pt x="522" y="90"/>
                  </a:lnTo>
                  <a:lnTo>
                    <a:pt x="567" y="113"/>
                  </a:lnTo>
                  <a:lnTo>
                    <a:pt x="590" y="181"/>
                  </a:lnTo>
                  <a:lnTo>
                    <a:pt x="658" y="204"/>
                  </a:lnTo>
                  <a:lnTo>
                    <a:pt x="704" y="204"/>
                  </a:lnTo>
                  <a:lnTo>
                    <a:pt x="704" y="272"/>
                  </a:lnTo>
                  <a:lnTo>
                    <a:pt x="658" y="453"/>
                  </a:lnTo>
                  <a:lnTo>
                    <a:pt x="590" y="567"/>
                  </a:lnTo>
                  <a:lnTo>
                    <a:pt x="567" y="589"/>
                  </a:lnTo>
                  <a:lnTo>
                    <a:pt x="522" y="589"/>
                  </a:lnTo>
                  <a:lnTo>
                    <a:pt x="499" y="612"/>
                  </a:lnTo>
                  <a:lnTo>
                    <a:pt x="477" y="589"/>
                  </a:lnTo>
                  <a:lnTo>
                    <a:pt x="454" y="544"/>
                  </a:lnTo>
                  <a:lnTo>
                    <a:pt x="431" y="567"/>
                  </a:lnTo>
                  <a:lnTo>
                    <a:pt x="431" y="612"/>
                  </a:lnTo>
                  <a:lnTo>
                    <a:pt x="363" y="567"/>
                  </a:lnTo>
                  <a:lnTo>
                    <a:pt x="363" y="521"/>
                  </a:lnTo>
                  <a:lnTo>
                    <a:pt x="273" y="408"/>
                  </a:lnTo>
                  <a:lnTo>
                    <a:pt x="205" y="385"/>
                  </a:lnTo>
                  <a:lnTo>
                    <a:pt x="159" y="453"/>
                  </a:lnTo>
                  <a:lnTo>
                    <a:pt x="114" y="453"/>
                  </a:lnTo>
                  <a:lnTo>
                    <a:pt x="91" y="431"/>
                  </a:lnTo>
                  <a:lnTo>
                    <a:pt x="23" y="476"/>
                  </a:lnTo>
                  <a:lnTo>
                    <a:pt x="0" y="4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562000" y="3946320"/>
              <a:ext cx="518400" cy="497520"/>
            </a:xfrm>
            <a:custGeom>
              <a:avLst/>
              <a:gdLst/>
              <a:ahLst/>
              <a:rect l="l" t="t" r="r" b="b"/>
              <a:pathLst>
                <a:path w="567" h="544">
                  <a:moveTo>
                    <a:pt x="0" y="385"/>
                  </a:moveTo>
                  <a:lnTo>
                    <a:pt x="23" y="340"/>
                  </a:lnTo>
                  <a:lnTo>
                    <a:pt x="23" y="272"/>
                  </a:lnTo>
                  <a:lnTo>
                    <a:pt x="114" y="204"/>
                  </a:lnTo>
                  <a:lnTo>
                    <a:pt x="136" y="158"/>
                  </a:lnTo>
                  <a:lnTo>
                    <a:pt x="114" y="113"/>
                  </a:lnTo>
                  <a:lnTo>
                    <a:pt x="159" y="90"/>
                  </a:lnTo>
                  <a:lnTo>
                    <a:pt x="159" y="45"/>
                  </a:lnTo>
                  <a:lnTo>
                    <a:pt x="250" y="0"/>
                  </a:lnTo>
                  <a:lnTo>
                    <a:pt x="272" y="45"/>
                  </a:lnTo>
                  <a:lnTo>
                    <a:pt x="340" y="45"/>
                  </a:lnTo>
                  <a:lnTo>
                    <a:pt x="363" y="68"/>
                  </a:lnTo>
                  <a:lnTo>
                    <a:pt x="363" y="113"/>
                  </a:lnTo>
                  <a:lnTo>
                    <a:pt x="408" y="136"/>
                  </a:lnTo>
                  <a:lnTo>
                    <a:pt x="431" y="113"/>
                  </a:lnTo>
                  <a:lnTo>
                    <a:pt x="454" y="136"/>
                  </a:lnTo>
                  <a:lnTo>
                    <a:pt x="476" y="90"/>
                  </a:lnTo>
                  <a:lnTo>
                    <a:pt x="476" y="68"/>
                  </a:lnTo>
                  <a:lnTo>
                    <a:pt x="499" y="45"/>
                  </a:lnTo>
                  <a:lnTo>
                    <a:pt x="544" y="45"/>
                  </a:lnTo>
                  <a:lnTo>
                    <a:pt x="567" y="90"/>
                  </a:lnTo>
                  <a:lnTo>
                    <a:pt x="522" y="113"/>
                  </a:lnTo>
                  <a:lnTo>
                    <a:pt x="499" y="136"/>
                  </a:lnTo>
                  <a:lnTo>
                    <a:pt x="476" y="158"/>
                  </a:lnTo>
                  <a:lnTo>
                    <a:pt x="499" y="181"/>
                  </a:lnTo>
                  <a:lnTo>
                    <a:pt x="454" y="181"/>
                  </a:lnTo>
                  <a:lnTo>
                    <a:pt x="431" y="204"/>
                  </a:lnTo>
                  <a:lnTo>
                    <a:pt x="454" y="204"/>
                  </a:lnTo>
                  <a:lnTo>
                    <a:pt x="454" y="226"/>
                  </a:lnTo>
                  <a:lnTo>
                    <a:pt x="431" y="226"/>
                  </a:lnTo>
                  <a:lnTo>
                    <a:pt x="454" y="249"/>
                  </a:lnTo>
                  <a:lnTo>
                    <a:pt x="431" y="317"/>
                  </a:lnTo>
                  <a:lnTo>
                    <a:pt x="386" y="294"/>
                  </a:lnTo>
                  <a:lnTo>
                    <a:pt x="318" y="294"/>
                  </a:lnTo>
                  <a:lnTo>
                    <a:pt x="272" y="272"/>
                  </a:lnTo>
                  <a:lnTo>
                    <a:pt x="250" y="294"/>
                  </a:lnTo>
                  <a:lnTo>
                    <a:pt x="272" y="317"/>
                  </a:lnTo>
                  <a:lnTo>
                    <a:pt x="227" y="340"/>
                  </a:lnTo>
                  <a:lnTo>
                    <a:pt x="159" y="476"/>
                  </a:lnTo>
                  <a:lnTo>
                    <a:pt x="182" y="544"/>
                  </a:lnTo>
                  <a:lnTo>
                    <a:pt x="136" y="544"/>
                  </a:lnTo>
                  <a:lnTo>
                    <a:pt x="68" y="521"/>
                  </a:lnTo>
                  <a:lnTo>
                    <a:pt x="45" y="453"/>
                  </a:lnTo>
                  <a:lnTo>
                    <a:pt x="0" y="430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90600" y="3385800"/>
              <a:ext cx="497160" cy="684720"/>
            </a:xfrm>
            <a:custGeom>
              <a:avLst/>
              <a:gdLst/>
              <a:ahLst/>
              <a:rect l="l" t="t" r="r" b="b"/>
              <a:pathLst>
                <a:path w="544" h="749">
                  <a:moveTo>
                    <a:pt x="226" y="23"/>
                  </a:moveTo>
                  <a:lnTo>
                    <a:pt x="204" y="23"/>
                  </a:lnTo>
                  <a:lnTo>
                    <a:pt x="158" y="68"/>
                  </a:lnTo>
                  <a:lnTo>
                    <a:pt x="158" y="136"/>
                  </a:lnTo>
                  <a:lnTo>
                    <a:pt x="136" y="159"/>
                  </a:lnTo>
                  <a:lnTo>
                    <a:pt x="113" y="250"/>
                  </a:lnTo>
                  <a:lnTo>
                    <a:pt x="0" y="386"/>
                  </a:lnTo>
                  <a:lnTo>
                    <a:pt x="22" y="476"/>
                  </a:lnTo>
                  <a:lnTo>
                    <a:pt x="0" y="613"/>
                  </a:lnTo>
                  <a:lnTo>
                    <a:pt x="22" y="658"/>
                  </a:lnTo>
                  <a:lnTo>
                    <a:pt x="90" y="658"/>
                  </a:lnTo>
                  <a:lnTo>
                    <a:pt x="113" y="681"/>
                  </a:lnTo>
                  <a:lnTo>
                    <a:pt x="113" y="726"/>
                  </a:lnTo>
                  <a:lnTo>
                    <a:pt x="158" y="749"/>
                  </a:lnTo>
                  <a:lnTo>
                    <a:pt x="181" y="726"/>
                  </a:lnTo>
                  <a:lnTo>
                    <a:pt x="204" y="749"/>
                  </a:lnTo>
                  <a:lnTo>
                    <a:pt x="226" y="703"/>
                  </a:lnTo>
                  <a:lnTo>
                    <a:pt x="226" y="681"/>
                  </a:lnTo>
                  <a:lnTo>
                    <a:pt x="249" y="658"/>
                  </a:lnTo>
                  <a:lnTo>
                    <a:pt x="294" y="658"/>
                  </a:lnTo>
                  <a:lnTo>
                    <a:pt x="340" y="681"/>
                  </a:lnTo>
                  <a:lnTo>
                    <a:pt x="340" y="635"/>
                  </a:lnTo>
                  <a:lnTo>
                    <a:pt x="362" y="658"/>
                  </a:lnTo>
                  <a:lnTo>
                    <a:pt x="385" y="635"/>
                  </a:lnTo>
                  <a:lnTo>
                    <a:pt x="431" y="613"/>
                  </a:lnTo>
                  <a:lnTo>
                    <a:pt x="431" y="567"/>
                  </a:lnTo>
                  <a:lnTo>
                    <a:pt x="476" y="499"/>
                  </a:lnTo>
                  <a:lnTo>
                    <a:pt x="476" y="476"/>
                  </a:lnTo>
                  <a:lnTo>
                    <a:pt x="521" y="454"/>
                  </a:lnTo>
                  <a:lnTo>
                    <a:pt x="521" y="408"/>
                  </a:lnTo>
                  <a:lnTo>
                    <a:pt x="499" y="408"/>
                  </a:lnTo>
                  <a:lnTo>
                    <a:pt x="544" y="318"/>
                  </a:lnTo>
                  <a:lnTo>
                    <a:pt x="521" y="272"/>
                  </a:lnTo>
                  <a:lnTo>
                    <a:pt x="544" y="227"/>
                  </a:lnTo>
                  <a:lnTo>
                    <a:pt x="499" y="204"/>
                  </a:lnTo>
                  <a:lnTo>
                    <a:pt x="499" y="182"/>
                  </a:lnTo>
                  <a:lnTo>
                    <a:pt x="521" y="159"/>
                  </a:lnTo>
                  <a:lnTo>
                    <a:pt x="499" y="136"/>
                  </a:lnTo>
                  <a:lnTo>
                    <a:pt x="521" y="114"/>
                  </a:lnTo>
                  <a:lnTo>
                    <a:pt x="521" y="46"/>
                  </a:lnTo>
                  <a:lnTo>
                    <a:pt x="499" y="0"/>
                  </a:lnTo>
                  <a:lnTo>
                    <a:pt x="272" y="0"/>
                  </a:lnTo>
                  <a:lnTo>
                    <a:pt x="226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666400" y="2846160"/>
              <a:ext cx="621720" cy="560520"/>
            </a:xfrm>
            <a:custGeom>
              <a:avLst/>
              <a:gdLst/>
              <a:ahLst/>
              <a:rect l="l" t="t" r="r" b="b"/>
              <a:pathLst>
                <a:path w="680" h="613">
                  <a:moveTo>
                    <a:pt x="498" y="0"/>
                  </a:moveTo>
                  <a:lnTo>
                    <a:pt x="430" y="46"/>
                  </a:lnTo>
                  <a:lnTo>
                    <a:pt x="385" y="182"/>
                  </a:lnTo>
                  <a:lnTo>
                    <a:pt x="498" y="159"/>
                  </a:lnTo>
                  <a:lnTo>
                    <a:pt x="544" y="114"/>
                  </a:lnTo>
                  <a:lnTo>
                    <a:pt x="589" y="182"/>
                  </a:lnTo>
                  <a:lnTo>
                    <a:pt x="544" y="295"/>
                  </a:lnTo>
                  <a:lnTo>
                    <a:pt x="498" y="341"/>
                  </a:lnTo>
                  <a:lnTo>
                    <a:pt x="430" y="250"/>
                  </a:lnTo>
                  <a:lnTo>
                    <a:pt x="408" y="295"/>
                  </a:lnTo>
                  <a:lnTo>
                    <a:pt x="362" y="318"/>
                  </a:lnTo>
                  <a:lnTo>
                    <a:pt x="317" y="295"/>
                  </a:lnTo>
                  <a:lnTo>
                    <a:pt x="340" y="159"/>
                  </a:lnTo>
                  <a:lnTo>
                    <a:pt x="340" y="137"/>
                  </a:lnTo>
                  <a:lnTo>
                    <a:pt x="317" y="114"/>
                  </a:lnTo>
                  <a:lnTo>
                    <a:pt x="294" y="137"/>
                  </a:lnTo>
                  <a:lnTo>
                    <a:pt x="249" y="91"/>
                  </a:lnTo>
                  <a:lnTo>
                    <a:pt x="226" y="137"/>
                  </a:lnTo>
                  <a:lnTo>
                    <a:pt x="226" y="159"/>
                  </a:lnTo>
                  <a:lnTo>
                    <a:pt x="204" y="227"/>
                  </a:lnTo>
                  <a:lnTo>
                    <a:pt x="158" y="295"/>
                  </a:lnTo>
                  <a:lnTo>
                    <a:pt x="90" y="318"/>
                  </a:lnTo>
                  <a:lnTo>
                    <a:pt x="68" y="295"/>
                  </a:lnTo>
                  <a:lnTo>
                    <a:pt x="0" y="341"/>
                  </a:lnTo>
                  <a:lnTo>
                    <a:pt x="22" y="363"/>
                  </a:lnTo>
                  <a:lnTo>
                    <a:pt x="0" y="409"/>
                  </a:lnTo>
                  <a:lnTo>
                    <a:pt x="113" y="477"/>
                  </a:lnTo>
                  <a:lnTo>
                    <a:pt x="204" y="454"/>
                  </a:lnTo>
                  <a:lnTo>
                    <a:pt x="249" y="499"/>
                  </a:lnTo>
                  <a:lnTo>
                    <a:pt x="340" y="477"/>
                  </a:lnTo>
                  <a:lnTo>
                    <a:pt x="362" y="545"/>
                  </a:lnTo>
                  <a:lnTo>
                    <a:pt x="340" y="590"/>
                  </a:lnTo>
                  <a:lnTo>
                    <a:pt x="362" y="613"/>
                  </a:lnTo>
                  <a:lnTo>
                    <a:pt x="408" y="590"/>
                  </a:lnTo>
                  <a:lnTo>
                    <a:pt x="635" y="590"/>
                  </a:lnTo>
                  <a:lnTo>
                    <a:pt x="612" y="545"/>
                  </a:lnTo>
                  <a:lnTo>
                    <a:pt x="567" y="522"/>
                  </a:lnTo>
                  <a:lnTo>
                    <a:pt x="567" y="431"/>
                  </a:lnTo>
                  <a:lnTo>
                    <a:pt x="612" y="205"/>
                  </a:lnTo>
                  <a:lnTo>
                    <a:pt x="680" y="114"/>
                  </a:lnTo>
                  <a:lnTo>
                    <a:pt x="657" y="114"/>
                  </a:lnTo>
                  <a:lnTo>
                    <a:pt x="612" y="114"/>
                  </a:lnTo>
                  <a:lnTo>
                    <a:pt x="544" y="69"/>
                  </a:lnTo>
                  <a:lnTo>
                    <a:pt x="544" y="46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66240" y="4008600"/>
              <a:ext cx="850320" cy="683640"/>
            </a:xfrm>
            <a:custGeom>
              <a:avLst/>
              <a:gdLst/>
              <a:ahLst/>
              <a:rect l="l" t="t" r="r" b="b"/>
              <a:pathLst>
                <a:path w="930" h="748">
                  <a:moveTo>
                    <a:pt x="840" y="0"/>
                  </a:moveTo>
                  <a:lnTo>
                    <a:pt x="794" y="113"/>
                  </a:lnTo>
                  <a:lnTo>
                    <a:pt x="726" y="204"/>
                  </a:lnTo>
                  <a:lnTo>
                    <a:pt x="499" y="249"/>
                  </a:lnTo>
                  <a:lnTo>
                    <a:pt x="454" y="362"/>
                  </a:lnTo>
                  <a:lnTo>
                    <a:pt x="205" y="521"/>
                  </a:lnTo>
                  <a:lnTo>
                    <a:pt x="114" y="521"/>
                  </a:lnTo>
                  <a:lnTo>
                    <a:pt x="0" y="544"/>
                  </a:lnTo>
                  <a:lnTo>
                    <a:pt x="0" y="657"/>
                  </a:lnTo>
                  <a:lnTo>
                    <a:pt x="69" y="612"/>
                  </a:lnTo>
                  <a:lnTo>
                    <a:pt x="114" y="612"/>
                  </a:lnTo>
                  <a:lnTo>
                    <a:pt x="114" y="657"/>
                  </a:lnTo>
                  <a:lnTo>
                    <a:pt x="205" y="635"/>
                  </a:lnTo>
                  <a:lnTo>
                    <a:pt x="273" y="589"/>
                  </a:lnTo>
                  <a:lnTo>
                    <a:pt x="318" y="612"/>
                  </a:lnTo>
                  <a:lnTo>
                    <a:pt x="295" y="680"/>
                  </a:lnTo>
                  <a:lnTo>
                    <a:pt x="341" y="703"/>
                  </a:lnTo>
                  <a:lnTo>
                    <a:pt x="341" y="748"/>
                  </a:lnTo>
                  <a:lnTo>
                    <a:pt x="454" y="703"/>
                  </a:lnTo>
                  <a:lnTo>
                    <a:pt x="454" y="657"/>
                  </a:lnTo>
                  <a:lnTo>
                    <a:pt x="499" y="657"/>
                  </a:lnTo>
                  <a:lnTo>
                    <a:pt x="522" y="725"/>
                  </a:lnTo>
                  <a:lnTo>
                    <a:pt x="567" y="725"/>
                  </a:lnTo>
                  <a:lnTo>
                    <a:pt x="567" y="612"/>
                  </a:lnTo>
                  <a:lnTo>
                    <a:pt x="590" y="589"/>
                  </a:lnTo>
                  <a:lnTo>
                    <a:pt x="567" y="521"/>
                  </a:lnTo>
                  <a:lnTo>
                    <a:pt x="613" y="476"/>
                  </a:lnTo>
                  <a:lnTo>
                    <a:pt x="681" y="476"/>
                  </a:lnTo>
                  <a:lnTo>
                    <a:pt x="726" y="476"/>
                  </a:lnTo>
                  <a:lnTo>
                    <a:pt x="749" y="430"/>
                  </a:lnTo>
                  <a:lnTo>
                    <a:pt x="794" y="362"/>
                  </a:lnTo>
                  <a:lnTo>
                    <a:pt x="772" y="294"/>
                  </a:lnTo>
                  <a:lnTo>
                    <a:pt x="817" y="226"/>
                  </a:lnTo>
                  <a:lnTo>
                    <a:pt x="862" y="181"/>
                  </a:lnTo>
                  <a:lnTo>
                    <a:pt x="908" y="181"/>
                  </a:lnTo>
                  <a:lnTo>
                    <a:pt x="930" y="113"/>
                  </a:lnTo>
                  <a:lnTo>
                    <a:pt x="885" y="90"/>
                  </a:lnTo>
                  <a:lnTo>
                    <a:pt x="885" y="45"/>
                  </a:lnTo>
                  <a:lnTo>
                    <a:pt x="8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272200" y="3801240"/>
              <a:ext cx="434880" cy="600480"/>
            </a:xfrm>
            <a:custGeom>
              <a:avLst/>
              <a:gdLst/>
              <a:ahLst/>
              <a:rect l="l" t="t" r="r" b="b"/>
              <a:pathLst>
                <a:path w="476" h="657">
                  <a:moveTo>
                    <a:pt x="272" y="0"/>
                  </a:moveTo>
                  <a:lnTo>
                    <a:pt x="204" y="90"/>
                  </a:lnTo>
                  <a:lnTo>
                    <a:pt x="181" y="136"/>
                  </a:lnTo>
                  <a:lnTo>
                    <a:pt x="113" y="181"/>
                  </a:lnTo>
                  <a:lnTo>
                    <a:pt x="68" y="227"/>
                  </a:lnTo>
                  <a:lnTo>
                    <a:pt x="113" y="272"/>
                  </a:lnTo>
                  <a:lnTo>
                    <a:pt x="113" y="317"/>
                  </a:lnTo>
                  <a:lnTo>
                    <a:pt x="158" y="340"/>
                  </a:lnTo>
                  <a:lnTo>
                    <a:pt x="136" y="408"/>
                  </a:lnTo>
                  <a:lnTo>
                    <a:pt x="90" y="408"/>
                  </a:lnTo>
                  <a:lnTo>
                    <a:pt x="45" y="453"/>
                  </a:lnTo>
                  <a:lnTo>
                    <a:pt x="0" y="521"/>
                  </a:lnTo>
                  <a:lnTo>
                    <a:pt x="22" y="589"/>
                  </a:lnTo>
                  <a:lnTo>
                    <a:pt x="68" y="589"/>
                  </a:lnTo>
                  <a:lnTo>
                    <a:pt x="158" y="657"/>
                  </a:lnTo>
                  <a:lnTo>
                    <a:pt x="204" y="657"/>
                  </a:lnTo>
                  <a:lnTo>
                    <a:pt x="226" y="612"/>
                  </a:lnTo>
                  <a:lnTo>
                    <a:pt x="249" y="589"/>
                  </a:lnTo>
                  <a:lnTo>
                    <a:pt x="272" y="499"/>
                  </a:lnTo>
                  <a:lnTo>
                    <a:pt x="294" y="499"/>
                  </a:lnTo>
                  <a:lnTo>
                    <a:pt x="317" y="544"/>
                  </a:lnTo>
                  <a:lnTo>
                    <a:pt x="340" y="499"/>
                  </a:lnTo>
                  <a:lnTo>
                    <a:pt x="340" y="431"/>
                  </a:lnTo>
                  <a:lnTo>
                    <a:pt x="431" y="363"/>
                  </a:lnTo>
                  <a:lnTo>
                    <a:pt x="453" y="317"/>
                  </a:lnTo>
                  <a:lnTo>
                    <a:pt x="431" y="272"/>
                  </a:lnTo>
                  <a:lnTo>
                    <a:pt x="476" y="249"/>
                  </a:lnTo>
                  <a:lnTo>
                    <a:pt x="476" y="204"/>
                  </a:lnTo>
                  <a:lnTo>
                    <a:pt x="431" y="136"/>
                  </a:lnTo>
                  <a:lnTo>
                    <a:pt x="431" y="90"/>
                  </a:lnTo>
                  <a:lnTo>
                    <a:pt x="317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352520" y="4133880"/>
              <a:ext cx="1285560" cy="725040"/>
            </a:xfrm>
            <a:custGeom>
              <a:avLst/>
              <a:gdLst/>
              <a:ahLst/>
              <a:rect l="l" t="t" r="r" b="b"/>
              <a:pathLst>
                <a:path w="1406" h="793">
                  <a:moveTo>
                    <a:pt x="0" y="793"/>
                  </a:moveTo>
                  <a:lnTo>
                    <a:pt x="613" y="793"/>
                  </a:lnTo>
                  <a:lnTo>
                    <a:pt x="140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システム構成図サンプル５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376880" y="3968640"/>
            <a:ext cx="1008000" cy="1008000"/>
            <a:chOff x="4376880" y="3968640"/>
            <a:chExt cx="1008000" cy="1008000"/>
          </a:xfrm>
        </p:grpSpPr>
        <p:sp>
          <p:nvSpPr>
            <p:cNvPr id="617" name=""/>
            <p:cNvSpPr/>
            <p:nvPr/>
          </p:nvSpPr>
          <p:spPr>
            <a:xfrm>
              <a:off x="4376880" y="3968640"/>
              <a:ext cx="1008000" cy="1008000"/>
            </a:xfrm>
            <a:prstGeom prst="ellipse">
              <a:avLst/>
            </a:prstGeom>
            <a:noFill/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592520" y="418464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4552920" y="4905360"/>
            <a:ext cx="606240" cy="188640"/>
          </a:xfrm>
          <a:prstGeom prst="rect">
            <a:avLst/>
          </a:prstGeom>
          <a:solidFill>
            <a:srgbClr val="993366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イントラネッ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160880" y="3573360"/>
            <a:ext cx="1440000" cy="431640"/>
            <a:chOff x="4160880" y="3573360"/>
            <a:chExt cx="1440000" cy="431640"/>
          </a:xfrm>
        </p:grpSpPr>
        <p:sp>
          <p:nvSpPr>
            <p:cNvPr id="621" name=""/>
            <p:cNvSpPr/>
            <p:nvPr/>
          </p:nvSpPr>
          <p:spPr>
            <a:xfrm>
              <a:off x="4160880" y="3573360"/>
              <a:ext cx="1440000" cy="431640"/>
            </a:xfrm>
            <a:custGeom>
              <a:avLst/>
              <a:gdLst/>
              <a:ahLst/>
              <a:rect l="l" t="t" r="r" b="b"/>
              <a:pathLst>
                <a:path w="907" h="272">
                  <a:moveTo>
                    <a:pt x="45" y="0"/>
                  </a:moveTo>
                  <a:lnTo>
                    <a:pt x="0" y="181"/>
                  </a:lnTo>
                  <a:lnTo>
                    <a:pt x="0" y="272"/>
                  </a:lnTo>
                  <a:lnTo>
                    <a:pt x="907" y="272"/>
                  </a:lnTo>
                  <a:lnTo>
                    <a:pt x="907" y="181"/>
                  </a:lnTo>
                  <a:lnTo>
                    <a:pt x="862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60880" y="3859200"/>
              <a:ext cx="1440000" cy="1458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4160880" y="3573360"/>
              <a:ext cx="1440000" cy="285840"/>
            </a:xfrm>
            <a:custGeom>
              <a:avLst/>
              <a:gdLst>
                <a:gd name="textAreaLeft" fmla="*/ 155160 w 1440000"/>
                <a:gd name="textAreaRight" fmla="*/ 1284840 w 1440000"/>
                <a:gd name="textAreaTop" fmla="*/ 30600 h 285840"/>
                <a:gd name="textAreaBottom" fmla="*/ 25524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53" y="21600"/>
                  </a:lnTo>
                  <a:lnTo>
                    <a:pt x="104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d9d9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4595760" y="3465360"/>
            <a:ext cx="52992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社内サーバ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928880" y="1557000"/>
            <a:ext cx="2374560" cy="4318200"/>
            <a:chOff x="1928880" y="1557000"/>
            <a:chExt cx="2374560" cy="4318200"/>
          </a:xfrm>
        </p:grpSpPr>
        <p:sp>
          <p:nvSpPr>
            <p:cNvPr id="626" name=""/>
            <p:cNvSpPr/>
            <p:nvPr/>
          </p:nvSpPr>
          <p:spPr>
            <a:xfrm flipH="1">
              <a:off x="1928880" y="3716280"/>
              <a:ext cx="19447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>
              <a:off x="2216160" y="2637000"/>
              <a:ext cx="1873440" cy="720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3655800" y="1557000"/>
              <a:ext cx="647640" cy="16556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2216160" y="4075200"/>
              <a:ext cx="1873440" cy="720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3655800" y="4219560"/>
              <a:ext cx="647640" cy="16556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5529240" y="1557000"/>
            <a:ext cx="2374560" cy="4318200"/>
            <a:chOff x="5529240" y="1557000"/>
            <a:chExt cx="2374560" cy="4318200"/>
          </a:xfrm>
        </p:grpSpPr>
        <p:sp>
          <p:nvSpPr>
            <p:cNvPr id="632" name=""/>
            <p:cNvSpPr/>
            <p:nvPr/>
          </p:nvSpPr>
          <p:spPr>
            <a:xfrm>
              <a:off x="5959080" y="3716280"/>
              <a:ext cx="19447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5743080" y="2637000"/>
              <a:ext cx="1873440" cy="720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5529240" y="1557000"/>
              <a:ext cx="647640" cy="16556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743080" y="4075200"/>
              <a:ext cx="1873440" cy="720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529240" y="4219560"/>
              <a:ext cx="647640" cy="16556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289240" y="5660640"/>
            <a:ext cx="1116000" cy="648000"/>
            <a:chOff x="2289240" y="5660640"/>
            <a:chExt cx="1116000" cy="648000"/>
          </a:xfrm>
        </p:grpSpPr>
        <p:sp>
          <p:nvSpPr>
            <p:cNvPr id="638" name=""/>
            <p:cNvSpPr/>
            <p:nvPr/>
          </p:nvSpPr>
          <p:spPr>
            <a:xfrm>
              <a:off x="2289240" y="5661000"/>
              <a:ext cx="1116000" cy="647640"/>
            </a:xfrm>
            <a:custGeom>
              <a:avLst/>
              <a:gdLst/>
              <a:ahLst/>
              <a:rect l="l" t="t" r="r" b="b"/>
              <a:pathLst>
                <a:path w="703" h="408">
                  <a:moveTo>
                    <a:pt x="657" y="204"/>
                  </a:moveTo>
                  <a:lnTo>
                    <a:pt x="703" y="204"/>
                  </a:lnTo>
                  <a:lnTo>
                    <a:pt x="703" y="91"/>
                  </a:lnTo>
                  <a:lnTo>
                    <a:pt x="657" y="0"/>
                  </a:lnTo>
                  <a:lnTo>
                    <a:pt x="45" y="0"/>
                  </a:lnTo>
                  <a:lnTo>
                    <a:pt x="0" y="91"/>
                  </a:lnTo>
                  <a:lnTo>
                    <a:pt x="0" y="204"/>
                  </a:lnTo>
                  <a:lnTo>
                    <a:pt x="45" y="204"/>
                  </a:lnTo>
                  <a:lnTo>
                    <a:pt x="45" y="408"/>
                  </a:lnTo>
                  <a:lnTo>
                    <a:pt x="657" y="408"/>
                  </a:lnTo>
                  <a:lnTo>
                    <a:pt x="657" y="204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60880" y="5985000"/>
              <a:ext cx="971640" cy="32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2289240" y="5660280"/>
              <a:ext cx="1116000" cy="142920"/>
            </a:xfrm>
            <a:custGeom>
              <a:avLst/>
              <a:gdLst>
                <a:gd name="textAreaLeft" fmla="*/ 131760 w 1116000"/>
                <a:gd name="textAreaRight" fmla="*/ 984240 w 1116000"/>
                <a:gd name="textAreaTop" fmla="*/ 16920 h 142920"/>
                <a:gd name="textAreaBottom" fmla="*/ 12600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56" y="21600"/>
                  </a:lnTo>
                  <a:lnTo>
                    <a:pt x="144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289240" y="5805720"/>
              <a:ext cx="1116000" cy="179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76880" y="6056280"/>
              <a:ext cx="504720" cy="252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2741760" y="5516640"/>
            <a:ext cx="225000" cy="188640"/>
          </a:xfrm>
          <a:prstGeom prst="rect">
            <a:avLst/>
          </a:prstGeom>
          <a:solidFill>
            <a:srgbClr val="800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支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920880" y="4652640"/>
            <a:ext cx="1116000" cy="648000"/>
            <a:chOff x="920880" y="4652640"/>
            <a:chExt cx="1116000" cy="648000"/>
          </a:xfrm>
        </p:grpSpPr>
        <p:sp>
          <p:nvSpPr>
            <p:cNvPr id="645" name=""/>
            <p:cNvSpPr/>
            <p:nvPr/>
          </p:nvSpPr>
          <p:spPr>
            <a:xfrm>
              <a:off x="920880" y="4653000"/>
              <a:ext cx="1116000" cy="647640"/>
            </a:xfrm>
            <a:custGeom>
              <a:avLst/>
              <a:gdLst/>
              <a:ahLst/>
              <a:rect l="l" t="t" r="r" b="b"/>
              <a:pathLst>
                <a:path w="703" h="408">
                  <a:moveTo>
                    <a:pt x="657" y="204"/>
                  </a:moveTo>
                  <a:lnTo>
                    <a:pt x="703" y="204"/>
                  </a:lnTo>
                  <a:lnTo>
                    <a:pt x="703" y="91"/>
                  </a:lnTo>
                  <a:lnTo>
                    <a:pt x="657" y="0"/>
                  </a:lnTo>
                  <a:lnTo>
                    <a:pt x="45" y="0"/>
                  </a:lnTo>
                  <a:lnTo>
                    <a:pt x="0" y="91"/>
                  </a:lnTo>
                  <a:lnTo>
                    <a:pt x="0" y="204"/>
                  </a:lnTo>
                  <a:lnTo>
                    <a:pt x="45" y="204"/>
                  </a:lnTo>
                  <a:lnTo>
                    <a:pt x="45" y="408"/>
                  </a:lnTo>
                  <a:lnTo>
                    <a:pt x="657" y="408"/>
                  </a:lnTo>
                  <a:lnTo>
                    <a:pt x="657" y="204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92520" y="4977000"/>
              <a:ext cx="971640" cy="32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920880" y="4652280"/>
              <a:ext cx="1116000" cy="142920"/>
            </a:xfrm>
            <a:custGeom>
              <a:avLst/>
              <a:gdLst>
                <a:gd name="textAreaLeft" fmla="*/ 131760 w 1116000"/>
                <a:gd name="textAreaRight" fmla="*/ 984240 w 1116000"/>
                <a:gd name="textAreaTop" fmla="*/ 16920 h 142920"/>
                <a:gd name="textAreaBottom" fmla="*/ 12600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56" y="21600"/>
                  </a:lnTo>
                  <a:lnTo>
                    <a:pt x="144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920880" y="4797720"/>
              <a:ext cx="1116000" cy="179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08520" y="5048280"/>
              <a:ext cx="504720" cy="252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373400" y="4508640"/>
            <a:ext cx="225000" cy="188640"/>
          </a:xfrm>
          <a:prstGeom prst="rect">
            <a:avLst/>
          </a:prstGeom>
          <a:solidFill>
            <a:srgbClr val="800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支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704880" y="3428640"/>
            <a:ext cx="1116000" cy="648000"/>
            <a:chOff x="704880" y="3428640"/>
            <a:chExt cx="1116000" cy="648000"/>
          </a:xfrm>
        </p:grpSpPr>
        <p:sp>
          <p:nvSpPr>
            <p:cNvPr id="652" name=""/>
            <p:cNvSpPr/>
            <p:nvPr/>
          </p:nvSpPr>
          <p:spPr>
            <a:xfrm>
              <a:off x="704880" y="3429000"/>
              <a:ext cx="1116000" cy="647640"/>
            </a:xfrm>
            <a:custGeom>
              <a:avLst/>
              <a:gdLst/>
              <a:ahLst/>
              <a:rect l="l" t="t" r="r" b="b"/>
              <a:pathLst>
                <a:path w="703" h="408">
                  <a:moveTo>
                    <a:pt x="657" y="204"/>
                  </a:moveTo>
                  <a:lnTo>
                    <a:pt x="703" y="204"/>
                  </a:lnTo>
                  <a:lnTo>
                    <a:pt x="703" y="91"/>
                  </a:lnTo>
                  <a:lnTo>
                    <a:pt x="657" y="0"/>
                  </a:lnTo>
                  <a:lnTo>
                    <a:pt x="45" y="0"/>
                  </a:lnTo>
                  <a:lnTo>
                    <a:pt x="0" y="91"/>
                  </a:lnTo>
                  <a:lnTo>
                    <a:pt x="0" y="204"/>
                  </a:lnTo>
                  <a:lnTo>
                    <a:pt x="45" y="204"/>
                  </a:lnTo>
                  <a:lnTo>
                    <a:pt x="45" y="408"/>
                  </a:lnTo>
                  <a:lnTo>
                    <a:pt x="657" y="408"/>
                  </a:lnTo>
                  <a:lnTo>
                    <a:pt x="657" y="204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76520" y="3753000"/>
              <a:ext cx="971640" cy="32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704880" y="3428280"/>
              <a:ext cx="1116000" cy="142920"/>
            </a:xfrm>
            <a:custGeom>
              <a:avLst/>
              <a:gdLst>
                <a:gd name="textAreaLeft" fmla="*/ 131760 w 1116000"/>
                <a:gd name="textAreaRight" fmla="*/ 984240 w 1116000"/>
                <a:gd name="textAreaTop" fmla="*/ 16920 h 142920"/>
                <a:gd name="textAreaBottom" fmla="*/ 12600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56" y="21600"/>
                  </a:lnTo>
                  <a:lnTo>
                    <a:pt x="144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04880" y="3573720"/>
              <a:ext cx="1116000" cy="179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992520" y="3824280"/>
              <a:ext cx="504720" cy="252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157400" y="3284640"/>
            <a:ext cx="225000" cy="188640"/>
          </a:xfrm>
          <a:prstGeom prst="rect">
            <a:avLst/>
          </a:prstGeom>
          <a:solidFill>
            <a:srgbClr val="800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支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992160" y="2204640"/>
            <a:ext cx="1116000" cy="648000"/>
            <a:chOff x="992160" y="2204640"/>
            <a:chExt cx="1116000" cy="648000"/>
          </a:xfrm>
        </p:grpSpPr>
        <p:sp>
          <p:nvSpPr>
            <p:cNvPr id="659" name=""/>
            <p:cNvSpPr/>
            <p:nvPr/>
          </p:nvSpPr>
          <p:spPr>
            <a:xfrm>
              <a:off x="992160" y="2205000"/>
              <a:ext cx="1116000" cy="647640"/>
            </a:xfrm>
            <a:custGeom>
              <a:avLst/>
              <a:gdLst/>
              <a:ahLst/>
              <a:rect l="l" t="t" r="r" b="b"/>
              <a:pathLst>
                <a:path w="703" h="408">
                  <a:moveTo>
                    <a:pt x="657" y="204"/>
                  </a:moveTo>
                  <a:lnTo>
                    <a:pt x="703" y="204"/>
                  </a:lnTo>
                  <a:lnTo>
                    <a:pt x="703" y="91"/>
                  </a:lnTo>
                  <a:lnTo>
                    <a:pt x="657" y="0"/>
                  </a:lnTo>
                  <a:lnTo>
                    <a:pt x="45" y="0"/>
                  </a:lnTo>
                  <a:lnTo>
                    <a:pt x="0" y="91"/>
                  </a:lnTo>
                  <a:lnTo>
                    <a:pt x="0" y="204"/>
                  </a:lnTo>
                  <a:lnTo>
                    <a:pt x="45" y="204"/>
                  </a:lnTo>
                  <a:lnTo>
                    <a:pt x="45" y="408"/>
                  </a:lnTo>
                  <a:lnTo>
                    <a:pt x="657" y="408"/>
                  </a:lnTo>
                  <a:lnTo>
                    <a:pt x="657" y="204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63800" y="2529000"/>
              <a:ext cx="971640" cy="32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992160" y="2204280"/>
              <a:ext cx="1116000" cy="142920"/>
            </a:xfrm>
            <a:custGeom>
              <a:avLst/>
              <a:gdLst>
                <a:gd name="textAreaLeft" fmla="*/ 131760 w 1116000"/>
                <a:gd name="textAreaRight" fmla="*/ 984240 w 1116000"/>
                <a:gd name="textAreaTop" fmla="*/ 16920 h 142920"/>
                <a:gd name="textAreaBottom" fmla="*/ 12600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56" y="21600"/>
                  </a:lnTo>
                  <a:lnTo>
                    <a:pt x="144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92160" y="2349720"/>
              <a:ext cx="1116000" cy="179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279800" y="2600280"/>
              <a:ext cx="504720" cy="252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1444680" y="2060640"/>
            <a:ext cx="225000" cy="188640"/>
          </a:xfrm>
          <a:prstGeom prst="rect">
            <a:avLst/>
          </a:prstGeom>
          <a:solidFill>
            <a:srgbClr val="800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支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0520" y="1125000"/>
            <a:ext cx="1116000" cy="648000"/>
            <a:chOff x="2360520" y="1125000"/>
            <a:chExt cx="1116000" cy="648000"/>
          </a:xfrm>
        </p:grpSpPr>
        <p:sp>
          <p:nvSpPr>
            <p:cNvPr id="666" name=""/>
            <p:cNvSpPr/>
            <p:nvPr/>
          </p:nvSpPr>
          <p:spPr>
            <a:xfrm>
              <a:off x="2360520" y="1125360"/>
              <a:ext cx="1116000" cy="647640"/>
            </a:xfrm>
            <a:custGeom>
              <a:avLst/>
              <a:gdLst/>
              <a:ahLst/>
              <a:rect l="l" t="t" r="r" b="b"/>
              <a:pathLst>
                <a:path w="703" h="408">
                  <a:moveTo>
                    <a:pt x="657" y="204"/>
                  </a:moveTo>
                  <a:lnTo>
                    <a:pt x="703" y="204"/>
                  </a:lnTo>
                  <a:lnTo>
                    <a:pt x="703" y="91"/>
                  </a:lnTo>
                  <a:lnTo>
                    <a:pt x="657" y="0"/>
                  </a:lnTo>
                  <a:lnTo>
                    <a:pt x="45" y="0"/>
                  </a:lnTo>
                  <a:lnTo>
                    <a:pt x="0" y="91"/>
                  </a:lnTo>
                  <a:lnTo>
                    <a:pt x="0" y="204"/>
                  </a:lnTo>
                  <a:lnTo>
                    <a:pt x="45" y="204"/>
                  </a:lnTo>
                  <a:lnTo>
                    <a:pt x="45" y="408"/>
                  </a:lnTo>
                  <a:lnTo>
                    <a:pt x="657" y="408"/>
                  </a:lnTo>
                  <a:lnTo>
                    <a:pt x="657" y="204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32160" y="1449360"/>
              <a:ext cx="971640" cy="32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2360520" y="1124640"/>
              <a:ext cx="1116000" cy="142920"/>
            </a:xfrm>
            <a:custGeom>
              <a:avLst/>
              <a:gdLst>
                <a:gd name="textAreaLeft" fmla="*/ 131760 w 1116000"/>
                <a:gd name="textAreaRight" fmla="*/ 984240 w 1116000"/>
                <a:gd name="textAreaTop" fmla="*/ 16920 h 142920"/>
                <a:gd name="textAreaBottom" fmla="*/ 12600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56" y="21600"/>
                  </a:lnTo>
                  <a:lnTo>
                    <a:pt x="144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60520" y="1270080"/>
              <a:ext cx="1116000" cy="179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48160" y="1520640"/>
              <a:ext cx="504720" cy="252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2813040" y="981000"/>
            <a:ext cx="225000" cy="188640"/>
          </a:xfrm>
          <a:prstGeom prst="rect">
            <a:avLst/>
          </a:prstGeom>
          <a:solidFill>
            <a:srgbClr val="800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支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6321600" y="5660640"/>
            <a:ext cx="1116000" cy="648000"/>
            <a:chOff x="6321600" y="5660640"/>
            <a:chExt cx="1116000" cy="648000"/>
          </a:xfrm>
        </p:grpSpPr>
        <p:sp>
          <p:nvSpPr>
            <p:cNvPr id="673" name=""/>
            <p:cNvSpPr/>
            <p:nvPr/>
          </p:nvSpPr>
          <p:spPr>
            <a:xfrm>
              <a:off x="6321600" y="5661000"/>
              <a:ext cx="1116000" cy="647640"/>
            </a:xfrm>
            <a:custGeom>
              <a:avLst/>
              <a:gdLst/>
              <a:ahLst/>
              <a:rect l="l" t="t" r="r" b="b"/>
              <a:pathLst>
                <a:path w="703" h="408">
                  <a:moveTo>
                    <a:pt x="657" y="204"/>
                  </a:moveTo>
                  <a:lnTo>
                    <a:pt x="703" y="204"/>
                  </a:lnTo>
                  <a:lnTo>
                    <a:pt x="703" y="91"/>
                  </a:lnTo>
                  <a:lnTo>
                    <a:pt x="657" y="0"/>
                  </a:lnTo>
                  <a:lnTo>
                    <a:pt x="45" y="0"/>
                  </a:lnTo>
                  <a:lnTo>
                    <a:pt x="0" y="91"/>
                  </a:lnTo>
                  <a:lnTo>
                    <a:pt x="0" y="204"/>
                  </a:lnTo>
                  <a:lnTo>
                    <a:pt x="45" y="204"/>
                  </a:lnTo>
                  <a:lnTo>
                    <a:pt x="45" y="408"/>
                  </a:lnTo>
                  <a:lnTo>
                    <a:pt x="657" y="408"/>
                  </a:lnTo>
                  <a:lnTo>
                    <a:pt x="657" y="204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393240" y="5985000"/>
              <a:ext cx="971640" cy="32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6321600" y="5660280"/>
              <a:ext cx="1116000" cy="142920"/>
            </a:xfrm>
            <a:custGeom>
              <a:avLst/>
              <a:gdLst>
                <a:gd name="textAreaLeft" fmla="*/ 131760 w 1116000"/>
                <a:gd name="textAreaRight" fmla="*/ 984240 w 1116000"/>
                <a:gd name="textAreaTop" fmla="*/ 16920 h 142920"/>
                <a:gd name="textAreaBottom" fmla="*/ 12600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56" y="21600"/>
                  </a:lnTo>
                  <a:lnTo>
                    <a:pt x="144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1600" y="5805720"/>
              <a:ext cx="1116000" cy="179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609240" y="6056280"/>
              <a:ext cx="504720" cy="252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774120" y="5516640"/>
            <a:ext cx="225000" cy="188640"/>
          </a:xfrm>
          <a:prstGeom prst="rect">
            <a:avLst/>
          </a:prstGeom>
          <a:solidFill>
            <a:srgbClr val="800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支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653240" y="4652640"/>
            <a:ext cx="1116000" cy="648000"/>
            <a:chOff x="7653240" y="4652640"/>
            <a:chExt cx="1116000" cy="648000"/>
          </a:xfrm>
        </p:grpSpPr>
        <p:sp>
          <p:nvSpPr>
            <p:cNvPr id="680" name=""/>
            <p:cNvSpPr/>
            <p:nvPr/>
          </p:nvSpPr>
          <p:spPr>
            <a:xfrm>
              <a:off x="7653240" y="4653000"/>
              <a:ext cx="1116000" cy="647640"/>
            </a:xfrm>
            <a:custGeom>
              <a:avLst/>
              <a:gdLst/>
              <a:ahLst/>
              <a:rect l="l" t="t" r="r" b="b"/>
              <a:pathLst>
                <a:path w="703" h="408">
                  <a:moveTo>
                    <a:pt x="657" y="204"/>
                  </a:moveTo>
                  <a:lnTo>
                    <a:pt x="703" y="204"/>
                  </a:lnTo>
                  <a:lnTo>
                    <a:pt x="703" y="91"/>
                  </a:lnTo>
                  <a:lnTo>
                    <a:pt x="657" y="0"/>
                  </a:lnTo>
                  <a:lnTo>
                    <a:pt x="45" y="0"/>
                  </a:lnTo>
                  <a:lnTo>
                    <a:pt x="0" y="91"/>
                  </a:lnTo>
                  <a:lnTo>
                    <a:pt x="0" y="204"/>
                  </a:lnTo>
                  <a:lnTo>
                    <a:pt x="45" y="204"/>
                  </a:lnTo>
                  <a:lnTo>
                    <a:pt x="45" y="408"/>
                  </a:lnTo>
                  <a:lnTo>
                    <a:pt x="657" y="408"/>
                  </a:lnTo>
                  <a:lnTo>
                    <a:pt x="657" y="204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724880" y="4977000"/>
              <a:ext cx="971640" cy="32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7653240" y="4652280"/>
              <a:ext cx="1116000" cy="142920"/>
            </a:xfrm>
            <a:custGeom>
              <a:avLst/>
              <a:gdLst>
                <a:gd name="textAreaLeft" fmla="*/ 131760 w 1116000"/>
                <a:gd name="textAreaRight" fmla="*/ 984240 w 1116000"/>
                <a:gd name="textAreaTop" fmla="*/ 16920 h 142920"/>
                <a:gd name="textAreaBottom" fmla="*/ 12600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56" y="21600"/>
                  </a:lnTo>
                  <a:lnTo>
                    <a:pt x="144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653240" y="4797720"/>
              <a:ext cx="1116000" cy="179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940880" y="5048280"/>
              <a:ext cx="504720" cy="252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8105760" y="4508640"/>
            <a:ext cx="225000" cy="188640"/>
          </a:xfrm>
          <a:prstGeom prst="rect">
            <a:avLst/>
          </a:prstGeom>
          <a:solidFill>
            <a:srgbClr val="800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支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8085240" y="3428640"/>
            <a:ext cx="1116000" cy="648000"/>
            <a:chOff x="8085240" y="3428640"/>
            <a:chExt cx="1116000" cy="648000"/>
          </a:xfrm>
        </p:grpSpPr>
        <p:sp>
          <p:nvSpPr>
            <p:cNvPr id="687" name=""/>
            <p:cNvSpPr/>
            <p:nvPr/>
          </p:nvSpPr>
          <p:spPr>
            <a:xfrm>
              <a:off x="8085240" y="3429000"/>
              <a:ext cx="1116000" cy="647640"/>
            </a:xfrm>
            <a:custGeom>
              <a:avLst/>
              <a:gdLst/>
              <a:ahLst/>
              <a:rect l="l" t="t" r="r" b="b"/>
              <a:pathLst>
                <a:path w="703" h="408">
                  <a:moveTo>
                    <a:pt x="657" y="204"/>
                  </a:moveTo>
                  <a:lnTo>
                    <a:pt x="703" y="204"/>
                  </a:lnTo>
                  <a:lnTo>
                    <a:pt x="703" y="91"/>
                  </a:lnTo>
                  <a:lnTo>
                    <a:pt x="657" y="0"/>
                  </a:lnTo>
                  <a:lnTo>
                    <a:pt x="45" y="0"/>
                  </a:lnTo>
                  <a:lnTo>
                    <a:pt x="0" y="91"/>
                  </a:lnTo>
                  <a:lnTo>
                    <a:pt x="0" y="204"/>
                  </a:lnTo>
                  <a:lnTo>
                    <a:pt x="45" y="204"/>
                  </a:lnTo>
                  <a:lnTo>
                    <a:pt x="45" y="408"/>
                  </a:lnTo>
                  <a:lnTo>
                    <a:pt x="657" y="408"/>
                  </a:lnTo>
                  <a:lnTo>
                    <a:pt x="657" y="204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156880" y="3753000"/>
              <a:ext cx="971640" cy="32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8085240" y="3428280"/>
              <a:ext cx="1116000" cy="142920"/>
            </a:xfrm>
            <a:custGeom>
              <a:avLst/>
              <a:gdLst>
                <a:gd name="textAreaLeft" fmla="*/ 131760 w 1116000"/>
                <a:gd name="textAreaRight" fmla="*/ 984240 w 1116000"/>
                <a:gd name="textAreaTop" fmla="*/ 16920 h 142920"/>
                <a:gd name="textAreaBottom" fmla="*/ 12600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56" y="21600"/>
                  </a:lnTo>
                  <a:lnTo>
                    <a:pt x="144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85240" y="3573720"/>
              <a:ext cx="1116000" cy="179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372880" y="3824280"/>
              <a:ext cx="504720" cy="252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8537760" y="3284640"/>
            <a:ext cx="225000" cy="188640"/>
          </a:xfrm>
          <a:prstGeom prst="rect">
            <a:avLst/>
          </a:prstGeom>
          <a:solidFill>
            <a:srgbClr val="800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支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724880" y="2204640"/>
            <a:ext cx="1116000" cy="648000"/>
            <a:chOff x="7724880" y="2204640"/>
            <a:chExt cx="1116000" cy="648000"/>
          </a:xfrm>
        </p:grpSpPr>
        <p:sp>
          <p:nvSpPr>
            <p:cNvPr id="694" name=""/>
            <p:cNvSpPr/>
            <p:nvPr/>
          </p:nvSpPr>
          <p:spPr>
            <a:xfrm>
              <a:off x="7724880" y="2205000"/>
              <a:ext cx="1116000" cy="647640"/>
            </a:xfrm>
            <a:custGeom>
              <a:avLst/>
              <a:gdLst/>
              <a:ahLst/>
              <a:rect l="l" t="t" r="r" b="b"/>
              <a:pathLst>
                <a:path w="703" h="408">
                  <a:moveTo>
                    <a:pt x="657" y="204"/>
                  </a:moveTo>
                  <a:lnTo>
                    <a:pt x="703" y="204"/>
                  </a:lnTo>
                  <a:lnTo>
                    <a:pt x="703" y="91"/>
                  </a:lnTo>
                  <a:lnTo>
                    <a:pt x="657" y="0"/>
                  </a:lnTo>
                  <a:lnTo>
                    <a:pt x="45" y="0"/>
                  </a:lnTo>
                  <a:lnTo>
                    <a:pt x="0" y="91"/>
                  </a:lnTo>
                  <a:lnTo>
                    <a:pt x="0" y="204"/>
                  </a:lnTo>
                  <a:lnTo>
                    <a:pt x="45" y="204"/>
                  </a:lnTo>
                  <a:lnTo>
                    <a:pt x="45" y="408"/>
                  </a:lnTo>
                  <a:lnTo>
                    <a:pt x="657" y="408"/>
                  </a:lnTo>
                  <a:lnTo>
                    <a:pt x="657" y="204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796520" y="2529000"/>
              <a:ext cx="971640" cy="32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7724880" y="2204280"/>
              <a:ext cx="1116000" cy="142920"/>
            </a:xfrm>
            <a:custGeom>
              <a:avLst/>
              <a:gdLst>
                <a:gd name="textAreaLeft" fmla="*/ 131760 w 1116000"/>
                <a:gd name="textAreaRight" fmla="*/ 984240 w 1116000"/>
                <a:gd name="textAreaTop" fmla="*/ 16920 h 142920"/>
                <a:gd name="textAreaBottom" fmla="*/ 12600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56" y="21600"/>
                  </a:lnTo>
                  <a:lnTo>
                    <a:pt x="144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724880" y="2349720"/>
              <a:ext cx="1116000" cy="179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12520" y="2600280"/>
              <a:ext cx="504720" cy="252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8177400" y="2060640"/>
            <a:ext cx="225000" cy="188640"/>
          </a:xfrm>
          <a:prstGeom prst="rect">
            <a:avLst/>
          </a:prstGeom>
          <a:solidFill>
            <a:srgbClr val="800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支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6392880" y="1125000"/>
            <a:ext cx="1116000" cy="648000"/>
            <a:chOff x="6392880" y="1125000"/>
            <a:chExt cx="1116000" cy="648000"/>
          </a:xfrm>
        </p:grpSpPr>
        <p:sp>
          <p:nvSpPr>
            <p:cNvPr id="701" name=""/>
            <p:cNvSpPr/>
            <p:nvPr/>
          </p:nvSpPr>
          <p:spPr>
            <a:xfrm>
              <a:off x="6392880" y="1125360"/>
              <a:ext cx="1116000" cy="647640"/>
            </a:xfrm>
            <a:custGeom>
              <a:avLst/>
              <a:gdLst/>
              <a:ahLst/>
              <a:rect l="l" t="t" r="r" b="b"/>
              <a:pathLst>
                <a:path w="703" h="408">
                  <a:moveTo>
                    <a:pt x="657" y="204"/>
                  </a:moveTo>
                  <a:lnTo>
                    <a:pt x="703" y="204"/>
                  </a:lnTo>
                  <a:lnTo>
                    <a:pt x="703" y="91"/>
                  </a:lnTo>
                  <a:lnTo>
                    <a:pt x="657" y="0"/>
                  </a:lnTo>
                  <a:lnTo>
                    <a:pt x="45" y="0"/>
                  </a:lnTo>
                  <a:lnTo>
                    <a:pt x="0" y="91"/>
                  </a:lnTo>
                  <a:lnTo>
                    <a:pt x="0" y="204"/>
                  </a:lnTo>
                  <a:lnTo>
                    <a:pt x="45" y="204"/>
                  </a:lnTo>
                  <a:lnTo>
                    <a:pt x="45" y="408"/>
                  </a:lnTo>
                  <a:lnTo>
                    <a:pt x="657" y="408"/>
                  </a:lnTo>
                  <a:lnTo>
                    <a:pt x="657" y="204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464520" y="1449360"/>
              <a:ext cx="971640" cy="323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392880" y="1124640"/>
              <a:ext cx="1116000" cy="142920"/>
            </a:xfrm>
            <a:custGeom>
              <a:avLst/>
              <a:gdLst>
                <a:gd name="textAreaLeft" fmla="*/ 131760 w 1116000"/>
                <a:gd name="textAreaRight" fmla="*/ 984240 w 1116000"/>
                <a:gd name="textAreaTop" fmla="*/ 16920 h 142920"/>
                <a:gd name="textAreaBottom" fmla="*/ 12600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56" y="21600"/>
                  </a:lnTo>
                  <a:lnTo>
                    <a:pt x="144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392880" y="1270080"/>
              <a:ext cx="1116000" cy="179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680520" y="1520640"/>
              <a:ext cx="504720" cy="252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6845400" y="981000"/>
            <a:ext cx="225000" cy="188640"/>
          </a:xfrm>
          <a:prstGeom prst="rect">
            <a:avLst/>
          </a:prstGeom>
          <a:solidFill>
            <a:srgbClr val="800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支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510640" y="6453360"/>
            <a:ext cx="44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システム図は何かを意図して制作したものではありません。使い方のご参考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415800" y="836640"/>
            <a:ext cx="9074160" cy="5688000"/>
          </a:xfrm>
          <a:prstGeom prst="roundRect">
            <a:avLst>
              <a:gd name="adj" fmla="val 3264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52520" y="3940200"/>
            <a:ext cx="309564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737240" y="3940200"/>
            <a:ext cx="165564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321600" y="2426760"/>
            <a:ext cx="1726920" cy="151308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6321600" y="3579480"/>
            <a:ext cx="1655640" cy="36036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321600" y="3940200"/>
            <a:ext cx="1584000" cy="57636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321600" y="3940200"/>
            <a:ext cx="1584000" cy="122400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292600" y="14191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お客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510640" y="6453360"/>
            <a:ext cx="44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システム図は何かを意図して制作したものではありません。使い方のご参考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812880" y="2529000"/>
            <a:ext cx="792000" cy="2089080"/>
            <a:chOff x="812880" y="2529000"/>
            <a:chExt cx="792000" cy="2089080"/>
          </a:xfrm>
        </p:grpSpPr>
        <p:sp>
          <p:nvSpPr>
            <p:cNvPr id="718" name=""/>
            <p:cNvSpPr/>
            <p:nvPr/>
          </p:nvSpPr>
          <p:spPr>
            <a:xfrm>
              <a:off x="812880" y="2529000"/>
              <a:ext cx="792000" cy="2089080"/>
            </a:xfrm>
            <a:custGeom>
              <a:avLst/>
              <a:gdLst/>
              <a:ahLst/>
              <a:rect l="l" t="t" r="r" b="b"/>
              <a:pathLst>
                <a:path w="499" h="1316">
                  <a:moveTo>
                    <a:pt x="453" y="1316"/>
                  </a:moveTo>
                  <a:lnTo>
                    <a:pt x="0" y="1316"/>
                  </a:lnTo>
                  <a:lnTo>
                    <a:pt x="0" y="273"/>
                  </a:lnTo>
                  <a:lnTo>
                    <a:pt x="45" y="159"/>
                  </a:lnTo>
                  <a:lnTo>
                    <a:pt x="68" y="159"/>
                  </a:lnTo>
                  <a:lnTo>
                    <a:pt x="68" y="68"/>
                  </a:lnTo>
                  <a:lnTo>
                    <a:pt x="113" y="0"/>
                  </a:lnTo>
                  <a:lnTo>
                    <a:pt x="340" y="0"/>
                  </a:lnTo>
                  <a:lnTo>
                    <a:pt x="385" y="68"/>
                  </a:lnTo>
                  <a:lnTo>
                    <a:pt x="385" y="159"/>
                  </a:lnTo>
                  <a:lnTo>
                    <a:pt x="408" y="159"/>
                  </a:lnTo>
                  <a:lnTo>
                    <a:pt x="453" y="273"/>
                  </a:lnTo>
                  <a:lnTo>
                    <a:pt x="453" y="635"/>
                  </a:lnTo>
                  <a:lnTo>
                    <a:pt x="499" y="635"/>
                  </a:lnTo>
                  <a:lnTo>
                    <a:pt x="499" y="908"/>
                  </a:lnTo>
                  <a:lnTo>
                    <a:pt x="453" y="908"/>
                  </a:lnTo>
                  <a:lnTo>
                    <a:pt x="453" y="930"/>
                  </a:lnTo>
                  <a:lnTo>
                    <a:pt x="499" y="930"/>
                  </a:lnTo>
                  <a:lnTo>
                    <a:pt x="499" y="1202"/>
                  </a:lnTo>
                  <a:lnTo>
                    <a:pt x="453" y="1202"/>
                  </a:lnTo>
                  <a:lnTo>
                    <a:pt x="453" y="131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812880" y="2529000"/>
              <a:ext cx="790560" cy="2089080"/>
              <a:chOff x="812880" y="2529000"/>
              <a:chExt cx="790560" cy="2089080"/>
            </a:xfrm>
          </p:grpSpPr>
          <p:sp>
            <p:nvSpPr>
              <p:cNvPr id="720" name=""/>
              <p:cNvSpPr/>
              <p:nvPr/>
            </p:nvSpPr>
            <p:spPr>
              <a:xfrm>
                <a:off x="812880" y="2962080"/>
                <a:ext cx="719280" cy="165600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812880" y="2781360"/>
                <a:ext cx="719280" cy="180720"/>
              </a:xfrm>
              <a:custGeom>
                <a:avLst/>
                <a:gdLst>
                  <a:gd name="textAreaLeft" fmla="*/ 102240 w 719280"/>
                  <a:gd name="textAreaRight" fmla="*/ 617040 w 719280"/>
                  <a:gd name="textAreaTop" fmla="*/ 25560 h 180720"/>
                  <a:gd name="textAreaBottom" fmla="*/ 155160 h 18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16" y="21600"/>
                    </a:lnTo>
                    <a:lnTo>
                      <a:pt x="238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20880" y="2636640"/>
                <a:ext cx="503280" cy="289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920880" y="2529000"/>
                <a:ext cx="503280" cy="109440"/>
              </a:xfrm>
              <a:custGeom>
                <a:avLst/>
                <a:gdLst>
                  <a:gd name="textAreaLeft" fmla="*/ 83880 w 503280"/>
                  <a:gd name="textAreaRight" fmla="*/ 419400 w 503280"/>
                  <a:gd name="textAreaTop" fmla="*/ 18000 h 109440"/>
                  <a:gd name="textAreaBottom" fmla="*/ 91440 h 1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62" y="21600"/>
                    </a:lnTo>
                    <a:lnTo>
                      <a:pt x="333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532160" y="4005360"/>
                <a:ext cx="71280" cy="431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532160" y="3537000"/>
                <a:ext cx="71280" cy="431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028880" y="4437000"/>
                <a:ext cx="288720" cy="18108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7" name=""/>
              <p:cNvGrpSpPr/>
              <p:nvPr/>
            </p:nvGrpSpPr>
            <p:grpSpPr>
              <a:xfrm>
                <a:off x="884160" y="3070080"/>
                <a:ext cx="576360" cy="1187640"/>
                <a:chOff x="884160" y="3070080"/>
                <a:chExt cx="576360" cy="118764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884160" y="307008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040040" y="307008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1195560" y="307008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352520" y="307008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884160" y="3249720"/>
                  <a:ext cx="108000" cy="107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040040" y="3249720"/>
                  <a:ext cx="107640" cy="107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195560" y="3249720"/>
                  <a:ext cx="108000" cy="107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352520" y="3249720"/>
                  <a:ext cx="108000" cy="107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884160" y="342900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040040" y="342900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195560" y="342900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352520" y="342900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884160" y="360828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040040" y="360828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195560" y="360828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352520" y="360828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884160" y="379080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040040" y="379080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195560" y="379080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352520" y="379080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84160" y="3970440"/>
                  <a:ext cx="108000" cy="107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040040" y="3970440"/>
                  <a:ext cx="107640" cy="107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195560" y="3970440"/>
                  <a:ext cx="108000" cy="107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352520" y="3970440"/>
                  <a:ext cx="108000" cy="107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884160" y="414972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040040" y="4149720"/>
                  <a:ext cx="10764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195560" y="414972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352520" y="4149720"/>
                  <a:ext cx="108000" cy="10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56" name=""/>
          <p:cNvSpPr/>
          <p:nvPr/>
        </p:nvSpPr>
        <p:spPr>
          <a:xfrm>
            <a:off x="1049400" y="4581360"/>
            <a:ext cx="225000" cy="188640"/>
          </a:xfrm>
          <a:prstGeom prst="rect">
            <a:avLst/>
          </a:prstGeom>
          <a:solidFill>
            <a:srgbClr val="800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貴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2505240" y="3429000"/>
            <a:ext cx="1008000" cy="1008000"/>
            <a:chOff x="2505240" y="3429000"/>
            <a:chExt cx="1008000" cy="1008000"/>
          </a:xfrm>
        </p:grpSpPr>
        <p:sp>
          <p:nvSpPr>
            <p:cNvPr id="758" name=""/>
            <p:cNvSpPr/>
            <p:nvPr/>
          </p:nvSpPr>
          <p:spPr>
            <a:xfrm>
              <a:off x="2505240" y="3429000"/>
              <a:ext cx="1008000" cy="1008000"/>
            </a:xfrm>
            <a:prstGeom prst="ellipse">
              <a:avLst/>
            </a:prstGeom>
            <a:noFill/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720880" y="364500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2681280" y="4365720"/>
            <a:ext cx="606240" cy="188640"/>
          </a:xfrm>
          <a:prstGeom prst="rect">
            <a:avLst/>
          </a:prstGeom>
          <a:solidFill>
            <a:srgbClr val="993366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イントラネッ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5013000" y="3270240"/>
            <a:ext cx="1462680" cy="1323720"/>
            <a:chOff x="5013000" y="3270240"/>
            <a:chExt cx="1462680" cy="1323720"/>
          </a:xfrm>
        </p:grpSpPr>
        <p:sp>
          <p:nvSpPr>
            <p:cNvPr id="762" name=""/>
            <p:cNvSpPr/>
            <p:nvPr/>
          </p:nvSpPr>
          <p:spPr>
            <a:xfrm>
              <a:off x="5240160" y="3429000"/>
              <a:ext cx="1007640" cy="1008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456160" y="3645000"/>
              <a:ext cx="575640" cy="576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1800000">
              <a:off x="5024520" y="3716280"/>
              <a:ext cx="1439640" cy="432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8900000">
              <a:off x="5024160" y="3715920"/>
              <a:ext cx="1439640" cy="432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5424480" y="4363920"/>
            <a:ext cx="606240" cy="188640"/>
          </a:xfrm>
          <a:prstGeom prst="rect">
            <a:avLst/>
          </a:prstGeom>
          <a:solidFill>
            <a:srgbClr val="993366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インターネッ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232160" y="3357720"/>
            <a:ext cx="649080" cy="1116000"/>
            <a:chOff x="4232160" y="3357720"/>
            <a:chExt cx="649080" cy="1116000"/>
          </a:xfrm>
        </p:grpSpPr>
        <p:sp>
          <p:nvSpPr>
            <p:cNvPr id="768" name=""/>
            <p:cNvSpPr/>
            <p:nvPr/>
          </p:nvSpPr>
          <p:spPr>
            <a:xfrm>
              <a:off x="4232160" y="3357720"/>
              <a:ext cx="649080" cy="1116000"/>
            </a:xfrm>
            <a:custGeom>
              <a:avLst/>
              <a:gdLst/>
              <a:ahLst/>
              <a:rect l="l" t="t" r="r" b="b"/>
              <a:pathLst>
                <a:path w="409" h="703">
                  <a:moveTo>
                    <a:pt x="363" y="589"/>
                  </a:moveTo>
                  <a:lnTo>
                    <a:pt x="363" y="703"/>
                  </a:lnTo>
                  <a:lnTo>
                    <a:pt x="0" y="703"/>
                  </a:lnTo>
                  <a:lnTo>
                    <a:pt x="0" y="113"/>
                  </a:lnTo>
                  <a:lnTo>
                    <a:pt x="46" y="0"/>
                  </a:lnTo>
                  <a:lnTo>
                    <a:pt x="318" y="0"/>
                  </a:lnTo>
                  <a:lnTo>
                    <a:pt x="363" y="113"/>
                  </a:lnTo>
                  <a:lnTo>
                    <a:pt x="363" y="317"/>
                  </a:lnTo>
                  <a:lnTo>
                    <a:pt x="409" y="317"/>
                  </a:lnTo>
                  <a:lnTo>
                    <a:pt x="409" y="589"/>
                  </a:lnTo>
                  <a:lnTo>
                    <a:pt x="363" y="589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4232160" y="3357720"/>
              <a:ext cx="647640" cy="1116000"/>
              <a:chOff x="4232160" y="3357720"/>
              <a:chExt cx="647640" cy="1116000"/>
            </a:xfrm>
          </p:grpSpPr>
          <p:sp>
            <p:nvSpPr>
              <p:cNvPr id="770" name=""/>
              <p:cNvSpPr/>
              <p:nvPr/>
            </p:nvSpPr>
            <p:spPr>
              <a:xfrm>
                <a:off x="4232160" y="3537000"/>
                <a:ext cx="576360" cy="936720"/>
              </a:xfrm>
              <a:prstGeom prst="rect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462f1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1" name=""/>
              <p:cNvGrpSpPr/>
              <p:nvPr/>
            </p:nvGrpSpPr>
            <p:grpSpPr>
              <a:xfrm>
                <a:off x="4292280" y="3602160"/>
                <a:ext cx="419400" cy="624960"/>
                <a:chOff x="4292280" y="3602160"/>
                <a:chExt cx="419400" cy="62496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4292280" y="3602160"/>
                  <a:ext cx="108000" cy="10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447800" y="3602160"/>
                  <a:ext cx="108000" cy="10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603680" y="3602160"/>
                  <a:ext cx="108000" cy="10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292280" y="3775680"/>
                  <a:ext cx="108000" cy="10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447800" y="3775680"/>
                  <a:ext cx="108000" cy="10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603680" y="3775680"/>
                  <a:ext cx="108000" cy="10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292280" y="3949200"/>
                  <a:ext cx="108000" cy="10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4447800" y="3949200"/>
                  <a:ext cx="108000" cy="10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603680" y="3949200"/>
                  <a:ext cx="108000" cy="10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4292280" y="4122720"/>
                  <a:ext cx="108000" cy="10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4447800" y="4122720"/>
                  <a:ext cx="108000" cy="10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603680" y="4122720"/>
                  <a:ext cx="108000" cy="10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4" name=""/>
              <p:cNvSpPr/>
              <p:nvPr/>
            </p:nvSpPr>
            <p:spPr>
              <a:xfrm flipV="1">
                <a:off x="4232160" y="3357720"/>
                <a:ext cx="576360" cy="179280"/>
              </a:xfrm>
              <a:custGeom>
                <a:avLst/>
                <a:gdLst>
                  <a:gd name="textAreaLeft" fmla="*/ 82080 w 576360"/>
                  <a:gd name="textAreaRight" fmla="*/ 494280 w 576360"/>
                  <a:gd name="textAreaTop" fmla="*/ 25560 h 179280"/>
                  <a:gd name="textAreaBottom" fmla="*/ 153720 h 17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16" y="21600"/>
                    </a:lnTo>
                    <a:lnTo>
                      <a:pt x="238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2f17"/>
                  </a:gs>
                  <a:gs pos="100000">
                    <a:srgbClr val="9966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08520" y="3861000"/>
                <a:ext cx="71280" cy="4381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376520" y="4299120"/>
                <a:ext cx="289080" cy="1746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7" name=""/>
          <p:cNvSpPr/>
          <p:nvPr/>
        </p:nvSpPr>
        <p:spPr>
          <a:xfrm>
            <a:off x="4397400" y="4402080"/>
            <a:ext cx="225000" cy="188640"/>
          </a:xfrm>
          <a:prstGeom prst="rect">
            <a:avLst/>
          </a:prstGeom>
          <a:solidFill>
            <a:srgbClr val="800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弊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8121600" y="1773000"/>
            <a:ext cx="1150560" cy="1062360"/>
            <a:chOff x="8121600" y="1773000"/>
            <a:chExt cx="1150560" cy="1062360"/>
          </a:xfrm>
        </p:grpSpPr>
        <p:grpSp>
          <p:nvGrpSpPr>
            <p:cNvPr id="789" name=""/>
            <p:cNvGrpSpPr/>
            <p:nvPr/>
          </p:nvGrpSpPr>
          <p:grpSpPr>
            <a:xfrm>
              <a:off x="8121600" y="1773360"/>
              <a:ext cx="1150560" cy="1062000"/>
              <a:chOff x="8121600" y="1773360"/>
              <a:chExt cx="1150560" cy="1062000"/>
            </a:xfrm>
          </p:grpSpPr>
          <p:sp>
            <p:nvSpPr>
              <p:cNvPr id="790" name=""/>
              <p:cNvSpPr/>
              <p:nvPr/>
            </p:nvSpPr>
            <p:spPr>
              <a:xfrm>
                <a:off x="9037080" y="1773360"/>
                <a:ext cx="235080" cy="1062000"/>
              </a:xfrm>
              <a:custGeom>
                <a:avLst/>
                <a:gdLst/>
                <a:ahLst/>
                <a:rect l="l" t="t" r="r" b="b"/>
                <a:pathLst>
                  <a:path w="181" h="817">
                    <a:moveTo>
                      <a:pt x="181" y="817"/>
                    </a:moveTo>
                    <a:lnTo>
                      <a:pt x="0" y="817"/>
                    </a:lnTo>
                    <a:lnTo>
                      <a:pt x="0" y="91"/>
                    </a:lnTo>
                    <a:lnTo>
                      <a:pt x="22" y="0"/>
                    </a:lnTo>
                    <a:lnTo>
                      <a:pt x="158" y="0"/>
                    </a:lnTo>
                    <a:lnTo>
                      <a:pt x="181" y="91"/>
                    </a:lnTo>
                    <a:lnTo>
                      <a:pt x="181" y="817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121600" y="1833120"/>
                <a:ext cx="855720" cy="736920"/>
              </a:xfrm>
              <a:custGeom>
                <a:avLst/>
                <a:gdLst/>
                <a:ahLst/>
                <a:rect l="l" t="t" r="r" b="b"/>
                <a:pathLst>
                  <a:path w="658" h="567">
                    <a:moveTo>
                      <a:pt x="658" y="22"/>
                    </a:moveTo>
                    <a:lnTo>
                      <a:pt x="613" y="0"/>
                    </a:lnTo>
                    <a:lnTo>
                      <a:pt x="46" y="0"/>
                    </a:lnTo>
                    <a:lnTo>
                      <a:pt x="0" y="22"/>
                    </a:lnTo>
                    <a:lnTo>
                      <a:pt x="0" y="567"/>
                    </a:lnTo>
                    <a:lnTo>
                      <a:pt x="658" y="567"/>
                    </a:lnTo>
                    <a:lnTo>
                      <a:pt x="65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269920" y="2658240"/>
                <a:ext cx="560520" cy="146880"/>
              </a:xfrm>
              <a:custGeom>
                <a:avLst/>
                <a:gdLst/>
                <a:ahLst/>
                <a:rect l="l" t="t" r="r" b="b"/>
                <a:pathLst>
                  <a:path w="431" h="113">
                    <a:moveTo>
                      <a:pt x="431" y="113"/>
                    </a:moveTo>
                    <a:lnTo>
                      <a:pt x="0" y="113"/>
                    </a:lnTo>
                    <a:lnTo>
                      <a:pt x="0" y="90"/>
                    </a:lnTo>
                    <a:lnTo>
                      <a:pt x="45" y="0"/>
                    </a:lnTo>
                    <a:lnTo>
                      <a:pt x="385" y="0"/>
                    </a:lnTo>
                    <a:lnTo>
                      <a:pt x="431" y="90"/>
                    </a:lnTo>
                    <a:lnTo>
                      <a:pt x="431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446680" y="2510280"/>
                <a:ext cx="206640" cy="17784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8121600" y="1773000"/>
              <a:ext cx="1149120" cy="1062360"/>
              <a:chOff x="8121600" y="1773000"/>
              <a:chExt cx="1149120" cy="1062360"/>
            </a:xfrm>
          </p:grpSpPr>
          <p:sp>
            <p:nvSpPr>
              <p:cNvPr id="795" name=""/>
              <p:cNvSpPr/>
              <p:nvPr/>
            </p:nvSpPr>
            <p:spPr>
              <a:xfrm flipV="1">
                <a:off x="8269560" y="2657160"/>
                <a:ext cx="560160" cy="118080"/>
              </a:xfrm>
              <a:custGeom>
                <a:avLst/>
                <a:gdLst>
                  <a:gd name="textAreaLeft" fmla="*/ 76320 w 560160"/>
                  <a:gd name="textAreaRight" fmla="*/ 483840 w 560160"/>
                  <a:gd name="textAreaTop" fmla="*/ 15840 h 118080"/>
                  <a:gd name="textAreaBottom" fmla="*/ 102240 h 11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446" y="21600"/>
                    </a:lnTo>
                    <a:lnTo>
                      <a:pt x="215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446680" y="2540160"/>
                <a:ext cx="206640" cy="1767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269560" y="2775240"/>
                <a:ext cx="560160" cy="298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121600" y="1861560"/>
                <a:ext cx="855360" cy="7081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8121600" y="1831680"/>
                <a:ext cx="855360" cy="29520"/>
              </a:xfrm>
              <a:custGeom>
                <a:avLst/>
                <a:gdLst>
                  <a:gd name="textAreaLeft" fmla="*/ 94320 w 855360"/>
                  <a:gd name="textAreaRight" fmla="*/ 761040 w 855360"/>
                  <a:gd name="textAreaTop" fmla="*/ 3240 h 29520"/>
                  <a:gd name="textAreaBottom" fmla="*/ 26280 h 29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57" y="21600"/>
                    </a:lnTo>
                    <a:lnTo>
                      <a:pt x="114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179920" y="1921320"/>
                <a:ext cx="736920" cy="5886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9035280" y="1891800"/>
                <a:ext cx="235440" cy="9435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9035280" y="1772640"/>
                <a:ext cx="235440" cy="118440"/>
              </a:xfrm>
              <a:custGeom>
                <a:avLst/>
                <a:gdLst>
                  <a:gd name="textAreaLeft" fmla="*/ 35640 w 235440"/>
                  <a:gd name="textAreaRight" fmla="*/ 199800 w 235440"/>
                  <a:gd name="textAreaTop" fmla="*/ 18000 h 118440"/>
                  <a:gd name="textAreaBottom" fmla="*/ 100440 h 11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841" y="21600"/>
                    </a:lnTo>
                    <a:lnTo>
                      <a:pt x="275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9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3" name=""/>
          <p:cNvGrpSpPr/>
          <p:nvPr/>
        </p:nvGrpSpPr>
        <p:grpSpPr>
          <a:xfrm>
            <a:off x="8121600" y="2997000"/>
            <a:ext cx="1150560" cy="1062360"/>
            <a:chOff x="8121600" y="2997000"/>
            <a:chExt cx="1150560" cy="1062360"/>
          </a:xfrm>
        </p:grpSpPr>
        <p:grpSp>
          <p:nvGrpSpPr>
            <p:cNvPr id="804" name=""/>
            <p:cNvGrpSpPr/>
            <p:nvPr/>
          </p:nvGrpSpPr>
          <p:grpSpPr>
            <a:xfrm>
              <a:off x="8121600" y="2997360"/>
              <a:ext cx="1150560" cy="1062000"/>
              <a:chOff x="8121600" y="2997360"/>
              <a:chExt cx="1150560" cy="1062000"/>
            </a:xfrm>
          </p:grpSpPr>
          <p:sp>
            <p:nvSpPr>
              <p:cNvPr id="805" name=""/>
              <p:cNvSpPr/>
              <p:nvPr/>
            </p:nvSpPr>
            <p:spPr>
              <a:xfrm>
                <a:off x="9037080" y="2997360"/>
                <a:ext cx="235080" cy="1062000"/>
              </a:xfrm>
              <a:custGeom>
                <a:avLst/>
                <a:gdLst/>
                <a:ahLst/>
                <a:rect l="l" t="t" r="r" b="b"/>
                <a:pathLst>
                  <a:path w="181" h="817">
                    <a:moveTo>
                      <a:pt x="181" y="817"/>
                    </a:moveTo>
                    <a:lnTo>
                      <a:pt x="0" y="817"/>
                    </a:lnTo>
                    <a:lnTo>
                      <a:pt x="0" y="91"/>
                    </a:lnTo>
                    <a:lnTo>
                      <a:pt x="22" y="0"/>
                    </a:lnTo>
                    <a:lnTo>
                      <a:pt x="158" y="0"/>
                    </a:lnTo>
                    <a:lnTo>
                      <a:pt x="181" y="91"/>
                    </a:lnTo>
                    <a:lnTo>
                      <a:pt x="181" y="817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121600" y="3057120"/>
                <a:ext cx="855720" cy="736920"/>
              </a:xfrm>
              <a:custGeom>
                <a:avLst/>
                <a:gdLst/>
                <a:ahLst/>
                <a:rect l="l" t="t" r="r" b="b"/>
                <a:pathLst>
                  <a:path w="658" h="567">
                    <a:moveTo>
                      <a:pt x="658" y="22"/>
                    </a:moveTo>
                    <a:lnTo>
                      <a:pt x="613" y="0"/>
                    </a:lnTo>
                    <a:lnTo>
                      <a:pt x="46" y="0"/>
                    </a:lnTo>
                    <a:lnTo>
                      <a:pt x="0" y="22"/>
                    </a:lnTo>
                    <a:lnTo>
                      <a:pt x="0" y="567"/>
                    </a:lnTo>
                    <a:lnTo>
                      <a:pt x="658" y="567"/>
                    </a:lnTo>
                    <a:lnTo>
                      <a:pt x="65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269920" y="3882240"/>
                <a:ext cx="560520" cy="146880"/>
              </a:xfrm>
              <a:custGeom>
                <a:avLst/>
                <a:gdLst/>
                <a:ahLst/>
                <a:rect l="l" t="t" r="r" b="b"/>
                <a:pathLst>
                  <a:path w="431" h="113">
                    <a:moveTo>
                      <a:pt x="431" y="113"/>
                    </a:moveTo>
                    <a:lnTo>
                      <a:pt x="0" y="113"/>
                    </a:lnTo>
                    <a:lnTo>
                      <a:pt x="0" y="90"/>
                    </a:lnTo>
                    <a:lnTo>
                      <a:pt x="45" y="0"/>
                    </a:lnTo>
                    <a:lnTo>
                      <a:pt x="385" y="0"/>
                    </a:lnTo>
                    <a:lnTo>
                      <a:pt x="431" y="90"/>
                    </a:lnTo>
                    <a:lnTo>
                      <a:pt x="431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446680" y="3734280"/>
                <a:ext cx="206640" cy="17784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8121600" y="2997000"/>
              <a:ext cx="1149120" cy="1062360"/>
              <a:chOff x="8121600" y="2997000"/>
              <a:chExt cx="1149120" cy="1062360"/>
            </a:xfrm>
          </p:grpSpPr>
          <p:sp>
            <p:nvSpPr>
              <p:cNvPr id="810" name=""/>
              <p:cNvSpPr/>
              <p:nvPr/>
            </p:nvSpPr>
            <p:spPr>
              <a:xfrm flipV="1">
                <a:off x="8269560" y="3881160"/>
                <a:ext cx="560160" cy="118080"/>
              </a:xfrm>
              <a:custGeom>
                <a:avLst/>
                <a:gdLst>
                  <a:gd name="textAreaLeft" fmla="*/ 76320 w 560160"/>
                  <a:gd name="textAreaRight" fmla="*/ 483840 w 560160"/>
                  <a:gd name="textAreaTop" fmla="*/ 15840 h 118080"/>
                  <a:gd name="textAreaBottom" fmla="*/ 102240 h 11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446" y="21600"/>
                    </a:lnTo>
                    <a:lnTo>
                      <a:pt x="215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446680" y="3764160"/>
                <a:ext cx="206640" cy="1767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269560" y="3999240"/>
                <a:ext cx="560160" cy="298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121600" y="3085560"/>
                <a:ext cx="855360" cy="7081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8121600" y="3055680"/>
                <a:ext cx="855360" cy="29520"/>
              </a:xfrm>
              <a:custGeom>
                <a:avLst/>
                <a:gdLst>
                  <a:gd name="textAreaLeft" fmla="*/ 94320 w 855360"/>
                  <a:gd name="textAreaRight" fmla="*/ 761040 w 855360"/>
                  <a:gd name="textAreaTop" fmla="*/ 3240 h 29520"/>
                  <a:gd name="textAreaBottom" fmla="*/ 26280 h 29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57" y="21600"/>
                    </a:lnTo>
                    <a:lnTo>
                      <a:pt x="114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179920" y="3145320"/>
                <a:ext cx="736920" cy="5886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9035280" y="3115800"/>
                <a:ext cx="235440" cy="9435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9035280" y="2996640"/>
                <a:ext cx="235440" cy="118440"/>
              </a:xfrm>
              <a:custGeom>
                <a:avLst/>
                <a:gdLst>
                  <a:gd name="textAreaLeft" fmla="*/ 35640 w 235440"/>
                  <a:gd name="textAreaRight" fmla="*/ 199800 w 235440"/>
                  <a:gd name="textAreaTop" fmla="*/ 18000 h 118440"/>
                  <a:gd name="textAreaBottom" fmla="*/ 100440 h 11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841" y="21600"/>
                    </a:lnTo>
                    <a:lnTo>
                      <a:pt x="275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9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8" name=""/>
          <p:cNvGrpSpPr/>
          <p:nvPr/>
        </p:nvGrpSpPr>
        <p:grpSpPr>
          <a:xfrm>
            <a:off x="8121600" y="4220640"/>
            <a:ext cx="1150560" cy="1062720"/>
            <a:chOff x="8121600" y="4220640"/>
            <a:chExt cx="1150560" cy="1062720"/>
          </a:xfrm>
        </p:grpSpPr>
        <p:grpSp>
          <p:nvGrpSpPr>
            <p:cNvPr id="819" name=""/>
            <p:cNvGrpSpPr/>
            <p:nvPr/>
          </p:nvGrpSpPr>
          <p:grpSpPr>
            <a:xfrm>
              <a:off x="8121600" y="4221000"/>
              <a:ext cx="1150560" cy="1062360"/>
              <a:chOff x="8121600" y="4221000"/>
              <a:chExt cx="1150560" cy="1062360"/>
            </a:xfrm>
          </p:grpSpPr>
          <p:sp>
            <p:nvSpPr>
              <p:cNvPr id="820" name=""/>
              <p:cNvSpPr/>
              <p:nvPr/>
            </p:nvSpPr>
            <p:spPr>
              <a:xfrm>
                <a:off x="9037080" y="4221000"/>
                <a:ext cx="235080" cy="1062360"/>
              </a:xfrm>
              <a:custGeom>
                <a:avLst/>
                <a:gdLst/>
                <a:ahLst/>
                <a:rect l="l" t="t" r="r" b="b"/>
                <a:pathLst>
                  <a:path w="181" h="817">
                    <a:moveTo>
                      <a:pt x="181" y="817"/>
                    </a:moveTo>
                    <a:lnTo>
                      <a:pt x="0" y="817"/>
                    </a:lnTo>
                    <a:lnTo>
                      <a:pt x="0" y="91"/>
                    </a:lnTo>
                    <a:lnTo>
                      <a:pt x="22" y="0"/>
                    </a:lnTo>
                    <a:lnTo>
                      <a:pt x="158" y="0"/>
                    </a:lnTo>
                    <a:lnTo>
                      <a:pt x="181" y="91"/>
                    </a:lnTo>
                    <a:lnTo>
                      <a:pt x="181" y="817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121600" y="4280760"/>
                <a:ext cx="855720" cy="736920"/>
              </a:xfrm>
              <a:custGeom>
                <a:avLst/>
                <a:gdLst/>
                <a:ahLst/>
                <a:rect l="l" t="t" r="r" b="b"/>
                <a:pathLst>
                  <a:path w="658" h="567">
                    <a:moveTo>
                      <a:pt x="658" y="22"/>
                    </a:moveTo>
                    <a:lnTo>
                      <a:pt x="613" y="0"/>
                    </a:lnTo>
                    <a:lnTo>
                      <a:pt x="46" y="0"/>
                    </a:lnTo>
                    <a:lnTo>
                      <a:pt x="0" y="22"/>
                    </a:lnTo>
                    <a:lnTo>
                      <a:pt x="0" y="567"/>
                    </a:lnTo>
                    <a:lnTo>
                      <a:pt x="658" y="567"/>
                    </a:lnTo>
                    <a:lnTo>
                      <a:pt x="65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269920" y="5106240"/>
                <a:ext cx="560520" cy="146880"/>
              </a:xfrm>
              <a:custGeom>
                <a:avLst/>
                <a:gdLst/>
                <a:ahLst/>
                <a:rect l="l" t="t" r="r" b="b"/>
                <a:pathLst>
                  <a:path w="431" h="113">
                    <a:moveTo>
                      <a:pt x="431" y="113"/>
                    </a:moveTo>
                    <a:lnTo>
                      <a:pt x="0" y="113"/>
                    </a:lnTo>
                    <a:lnTo>
                      <a:pt x="0" y="90"/>
                    </a:lnTo>
                    <a:lnTo>
                      <a:pt x="45" y="0"/>
                    </a:lnTo>
                    <a:lnTo>
                      <a:pt x="385" y="0"/>
                    </a:lnTo>
                    <a:lnTo>
                      <a:pt x="431" y="90"/>
                    </a:lnTo>
                    <a:lnTo>
                      <a:pt x="431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446680" y="4958280"/>
                <a:ext cx="206640" cy="17784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8121600" y="4220640"/>
              <a:ext cx="1149120" cy="1062360"/>
              <a:chOff x="8121600" y="4220640"/>
              <a:chExt cx="1149120" cy="1062360"/>
            </a:xfrm>
          </p:grpSpPr>
          <p:sp>
            <p:nvSpPr>
              <p:cNvPr id="825" name=""/>
              <p:cNvSpPr/>
              <p:nvPr/>
            </p:nvSpPr>
            <p:spPr>
              <a:xfrm flipV="1">
                <a:off x="8269560" y="5105160"/>
                <a:ext cx="560160" cy="118080"/>
              </a:xfrm>
              <a:custGeom>
                <a:avLst/>
                <a:gdLst>
                  <a:gd name="textAreaLeft" fmla="*/ 76320 w 560160"/>
                  <a:gd name="textAreaRight" fmla="*/ 483840 w 560160"/>
                  <a:gd name="textAreaTop" fmla="*/ 15840 h 118080"/>
                  <a:gd name="textAreaBottom" fmla="*/ 102240 h 11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446" y="21600"/>
                    </a:lnTo>
                    <a:lnTo>
                      <a:pt x="215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446680" y="4988160"/>
                <a:ext cx="206640" cy="1767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269560" y="5223240"/>
                <a:ext cx="560160" cy="298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121600" y="4309200"/>
                <a:ext cx="855360" cy="708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8121600" y="4279320"/>
                <a:ext cx="855360" cy="29520"/>
              </a:xfrm>
              <a:custGeom>
                <a:avLst/>
                <a:gdLst>
                  <a:gd name="textAreaLeft" fmla="*/ 94320 w 855360"/>
                  <a:gd name="textAreaRight" fmla="*/ 761040 w 855360"/>
                  <a:gd name="textAreaTop" fmla="*/ 3240 h 29520"/>
                  <a:gd name="textAreaBottom" fmla="*/ 26280 h 29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57" y="21600"/>
                    </a:lnTo>
                    <a:lnTo>
                      <a:pt x="114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179920" y="4369320"/>
                <a:ext cx="736920" cy="58896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9035280" y="4339440"/>
                <a:ext cx="235440" cy="9435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9035280" y="4220280"/>
                <a:ext cx="235440" cy="118440"/>
              </a:xfrm>
              <a:custGeom>
                <a:avLst/>
                <a:gdLst>
                  <a:gd name="textAreaLeft" fmla="*/ 35640 w 235440"/>
                  <a:gd name="textAreaRight" fmla="*/ 199800 w 235440"/>
                  <a:gd name="textAreaTop" fmla="*/ 18000 h 118440"/>
                  <a:gd name="textAreaBottom" fmla="*/ 100440 h 11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841" y="21600"/>
                    </a:lnTo>
                    <a:lnTo>
                      <a:pt x="275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9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3" name=""/>
          <p:cNvGrpSpPr/>
          <p:nvPr/>
        </p:nvGrpSpPr>
        <p:grpSpPr>
          <a:xfrm>
            <a:off x="7977240" y="5300280"/>
            <a:ext cx="1150560" cy="1062360"/>
            <a:chOff x="7977240" y="5300280"/>
            <a:chExt cx="1150560" cy="1062360"/>
          </a:xfrm>
        </p:grpSpPr>
        <p:grpSp>
          <p:nvGrpSpPr>
            <p:cNvPr id="834" name=""/>
            <p:cNvGrpSpPr/>
            <p:nvPr/>
          </p:nvGrpSpPr>
          <p:grpSpPr>
            <a:xfrm>
              <a:off x="7977240" y="5300640"/>
              <a:ext cx="1150560" cy="1062000"/>
              <a:chOff x="7977240" y="5300640"/>
              <a:chExt cx="1150560" cy="1062000"/>
            </a:xfrm>
          </p:grpSpPr>
          <p:sp>
            <p:nvSpPr>
              <p:cNvPr id="835" name=""/>
              <p:cNvSpPr/>
              <p:nvPr/>
            </p:nvSpPr>
            <p:spPr>
              <a:xfrm>
                <a:off x="8892720" y="5300640"/>
                <a:ext cx="235080" cy="1062000"/>
              </a:xfrm>
              <a:custGeom>
                <a:avLst/>
                <a:gdLst/>
                <a:ahLst/>
                <a:rect l="l" t="t" r="r" b="b"/>
                <a:pathLst>
                  <a:path w="181" h="817">
                    <a:moveTo>
                      <a:pt x="181" y="817"/>
                    </a:moveTo>
                    <a:lnTo>
                      <a:pt x="0" y="817"/>
                    </a:lnTo>
                    <a:lnTo>
                      <a:pt x="0" y="91"/>
                    </a:lnTo>
                    <a:lnTo>
                      <a:pt x="22" y="0"/>
                    </a:lnTo>
                    <a:lnTo>
                      <a:pt x="158" y="0"/>
                    </a:lnTo>
                    <a:lnTo>
                      <a:pt x="181" y="91"/>
                    </a:lnTo>
                    <a:lnTo>
                      <a:pt x="181" y="817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977240" y="5360400"/>
                <a:ext cx="855720" cy="736920"/>
              </a:xfrm>
              <a:custGeom>
                <a:avLst/>
                <a:gdLst/>
                <a:ahLst/>
                <a:rect l="l" t="t" r="r" b="b"/>
                <a:pathLst>
                  <a:path w="658" h="567">
                    <a:moveTo>
                      <a:pt x="658" y="22"/>
                    </a:moveTo>
                    <a:lnTo>
                      <a:pt x="613" y="0"/>
                    </a:lnTo>
                    <a:lnTo>
                      <a:pt x="46" y="0"/>
                    </a:lnTo>
                    <a:lnTo>
                      <a:pt x="0" y="22"/>
                    </a:lnTo>
                    <a:lnTo>
                      <a:pt x="0" y="567"/>
                    </a:lnTo>
                    <a:lnTo>
                      <a:pt x="658" y="567"/>
                    </a:lnTo>
                    <a:lnTo>
                      <a:pt x="65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8125560" y="6185520"/>
                <a:ext cx="560520" cy="146880"/>
              </a:xfrm>
              <a:custGeom>
                <a:avLst/>
                <a:gdLst/>
                <a:ahLst/>
                <a:rect l="l" t="t" r="r" b="b"/>
                <a:pathLst>
                  <a:path w="431" h="113">
                    <a:moveTo>
                      <a:pt x="431" y="113"/>
                    </a:moveTo>
                    <a:lnTo>
                      <a:pt x="0" y="113"/>
                    </a:lnTo>
                    <a:lnTo>
                      <a:pt x="0" y="90"/>
                    </a:lnTo>
                    <a:lnTo>
                      <a:pt x="45" y="0"/>
                    </a:lnTo>
                    <a:lnTo>
                      <a:pt x="385" y="0"/>
                    </a:lnTo>
                    <a:lnTo>
                      <a:pt x="431" y="90"/>
                    </a:lnTo>
                    <a:lnTo>
                      <a:pt x="431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8302320" y="6037560"/>
                <a:ext cx="206640" cy="17784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7977240" y="5300280"/>
              <a:ext cx="1149120" cy="1062360"/>
              <a:chOff x="7977240" y="5300280"/>
              <a:chExt cx="1149120" cy="1062360"/>
            </a:xfrm>
          </p:grpSpPr>
          <p:sp>
            <p:nvSpPr>
              <p:cNvPr id="840" name=""/>
              <p:cNvSpPr/>
              <p:nvPr/>
            </p:nvSpPr>
            <p:spPr>
              <a:xfrm flipV="1">
                <a:off x="8125200" y="6184440"/>
                <a:ext cx="560160" cy="118080"/>
              </a:xfrm>
              <a:custGeom>
                <a:avLst/>
                <a:gdLst>
                  <a:gd name="textAreaLeft" fmla="*/ 76320 w 560160"/>
                  <a:gd name="textAreaRight" fmla="*/ 483840 w 560160"/>
                  <a:gd name="textAreaTop" fmla="*/ 15840 h 118080"/>
                  <a:gd name="textAreaBottom" fmla="*/ 102240 h 11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446" y="21600"/>
                    </a:lnTo>
                    <a:lnTo>
                      <a:pt x="215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302320" y="6067440"/>
                <a:ext cx="206640" cy="1767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125200" y="6302520"/>
                <a:ext cx="560160" cy="298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977240" y="5388840"/>
                <a:ext cx="855360" cy="7081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7977240" y="5358960"/>
                <a:ext cx="855360" cy="29520"/>
              </a:xfrm>
              <a:custGeom>
                <a:avLst/>
                <a:gdLst>
                  <a:gd name="textAreaLeft" fmla="*/ 94320 w 855360"/>
                  <a:gd name="textAreaRight" fmla="*/ 761040 w 855360"/>
                  <a:gd name="textAreaTop" fmla="*/ 3240 h 29520"/>
                  <a:gd name="textAreaBottom" fmla="*/ 26280 h 29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57" y="21600"/>
                    </a:lnTo>
                    <a:lnTo>
                      <a:pt x="114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035560" y="5448600"/>
                <a:ext cx="736920" cy="5886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890920" y="5419080"/>
                <a:ext cx="235440" cy="9435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>
                <a:off x="8890920" y="5299920"/>
                <a:ext cx="235440" cy="118440"/>
              </a:xfrm>
              <a:custGeom>
                <a:avLst/>
                <a:gdLst>
                  <a:gd name="textAreaLeft" fmla="*/ 35640 w 235440"/>
                  <a:gd name="textAreaRight" fmla="*/ 199800 w 235440"/>
                  <a:gd name="textAreaTop" fmla="*/ 18000 h 118440"/>
                  <a:gd name="textAreaBottom" fmla="*/ 100440 h 11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841" y="21600"/>
                    </a:lnTo>
                    <a:lnTo>
                      <a:pt x="275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9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8" name=""/>
          <p:cNvSpPr/>
          <p:nvPr/>
        </p:nvSpPr>
        <p:spPr>
          <a:xfrm>
            <a:off x="5410800" y="2060640"/>
            <a:ext cx="62568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WEB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ペー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5024520" y="2349360"/>
            <a:ext cx="1439640" cy="1268640"/>
            <a:chOff x="5024520" y="2349360"/>
            <a:chExt cx="1439640" cy="1268640"/>
          </a:xfrm>
        </p:grpSpPr>
        <p:sp>
          <p:nvSpPr>
            <p:cNvPr id="850" name=""/>
            <p:cNvSpPr/>
            <p:nvPr/>
          </p:nvSpPr>
          <p:spPr>
            <a:xfrm>
              <a:off x="5024520" y="2349360"/>
              <a:ext cx="1439640" cy="126864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092200" y="2554560"/>
              <a:ext cx="1302120" cy="9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092200" y="3480480"/>
              <a:ext cx="1302120" cy="68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092200" y="2485440"/>
              <a:ext cx="1302120" cy="67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システム構成図サンプル６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415800" y="836640"/>
            <a:ext cx="9074160" cy="5688000"/>
          </a:xfrm>
          <a:prstGeom prst="roundRect">
            <a:avLst>
              <a:gd name="adj" fmla="val 3264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6160" y="2781360"/>
            <a:ext cx="8425080" cy="3384360"/>
          </a:xfrm>
          <a:prstGeom prst="roundRect">
            <a:avLst>
              <a:gd name="adj" fmla="val 9208"/>
            </a:avLst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024520" y="1990800"/>
            <a:ext cx="0" cy="2735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712880" y="4078440"/>
            <a:ext cx="0" cy="502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68520" y="4078440"/>
            <a:ext cx="0" cy="502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680160" y="4078440"/>
            <a:ext cx="0" cy="502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337600" y="4078440"/>
            <a:ext cx="0" cy="502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1712880" y="4078440"/>
            <a:ext cx="66247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712880" y="5013360"/>
            <a:ext cx="0" cy="64908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68520" y="5013360"/>
            <a:ext cx="0" cy="936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712880" y="5661000"/>
            <a:ext cx="3311640" cy="144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024520" y="5013360"/>
            <a:ext cx="0" cy="64908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510640" y="6453360"/>
            <a:ext cx="44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システム図は何かを意図して制作したものではありません。使い方のご参考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4292280" y="1325520"/>
            <a:ext cx="1462680" cy="1323720"/>
            <a:chOff x="4292280" y="1325520"/>
            <a:chExt cx="1462680" cy="1323720"/>
          </a:xfrm>
        </p:grpSpPr>
        <p:sp>
          <p:nvSpPr>
            <p:cNvPr id="869" name=""/>
            <p:cNvSpPr/>
            <p:nvPr/>
          </p:nvSpPr>
          <p:spPr>
            <a:xfrm>
              <a:off x="4519440" y="1484280"/>
              <a:ext cx="1007640" cy="1008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735440" y="1700280"/>
              <a:ext cx="575640" cy="576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1800000">
              <a:off x="4303800" y="1771560"/>
              <a:ext cx="1439640" cy="432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18900000">
              <a:off x="4303440" y="1771200"/>
              <a:ext cx="1439640" cy="432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4703760" y="1268280"/>
            <a:ext cx="606240" cy="188640"/>
          </a:xfrm>
          <a:prstGeom prst="rect">
            <a:avLst/>
          </a:prstGeom>
          <a:solidFill>
            <a:srgbClr val="993366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インターネッ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4305240" y="3285720"/>
            <a:ext cx="1440000" cy="432000"/>
            <a:chOff x="4305240" y="3285720"/>
            <a:chExt cx="1440000" cy="432000"/>
          </a:xfrm>
        </p:grpSpPr>
        <p:sp>
          <p:nvSpPr>
            <p:cNvPr id="875" name=""/>
            <p:cNvSpPr/>
            <p:nvPr/>
          </p:nvSpPr>
          <p:spPr>
            <a:xfrm>
              <a:off x="4305240" y="3286080"/>
              <a:ext cx="1440000" cy="431640"/>
            </a:xfrm>
            <a:custGeom>
              <a:avLst/>
              <a:gdLst/>
              <a:ahLst/>
              <a:rect l="l" t="t" r="r" b="b"/>
              <a:pathLst>
                <a:path w="907" h="272">
                  <a:moveTo>
                    <a:pt x="45" y="0"/>
                  </a:moveTo>
                  <a:lnTo>
                    <a:pt x="0" y="181"/>
                  </a:lnTo>
                  <a:lnTo>
                    <a:pt x="0" y="272"/>
                  </a:lnTo>
                  <a:lnTo>
                    <a:pt x="907" y="272"/>
                  </a:lnTo>
                  <a:lnTo>
                    <a:pt x="907" y="181"/>
                  </a:lnTo>
                  <a:lnTo>
                    <a:pt x="862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"/>
            <p:cNvGrpSpPr/>
            <p:nvPr/>
          </p:nvGrpSpPr>
          <p:grpSpPr>
            <a:xfrm>
              <a:off x="4305240" y="3285720"/>
              <a:ext cx="1440000" cy="432000"/>
              <a:chOff x="4305240" y="3285720"/>
              <a:chExt cx="1440000" cy="432000"/>
            </a:xfrm>
          </p:grpSpPr>
          <p:sp>
            <p:nvSpPr>
              <p:cNvPr id="877" name=""/>
              <p:cNvSpPr/>
              <p:nvPr/>
            </p:nvSpPr>
            <p:spPr>
              <a:xfrm>
                <a:off x="4305240" y="3571560"/>
                <a:ext cx="1440000" cy="1461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4305240" y="3285360"/>
                <a:ext cx="1440000" cy="285480"/>
              </a:xfrm>
              <a:custGeom>
                <a:avLst/>
                <a:gdLst>
                  <a:gd name="textAreaLeft" fmla="*/ 155160 w 1440000"/>
                  <a:gd name="textAreaRight" fmla="*/ 1284840 w 1440000"/>
                  <a:gd name="textAreaTop" fmla="*/ 30600 h 285480"/>
                  <a:gd name="textAreaBottom" fmla="*/ 254880 h 285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53" y="21600"/>
                    </a:lnTo>
                    <a:lnTo>
                      <a:pt x="104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9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378320" y="3606480"/>
                <a:ext cx="71640" cy="716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552920" y="3606480"/>
                <a:ext cx="71640" cy="716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727520" y="3606480"/>
                <a:ext cx="71640" cy="716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902120" y="3606480"/>
                <a:ext cx="71640" cy="716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076720" y="3606480"/>
                <a:ext cx="71640" cy="716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251680" y="3606480"/>
                <a:ext cx="71280" cy="716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426280" y="3606480"/>
                <a:ext cx="71280" cy="716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600880" y="3606480"/>
                <a:ext cx="71280" cy="716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7" name=""/>
          <p:cNvSpPr/>
          <p:nvPr/>
        </p:nvSpPr>
        <p:spPr>
          <a:xfrm>
            <a:off x="4768920" y="3213000"/>
            <a:ext cx="52992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負荷分散装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4305240" y="2636640"/>
            <a:ext cx="1440000" cy="432000"/>
            <a:chOff x="4305240" y="2636640"/>
            <a:chExt cx="1440000" cy="432000"/>
          </a:xfrm>
        </p:grpSpPr>
        <p:sp>
          <p:nvSpPr>
            <p:cNvPr id="889" name=""/>
            <p:cNvSpPr/>
            <p:nvPr/>
          </p:nvSpPr>
          <p:spPr>
            <a:xfrm>
              <a:off x="4305240" y="2637000"/>
              <a:ext cx="1440000" cy="431640"/>
            </a:xfrm>
            <a:custGeom>
              <a:avLst/>
              <a:gdLst/>
              <a:ahLst/>
              <a:rect l="l" t="t" r="r" b="b"/>
              <a:pathLst>
                <a:path w="907" h="272">
                  <a:moveTo>
                    <a:pt x="45" y="0"/>
                  </a:moveTo>
                  <a:lnTo>
                    <a:pt x="0" y="181"/>
                  </a:lnTo>
                  <a:lnTo>
                    <a:pt x="0" y="272"/>
                  </a:lnTo>
                  <a:lnTo>
                    <a:pt x="907" y="272"/>
                  </a:lnTo>
                  <a:lnTo>
                    <a:pt x="907" y="181"/>
                  </a:lnTo>
                  <a:lnTo>
                    <a:pt x="862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0" name=""/>
            <p:cNvGrpSpPr/>
            <p:nvPr/>
          </p:nvGrpSpPr>
          <p:grpSpPr>
            <a:xfrm>
              <a:off x="4305240" y="2636640"/>
              <a:ext cx="1440000" cy="432000"/>
              <a:chOff x="4305240" y="2636640"/>
              <a:chExt cx="1440000" cy="432000"/>
            </a:xfrm>
          </p:grpSpPr>
          <p:sp>
            <p:nvSpPr>
              <p:cNvPr id="891" name=""/>
              <p:cNvSpPr/>
              <p:nvPr/>
            </p:nvSpPr>
            <p:spPr>
              <a:xfrm>
                <a:off x="4305240" y="2922480"/>
                <a:ext cx="1440000" cy="146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4305240" y="2636280"/>
                <a:ext cx="1440000" cy="285480"/>
              </a:xfrm>
              <a:custGeom>
                <a:avLst/>
                <a:gdLst>
                  <a:gd name="textAreaLeft" fmla="*/ 155160 w 1440000"/>
                  <a:gd name="textAreaRight" fmla="*/ 1284840 w 1440000"/>
                  <a:gd name="textAreaTop" fmla="*/ 30600 h 285480"/>
                  <a:gd name="textAreaBottom" fmla="*/ 254880 h 285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53" y="21600"/>
                    </a:lnTo>
                    <a:lnTo>
                      <a:pt x="104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0c4fe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27560" y="2943360"/>
                <a:ext cx="243000" cy="107640"/>
              </a:xfrm>
              <a:custGeom>
                <a:avLst/>
                <a:gdLst/>
                <a:ahLst/>
                <a:rect l="l" t="t" r="r" b="b"/>
                <a:pathLst>
                  <a:path w="153" h="68">
                    <a:moveTo>
                      <a:pt x="91" y="0"/>
                    </a:moveTo>
                    <a:lnTo>
                      <a:pt x="0" y="0"/>
                    </a:lnTo>
                    <a:lnTo>
                      <a:pt x="0" y="68"/>
                    </a:lnTo>
                    <a:lnTo>
                      <a:pt x="114" y="68"/>
                    </a:lnTo>
                    <a:lnTo>
                      <a:pt x="153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4" name=""/>
          <p:cNvSpPr/>
          <p:nvPr/>
        </p:nvSpPr>
        <p:spPr>
          <a:xfrm>
            <a:off x="4654800" y="2508120"/>
            <a:ext cx="75852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ファイヤーウォー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992160" y="4653000"/>
            <a:ext cx="1440000" cy="431640"/>
            <a:chOff x="992160" y="4653000"/>
            <a:chExt cx="1440000" cy="431640"/>
          </a:xfrm>
        </p:grpSpPr>
        <p:sp>
          <p:nvSpPr>
            <p:cNvPr id="896" name=""/>
            <p:cNvSpPr/>
            <p:nvPr/>
          </p:nvSpPr>
          <p:spPr>
            <a:xfrm>
              <a:off x="992160" y="4653000"/>
              <a:ext cx="1440000" cy="431640"/>
            </a:xfrm>
            <a:custGeom>
              <a:avLst/>
              <a:gdLst/>
              <a:ahLst/>
              <a:rect l="l" t="t" r="r" b="b"/>
              <a:pathLst>
                <a:path w="907" h="272">
                  <a:moveTo>
                    <a:pt x="45" y="0"/>
                  </a:moveTo>
                  <a:lnTo>
                    <a:pt x="0" y="181"/>
                  </a:lnTo>
                  <a:lnTo>
                    <a:pt x="0" y="272"/>
                  </a:lnTo>
                  <a:lnTo>
                    <a:pt x="907" y="272"/>
                  </a:lnTo>
                  <a:lnTo>
                    <a:pt x="907" y="181"/>
                  </a:lnTo>
                  <a:lnTo>
                    <a:pt x="862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992160" y="4938840"/>
              <a:ext cx="1440000" cy="1458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992160" y="4653000"/>
              <a:ext cx="1440000" cy="285840"/>
            </a:xfrm>
            <a:custGeom>
              <a:avLst/>
              <a:gdLst>
                <a:gd name="textAreaLeft" fmla="*/ 155160 w 1440000"/>
                <a:gd name="textAreaRight" fmla="*/ 1284840 w 1440000"/>
                <a:gd name="textAreaTop" fmla="*/ 30600 h 285840"/>
                <a:gd name="textAreaBottom" fmla="*/ 25524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53" y="21600"/>
                  </a:lnTo>
                  <a:lnTo>
                    <a:pt x="104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d9d9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1351080" y="4545000"/>
            <a:ext cx="68220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Ｗｅｂサーバー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2647800" y="4616280"/>
            <a:ext cx="1440000" cy="431640"/>
            <a:chOff x="2647800" y="4616280"/>
            <a:chExt cx="1440000" cy="431640"/>
          </a:xfrm>
        </p:grpSpPr>
        <p:sp>
          <p:nvSpPr>
            <p:cNvPr id="901" name=""/>
            <p:cNvSpPr/>
            <p:nvPr/>
          </p:nvSpPr>
          <p:spPr>
            <a:xfrm>
              <a:off x="2647800" y="4616280"/>
              <a:ext cx="1440000" cy="431640"/>
            </a:xfrm>
            <a:custGeom>
              <a:avLst/>
              <a:gdLst/>
              <a:ahLst/>
              <a:rect l="l" t="t" r="r" b="b"/>
              <a:pathLst>
                <a:path w="907" h="272">
                  <a:moveTo>
                    <a:pt x="45" y="0"/>
                  </a:moveTo>
                  <a:lnTo>
                    <a:pt x="0" y="181"/>
                  </a:lnTo>
                  <a:lnTo>
                    <a:pt x="0" y="272"/>
                  </a:lnTo>
                  <a:lnTo>
                    <a:pt x="907" y="272"/>
                  </a:lnTo>
                  <a:lnTo>
                    <a:pt x="907" y="181"/>
                  </a:lnTo>
                  <a:lnTo>
                    <a:pt x="862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647800" y="4902120"/>
              <a:ext cx="1440000" cy="1458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647800" y="4616280"/>
              <a:ext cx="1440000" cy="285840"/>
            </a:xfrm>
            <a:custGeom>
              <a:avLst/>
              <a:gdLst>
                <a:gd name="textAreaLeft" fmla="*/ 155160 w 1440000"/>
                <a:gd name="textAreaRight" fmla="*/ 1284840 w 1440000"/>
                <a:gd name="textAreaTop" fmla="*/ 30600 h 285840"/>
                <a:gd name="textAreaBottom" fmla="*/ 25524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53" y="21600"/>
                  </a:lnTo>
                  <a:lnTo>
                    <a:pt x="104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d9d9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3006720" y="4508640"/>
            <a:ext cx="68220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Ｗｅｂサーバー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4303800" y="4616280"/>
            <a:ext cx="1439640" cy="431640"/>
            <a:chOff x="4303800" y="4616280"/>
            <a:chExt cx="1439640" cy="431640"/>
          </a:xfrm>
        </p:grpSpPr>
        <p:sp>
          <p:nvSpPr>
            <p:cNvPr id="906" name=""/>
            <p:cNvSpPr/>
            <p:nvPr/>
          </p:nvSpPr>
          <p:spPr>
            <a:xfrm>
              <a:off x="4303800" y="4616280"/>
              <a:ext cx="1439640" cy="431640"/>
            </a:xfrm>
            <a:custGeom>
              <a:avLst/>
              <a:gdLst/>
              <a:ahLst/>
              <a:rect l="l" t="t" r="r" b="b"/>
              <a:pathLst>
                <a:path w="907" h="272">
                  <a:moveTo>
                    <a:pt x="45" y="0"/>
                  </a:moveTo>
                  <a:lnTo>
                    <a:pt x="0" y="181"/>
                  </a:lnTo>
                  <a:lnTo>
                    <a:pt x="0" y="272"/>
                  </a:lnTo>
                  <a:lnTo>
                    <a:pt x="907" y="272"/>
                  </a:lnTo>
                  <a:lnTo>
                    <a:pt x="907" y="181"/>
                  </a:lnTo>
                  <a:lnTo>
                    <a:pt x="862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303800" y="4902120"/>
              <a:ext cx="1439640" cy="1458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4303800" y="4616280"/>
              <a:ext cx="1439640" cy="285840"/>
            </a:xfrm>
            <a:custGeom>
              <a:avLst/>
              <a:gdLst>
                <a:gd name="textAreaLeft" fmla="*/ 155160 w 1439640"/>
                <a:gd name="textAreaRight" fmla="*/ 1284480 w 1439640"/>
                <a:gd name="textAreaTop" fmla="*/ 30600 h 285840"/>
                <a:gd name="textAreaBottom" fmla="*/ 25524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53" y="21600"/>
                  </a:lnTo>
                  <a:lnTo>
                    <a:pt x="104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d9d9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4662720" y="4508640"/>
            <a:ext cx="68220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Ｗｅｂサーバー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5904000" y="4581000"/>
            <a:ext cx="1439640" cy="432000"/>
            <a:chOff x="5904000" y="4581000"/>
            <a:chExt cx="1439640" cy="432000"/>
          </a:xfrm>
        </p:grpSpPr>
        <p:sp>
          <p:nvSpPr>
            <p:cNvPr id="911" name=""/>
            <p:cNvSpPr/>
            <p:nvPr/>
          </p:nvSpPr>
          <p:spPr>
            <a:xfrm>
              <a:off x="5904000" y="4581360"/>
              <a:ext cx="1439640" cy="431640"/>
            </a:xfrm>
            <a:custGeom>
              <a:avLst/>
              <a:gdLst/>
              <a:ahLst/>
              <a:rect l="l" t="t" r="r" b="b"/>
              <a:pathLst>
                <a:path w="907" h="272">
                  <a:moveTo>
                    <a:pt x="45" y="0"/>
                  </a:moveTo>
                  <a:lnTo>
                    <a:pt x="0" y="181"/>
                  </a:lnTo>
                  <a:lnTo>
                    <a:pt x="0" y="272"/>
                  </a:lnTo>
                  <a:lnTo>
                    <a:pt x="907" y="272"/>
                  </a:lnTo>
                  <a:lnTo>
                    <a:pt x="907" y="181"/>
                  </a:lnTo>
                  <a:lnTo>
                    <a:pt x="862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5904000" y="4581000"/>
              <a:ext cx="1439640" cy="432000"/>
              <a:chOff x="5904000" y="4581000"/>
              <a:chExt cx="1439640" cy="432000"/>
            </a:xfrm>
          </p:grpSpPr>
          <p:sp>
            <p:nvSpPr>
              <p:cNvPr id="913" name=""/>
              <p:cNvSpPr/>
              <p:nvPr/>
            </p:nvSpPr>
            <p:spPr>
              <a:xfrm>
                <a:off x="5904000" y="4866840"/>
                <a:ext cx="1439640" cy="1461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V="1">
                <a:off x="5904000" y="4580640"/>
                <a:ext cx="1439640" cy="285480"/>
              </a:xfrm>
              <a:custGeom>
                <a:avLst/>
                <a:gdLst>
                  <a:gd name="textAreaLeft" fmla="*/ 155160 w 1439640"/>
                  <a:gd name="textAreaRight" fmla="*/ 1284480 w 1439640"/>
                  <a:gd name="textAreaTop" fmla="*/ 30600 h 285480"/>
                  <a:gd name="textAreaBottom" fmla="*/ 254880 h 285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53" y="21600"/>
                    </a:lnTo>
                    <a:lnTo>
                      <a:pt x="104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5" name=""/>
          <p:cNvSpPr/>
          <p:nvPr/>
        </p:nvSpPr>
        <p:spPr>
          <a:xfrm>
            <a:off x="6361200" y="4508640"/>
            <a:ext cx="60624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Ｗｅｂサーバ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7616880" y="4581000"/>
            <a:ext cx="1439640" cy="432000"/>
            <a:chOff x="7616880" y="4581000"/>
            <a:chExt cx="1439640" cy="432000"/>
          </a:xfrm>
        </p:grpSpPr>
        <p:sp>
          <p:nvSpPr>
            <p:cNvPr id="917" name=""/>
            <p:cNvSpPr/>
            <p:nvPr/>
          </p:nvSpPr>
          <p:spPr>
            <a:xfrm>
              <a:off x="7616880" y="4581360"/>
              <a:ext cx="1439640" cy="431640"/>
            </a:xfrm>
            <a:custGeom>
              <a:avLst/>
              <a:gdLst/>
              <a:ahLst/>
              <a:rect l="l" t="t" r="r" b="b"/>
              <a:pathLst>
                <a:path w="907" h="272">
                  <a:moveTo>
                    <a:pt x="45" y="0"/>
                  </a:moveTo>
                  <a:lnTo>
                    <a:pt x="0" y="181"/>
                  </a:lnTo>
                  <a:lnTo>
                    <a:pt x="0" y="272"/>
                  </a:lnTo>
                  <a:lnTo>
                    <a:pt x="907" y="272"/>
                  </a:lnTo>
                  <a:lnTo>
                    <a:pt x="907" y="181"/>
                  </a:lnTo>
                  <a:lnTo>
                    <a:pt x="862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7616880" y="4581000"/>
              <a:ext cx="1439640" cy="432000"/>
              <a:chOff x="7616880" y="4581000"/>
              <a:chExt cx="1439640" cy="432000"/>
            </a:xfrm>
          </p:grpSpPr>
          <p:sp>
            <p:nvSpPr>
              <p:cNvPr id="919" name=""/>
              <p:cNvSpPr/>
              <p:nvPr/>
            </p:nvSpPr>
            <p:spPr>
              <a:xfrm>
                <a:off x="7616880" y="4866840"/>
                <a:ext cx="1439640" cy="1461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7616880" y="4580640"/>
                <a:ext cx="1439640" cy="285480"/>
              </a:xfrm>
              <a:custGeom>
                <a:avLst/>
                <a:gdLst>
                  <a:gd name="textAreaLeft" fmla="*/ 155160 w 1439640"/>
                  <a:gd name="textAreaRight" fmla="*/ 1284480 w 1439640"/>
                  <a:gd name="textAreaTop" fmla="*/ 30600 h 285480"/>
                  <a:gd name="textAreaBottom" fmla="*/ 254880 h 285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53" y="21600"/>
                    </a:lnTo>
                    <a:lnTo>
                      <a:pt x="104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1" name=""/>
          <p:cNvSpPr/>
          <p:nvPr/>
        </p:nvSpPr>
        <p:spPr>
          <a:xfrm>
            <a:off x="8055000" y="4508640"/>
            <a:ext cx="52992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配信サーバ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2647800" y="5733720"/>
            <a:ext cx="1440000" cy="432000"/>
            <a:chOff x="2647800" y="5733720"/>
            <a:chExt cx="1440000" cy="432000"/>
          </a:xfrm>
        </p:grpSpPr>
        <p:sp>
          <p:nvSpPr>
            <p:cNvPr id="923" name=""/>
            <p:cNvSpPr/>
            <p:nvPr/>
          </p:nvSpPr>
          <p:spPr>
            <a:xfrm>
              <a:off x="2647800" y="5734080"/>
              <a:ext cx="1440000" cy="431640"/>
            </a:xfrm>
            <a:custGeom>
              <a:avLst/>
              <a:gdLst/>
              <a:ahLst/>
              <a:rect l="l" t="t" r="r" b="b"/>
              <a:pathLst>
                <a:path w="907" h="272">
                  <a:moveTo>
                    <a:pt x="45" y="0"/>
                  </a:moveTo>
                  <a:lnTo>
                    <a:pt x="0" y="181"/>
                  </a:lnTo>
                  <a:lnTo>
                    <a:pt x="0" y="272"/>
                  </a:lnTo>
                  <a:lnTo>
                    <a:pt x="907" y="272"/>
                  </a:lnTo>
                  <a:lnTo>
                    <a:pt x="907" y="181"/>
                  </a:lnTo>
                  <a:lnTo>
                    <a:pt x="862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4" name=""/>
            <p:cNvGrpSpPr/>
            <p:nvPr/>
          </p:nvGrpSpPr>
          <p:grpSpPr>
            <a:xfrm>
              <a:off x="2647800" y="5733720"/>
              <a:ext cx="1440000" cy="432000"/>
              <a:chOff x="2647800" y="5733720"/>
              <a:chExt cx="1440000" cy="432000"/>
            </a:xfrm>
          </p:grpSpPr>
          <p:sp>
            <p:nvSpPr>
              <p:cNvPr id="925" name=""/>
              <p:cNvSpPr/>
              <p:nvPr/>
            </p:nvSpPr>
            <p:spPr>
              <a:xfrm>
                <a:off x="2647800" y="6019560"/>
                <a:ext cx="1440000" cy="1461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>
                <a:off x="2647800" y="5733360"/>
                <a:ext cx="1440000" cy="285480"/>
              </a:xfrm>
              <a:custGeom>
                <a:avLst/>
                <a:gdLst>
                  <a:gd name="textAreaLeft" fmla="*/ 155160 w 1440000"/>
                  <a:gd name="textAreaRight" fmla="*/ 1284840 w 1440000"/>
                  <a:gd name="textAreaTop" fmla="*/ 30600 h 285480"/>
                  <a:gd name="textAreaBottom" fmla="*/ 254880 h 285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53" y="21600"/>
                    </a:lnTo>
                    <a:lnTo>
                      <a:pt x="104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7" name=""/>
          <p:cNvSpPr/>
          <p:nvPr/>
        </p:nvSpPr>
        <p:spPr>
          <a:xfrm>
            <a:off x="4302000" y="5805360"/>
            <a:ext cx="83484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バックアップサーバ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992160" y="3715920"/>
            <a:ext cx="1440000" cy="432000"/>
            <a:chOff x="992160" y="3715920"/>
            <a:chExt cx="1440000" cy="432000"/>
          </a:xfrm>
        </p:grpSpPr>
        <p:sp>
          <p:nvSpPr>
            <p:cNvPr id="929" name=""/>
            <p:cNvSpPr/>
            <p:nvPr/>
          </p:nvSpPr>
          <p:spPr>
            <a:xfrm>
              <a:off x="992160" y="3716280"/>
              <a:ext cx="1440000" cy="431640"/>
            </a:xfrm>
            <a:custGeom>
              <a:avLst/>
              <a:gdLst/>
              <a:ahLst/>
              <a:rect l="l" t="t" r="r" b="b"/>
              <a:pathLst>
                <a:path w="907" h="272">
                  <a:moveTo>
                    <a:pt x="45" y="0"/>
                  </a:moveTo>
                  <a:lnTo>
                    <a:pt x="0" y="181"/>
                  </a:lnTo>
                  <a:lnTo>
                    <a:pt x="0" y="272"/>
                  </a:lnTo>
                  <a:lnTo>
                    <a:pt x="907" y="272"/>
                  </a:lnTo>
                  <a:lnTo>
                    <a:pt x="907" y="181"/>
                  </a:lnTo>
                  <a:lnTo>
                    <a:pt x="862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992160" y="3715920"/>
              <a:ext cx="1440000" cy="432000"/>
              <a:chOff x="992160" y="3715920"/>
              <a:chExt cx="1440000" cy="432000"/>
            </a:xfrm>
          </p:grpSpPr>
          <p:sp>
            <p:nvSpPr>
              <p:cNvPr id="931" name=""/>
              <p:cNvSpPr/>
              <p:nvPr/>
            </p:nvSpPr>
            <p:spPr>
              <a:xfrm>
                <a:off x="992160" y="4001760"/>
                <a:ext cx="1440000" cy="1461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V="1">
                <a:off x="992160" y="3715560"/>
                <a:ext cx="1440000" cy="285480"/>
              </a:xfrm>
              <a:custGeom>
                <a:avLst/>
                <a:gdLst>
                  <a:gd name="textAreaLeft" fmla="*/ 155160 w 1440000"/>
                  <a:gd name="textAreaRight" fmla="*/ 1284840 w 1440000"/>
                  <a:gd name="textAreaTop" fmla="*/ 30600 h 285480"/>
                  <a:gd name="textAreaBottom" fmla="*/ 254880 h 285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53" y="21600"/>
                    </a:lnTo>
                    <a:lnTo>
                      <a:pt x="104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3" name=""/>
          <p:cNvSpPr/>
          <p:nvPr/>
        </p:nvSpPr>
        <p:spPr>
          <a:xfrm>
            <a:off x="1392120" y="3573360"/>
            <a:ext cx="60624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無停電電源装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システム構成図サンプル７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415800" y="836640"/>
            <a:ext cx="9074160" cy="5688000"/>
          </a:xfrm>
          <a:prstGeom prst="roundRect">
            <a:avLst>
              <a:gd name="adj" fmla="val 3264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システム構成図サンプル８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560520" y="1413000"/>
            <a:ext cx="8785080" cy="5072040"/>
            <a:chOff x="560520" y="1413000"/>
            <a:chExt cx="8785080" cy="5072040"/>
          </a:xfrm>
        </p:grpSpPr>
        <p:sp>
          <p:nvSpPr>
            <p:cNvPr id="938" name=""/>
            <p:cNvSpPr/>
            <p:nvPr/>
          </p:nvSpPr>
          <p:spPr>
            <a:xfrm>
              <a:off x="1760040" y="5054400"/>
              <a:ext cx="299520" cy="399960"/>
            </a:xfrm>
            <a:custGeom>
              <a:avLst/>
              <a:gdLst/>
              <a:ahLst/>
              <a:rect l="l" t="t" r="r" b="b"/>
              <a:pathLst>
                <a:path w="544" h="726">
                  <a:moveTo>
                    <a:pt x="499" y="0"/>
                  </a:moveTo>
                  <a:lnTo>
                    <a:pt x="544" y="136"/>
                  </a:lnTo>
                  <a:lnTo>
                    <a:pt x="272" y="499"/>
                  </a:lnTo>
                  <a:lnTo>
                    <a:pt x="136" y="726"/>
                  </a:lnTo>
                  <a:lnTo>
                    <a:pt x="0" y="499"/>
                  </a:lnTo>
                  <a:lnTo>
                    <a:pt x="136" y="317"/>
                  </a:lnTo>
                  <a:lnTo>
                    <a:pt x="181" y="181"/>
                  </a:lnTo>
                  <a:lnTo>
                    <a:pt x="363" y="91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909680" y="3354480"/>
              <a:ext cx="174960" cy="17496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136" y="0"/>
                  </a:moveTo>
                  <a:lnTo>
                    <a:pt x="91" y="136"/>
                  </a:lnTo>
                  <a:lnTo>
                    <a:pt x="0" y="227"/>
                  </a:lnTo>
                  <a:lnTo>
                    <a:pt x="91" y="227"/>
                  </a:lnTo>
                  <a:lnTo>
                    <a:pt x="136" y="318"/>
                  </a:lnTo>
                  <a:lnTo>
                    <a:pt x="182" y="227"/>
                  </a:lnTo>
                  <a:lnTo>
                    <a:pt x="318" y="182"/>
                  </a:lnTo>
                  <a:lnTo>
                    <a:pt x="227" y="136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584960" y="3504960"/>
              <a:ext cx="349920" cy="299520"/>
            </a:xfrm>
            <a:custGeom>
              <a:avLst/>
              <a:gdLst/>
              <a:ahLst/>
              <a:rect l="l" t="t" r="r" b="b"/>
              <a:pathLst>
                <a:path w="635" h="544">
                  <a:moveTo>
                    <a:pt x="589" y="0"/>
                  </a:moveTo>
                  <a:lnTo>
                    <a:pt x="635" y="45"/>
                  </a:lnTo>
                  <a:lnTo>
                    <a:pt x="635" y="181"/>
                  </a:lnTo>
                  <a:lnTo>
                    <a:pt x="544" y="272"/>
                  </a:lnTo>
                  <a:lnTo>
                    <a:pt x="499" y="362"/>
                  </a:lnTo>
                  <a:lnTo>
                    <a:pt x="408" y="453"/>
                  </a:lnTo>
                  <a:lnTo>
                    <a:pt x="272" y="453"/>
                  </a:lnTo>
                  <a:lnTo>
                    <a:pt x="226" y="544"/>
                  </a:lnTo>
                  <a:lnTo>
                    <a:pt x="181" y="544"/>
                  </a:lnTo>
                  <a:lnTo>
                    <a:pt x="226" y="453"/>
                  </a:lnTo>
                  <a:lnTo>
                    <a:pt x="181" y="453"/>
                  </a:lnTo>
                  <a:lnTo>
                    <a:pt x="45" y="498"/>
                  </a:lnTo>
                  <a:lnTo>
                    <a:pt x="0" y="453"/>
                  </a:lnTo>
                  <a:lnTo>
                    <a:pt x="226" y="362"/>
                  </a:lnTo>
                  <a:lnTo>
                    <a:pt x="408" y="272"/>
                  </a:lnTo>
                  <a:lnTo>
                    <a:pt x="499" y="181"/>
                  </a:lnTo>
                  <a:lnTo>
                    <a:pt x="5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510080" y="3779280"/>
              <a:ext cx="74880" cy="100080"/>
            </a:xfrm>
            <a:custGeom>
              <a:avLst/>
              <a:gdLst/>
              <a:ahLst/>
              <a:rect l="l" t="t" r="r" b="b"/>
              <a:pathLst>
                <a:path w="136" h="182">
                  <a:moveTo>
                    <a:pt x="90" y="0"/>
                  </a:moveTo>
                  <a:lnTo>
                    <a:pt x="0" y="46"/>
                  </a:lnTo>
                  <a:lnTo>
                    <a:pt x="0" y="137"/>
                  </a:lnTo>
                  <a:lnTo>
                    <a:pt x="45" y="182"/>
                  </a:lnTo>
                  <a:lnTo>
                    <a:pt x="136" y="46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609800" y="3779280"/>
              <a:ext cx="50040" cy="5004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91" y="0"/>
                  </a:moveTo>
                  <a:lnTo>
                    <a:pt x="0" y="46"/>
                  </a:lnTo>
                  <a:lnTo>
                    <a:pt x="45" y="91"/>
                  </a:lnTo>
                  <a:lnTo>
                    <a:pt x="91" y="4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209840" y="4054320"/>
              <a:ext cx="74520" cy="7524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136" y="0"/>
                  </a:moveTo>
                  <a:lnTo>
                    <a:pt x="0" y="46"/>
                  </a:lnTo>
                  <a:lnTo>
                    <a:pt x="0" y="137"/>
                  </a:lnTo>
                  <a:lnTo>
                    <a:pt x="91" y="91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235040" y="4704480"/>
              <a:ext cx="474120" cy="274680"/>
            </a:xfrm>
            <a:custGeom>
              <a:avLst/>
              <a:gdLst/>
              <a:ahLst/>
              <a:rect l="l" t="t" r="r" b="b"/>
              <a:pathLst>
                <a:path w="861" h="499">
                  <a:moveTo>
                    <a:pt x="43" y="26"/>
                  </a:moveTo>
                  <a:cubicBezTo>
                    <a:pt x="62" y="26"/>
                    <a:pt x="82" y="26"/>
                    <a:pt x="101" y="26"/>
                  </a:cubicBezTo>
                  <a:lnTo>
                    <a:pt x="453" y="45"/>
                  </a:lnTo>
                  <a:lnTo>
                    <a:pt x="771" y="272"/>
                  </a:lnTo>
                  <a:lnTo>
                    <a:pt x="861" y="499"/>
                  </a:lnTo>
                  <a:lnTo>
                    <a:pt x="680" y="499"/>
                  </a:lnTo>
                  <a:lnTo>
                    <a:pt x="544" y="363"/>
                  </a:lnTo>
                  <a:lnTo>
                    <a:pt x="453" y="453"/>
                  </a:lnTo>
                  <a:lnTo>
                    <a:pt x="362" y="408"/>
                  </a:lnTo>
                  <a:lnTo>
                    <a:pt x="272" y="227"/>
                  </a:lnTo>
                  <a:lnTo>
                    <a:pt x="136" y="181"/>
                  </a:lnTo>
                  <a:lnTo>
                    <a:pt x="0" y="0"/>
                  </a:lnTo>
                  <a:lnTo>
                    <a:pt x="43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960000" y="4679280"/>
              <a:ext cx="124560" cy="174960"/>
            </a:xfrm>
            <a:custGeom>
              <a:avLst/>
              <a:gdLst/>
              <a:ahLst/>
              <a:rect l="l" t="t" r="r" b="b"/>
              <a:pathLst>
                <a:path w="226" h="318">
                  <a:moveTo>
                    <a:pt x="226" y="0"/>
                  </a:moveTo>
                  <a:lnTo>
                    <a:pt x="45" y="137"/>
                  </a:lnTo>
                  <a:lnTo>
                    <a:pt x="0" y="318"/>
                  </a:lnTo>
                  <a:lnTo>
                    <a:pt x="90" y="273"/>
                  </a:lnTo>
                  <a:lnTo>
                    <a:pt x="181" y="318"/>
                  </a:lnTo>
                  <a:lnTo>
                    <a:pt x="136" y="137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09800" y="4404240"/>
              <a:ext cx="399960" cy="425520"/>
            </a:xfrm>
            <a:custGeom>
              <a:avLst/>
              <a:gdLst/>
              <a:ahLst/>
              <a:rect l="l" t="t" r="r" b="b"/>
              <a:pathLst>
                <a:path w="726" h="772">
                  <a:moveTo>
                    <a:pt x="680" y="0"/>
                  </a:moveTo>
                  <a:lnTo>
                    <a:pt x="590" y="0"/>
                  </a:lnTo>
                  <a:lnTo>
                    <a:pt x="363" y="273"/>
                  </a:lnTo>
                  <a:lnTo>
                    <a:pt x="45" y="499"/>
                  </a:lnTo>
                  <a:lnTo>
                    <a:pt x="0" y="545"/>
                  </a:lnTo>
                  <a:lnTo>
                    <a:pt x="0" y="681"/>
                  </a:lnTo>
                  <a:lnTo>
                    <a:pt x="227" y="772"/>
                  </a:lnTo>
                  <a:lnTo>
                    <a:pt x="499" y="499"/>
                  </a:lnTo>
                  <a:lnTo>
                    <a:pt x="544" y="182"/>
                  </a:lnTo>
                  <a:lnTo>
                    <a:pt x="726" y="0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134960" y="4179240"/>
              <a:ext cx="149760" cy="424800"/>
            </a:xfrm>
            <a:custGeom>
              <a:avLst/>
              <a:gdLst/>
              <a:ahLst/>
              <a:rect l="l" t="t" r="r" b="b"/>
              <a:pathLst>
                <a:path w="272" h="771">
                  <a:moveTo>
                    <a:pt x="136" y="0"/>
                  </a:moveTo>
                  <a:lnTo>
                    <a:pt x="0" y="272"/>
                  </a:lnTo>
                  <a:lnTo>
                    <a:pt x="46" y="408"/>
                  </a:lnTo>
                  <a:lnTo>
                    <a:pt x="46" y="499"/>
                  </a:lnTo>
                  <a:lnTo>
                    <a:pt x="182" y="545"/>
                  </a:lnTo>
                  <a:lnTo>
                    <a:pt x="91" y="635"/>
                  </a:lnTo>
                  <a:lnTo>
                    <a:pt x="182" y="771"/>
                  </a:lnTo>
                  <a:lnTo>
                    <a:pt x="272" y="545"/>
                  </a:lnTo>
                  <a:lnTo>
                    <a:pt x="182" y="363"/>
                  </a:lnTo>
                  <a:lnTo>
                    <a:pt x="91" y="227"/>
                  </a:lnTo>
                  <a:lnTo>
                    <a:pt x="227" y="136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059440" y="5679360"/>
              <a:ext cx="124920" cy="199800"/>
            </a:xfrm>
            <a:custGeom>
              <a:avLst/>
              <a:gdLst/>
              <a:ahLst/>
              <a:rect l="l" t="t" r="r" b="b"/>
              <a:pathLst>
                <a:path w="227" h="363">
                  <a:moveTo>
                    <a:pt x="46" y="0"/>
                  </a:moveTo>
                  <a:lnTo>
                    <a:pt x="0" y="272"/>
                  </a:lnTo>
                  <a:lnTo>
                    <a:pt x="46" y="363"/>
                  </a:lnTo>
                  <a:lnTo>
                    <a:pt x="227" y="18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784760" y="5853960"/>
              <a:ext cx="225360" cy="225360"/>
            </a:xfrm>
            <a:custGeom>
              <a:avLst/>
              <a:gdLst/>
              <a:ahLst/>
              <a:rect l="l" t="t" r="r" b="b"/>
              <a:pathLst>
                <a:path w="409" h="409">
                  <a:moveTo>
                    <a:pt x="363" y="0"/>
                  </a:moveTo>
                  <a:lnTo>
                    <a:pt x="182" y="227"/>
                  </a:lnTo>
                  <a:lnTo>
                    <a:pt x="0" y="363"/>
                  </a:lnTo>
                  <a:lnTo>
                    <a:pt x="182" y="409"/>
                  </a:lnTo>
                  <a:lnTo>
                    <a:pt x="227" y="227"/>
                  </a:lnTo>
                  <a:lnTo>
                    <a:pt x="409" y="136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259880" y="5879520"/>
              <a:ext cx="99720" cy="997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0" y="0"/>
                  </a:moveTo>
                  <a:lnTo>
                    <a:pt x="181" y="0"/>
                  </a:lnTo>
                  <a:lnTo>
                    <a:pt x="181" y="45"/>
                  </a:lnTo>
                  <a:lnTo>
                    <a:pt x="91" y="181"/>
                  </a:lnTo>
                  <a:lnTo>
                    <a:pt x="0" y="1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610080" y="5029200"/>
              <a:ext cx="1024560" cy="799920"/>
            </a:xfrm>
            <a:custGeom>
              <a:avLst/>
              <a:gdLst/>
              <a:ahLst/>
              <a:rect l="l" t="t" r="r" b="b"/>
              <a:pathLst>
                <a:path w="1859" h="1452">
                  <a:moveTo>
                    <a:pt x="725" y="998"/>
                  </a:moveTo>
                  <a:lnTo>
                    <a:pt x="0" y="1180"/>
                  </a:lnTo>
                  <a:lnTo>
                    <a:pt x="0" y="908"/>
                  </a:lnTo>
                  <a:lnTo>
                    <a:pt x="90" y="590"/>
                  </a:lnTo>
                  <a:lnTo>
                    <a:pt x="453" y="409"/>
                  </a:lnTo>
                  <a:lnTo>
                    <a:pt x="816" y="91"/>
                  </a:lnTo>
                  <a:lnTo>
                    <a:pt x="861" y="137"/>
                  </a:lnTo>
                  <a:lnTo>
                    <a:pt x="1043" y="0"/>
                  </a:lnTo>
                  <a:lnTo>
                    <a:pt x="1224" y="0"/>
                  </a:lnTo>
                  <a:lnTo>
                    <a:pt x="1270" y="46"/>
                  </a:lnTo>
                  <a:lnTo>
                    <a:pt x="1179" y="182"/>
                  </a:lnTo>
                  <a:lnTo>
                    <a:pt x="1360" y="273"/>
                  </a:lnTo>
                  <a:lnTo>
                    <a:pt x="1406" y="273"/>
                  </a:lnTo>
                  <a:lnTo>
                    <a:pt x="1542" y="46"/>
                  </a:lnTo>
                  <a:lnTo>
                    <a:pt x="1587" y="46"/>
                  </a:lnTo>
                  <a:lnTo>
                    <a:pt x="1723" y="499"/>
                  </a:lnTo>
                  <a:lnTo>
                    <a:pt x="1859" y="817"/>
                  </a:lnTo>
                  <a:lnTo>
                    <a:pt x="1859" y="908"/>
                  </a:lnTo>
                  <a:lnTo>
                    <a:pt x="1723" y="998"/>
                  </a:lnTo>
                  <a:lnTo>
                    <a:pt x="1542" y="1180"/>
                  </a:lnTo>
                  <a:lnTo>
                    <a:pt x="1542" y="1361"/>
                  </a:lnTo>
                  <a:lnTo>
                    <a:pt x="1360" y="1361"/>
                  </a:lnTo>
                  <a:lnTo>
                    <a:pt x="1270" y="1452"/>
                  </a:lnTo>
                  <a:lnTo>
                    <a:pt x="1043" y="1407"/>
                  </a:lnTo>
                  <a:lnTo>
                    <a:pt x="1043" y="1225"/>
                  </a:lnTo>
                  <a:lnTo>
                    <a:pt x="998" y="1225"/>
                  </a:lnTo>
                  <a:lnTo>
                    <a:pt x="998" y="1134"/>
                  </a:lnTo>
                  <a:lnTo>
                    <a:pt x="907" y="1180"/>
                  </a:lnTo>
                  <a:lnTo>
                    <a:pt x="816" y="1134"/>
                  </a:lnTo>
                  <a:lnTo>
                    <a:pt x="771" y="998"/>
                  </a:lnTo>
                  <a:lnTo>
                    <a:pt x="725" y="9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409920" y="4604400"/>
              <a:ext cx="524520" cy="399960"/>
            </a:xfrm>
            <a:custGeom>
              <a:avLst/>
              <a:gdLst/>
              <a:ahLst/>
              <a:rect l="l" t="t" r="r" b="b"/>
              <a:pathLst>
                <a:path w="952" h="726">
                  <a:moveTo>
                    <a:pt x="0" y="0"/>
                  </a:moveTo>
                  <a:lnTo>
                    <a:pt x="0" y="91"/>
                  </a:lnTo>
                  <a:lnTo>
                    <a:pt x="90" y="363"/>
                  </a:lnTo>
                  <a:lnTo>
                    <a:pt x="227" y="545"/>
                  </a:lnTo>
                  <a:lnTo>
                    <a:pt x="907" y="726"/>
                  </a:lnTo>
                  <a:lnTo>
                    <a:pt x="952" y="681"/>
                  </a:lnTo>
                  <a:lnTo>
                    <a:pt x="680" y="499"/>
                  </a:lnTo>
                  <a:lnTo>
                    <a:pt x="363" y="454"/>
                  </a:lnTo>
                  <a:lnTo>
                    <a:pt x="363" y="318"/>
                  </a:lnTo>
                  <a:lnTo>
                    <a:pt x="181" y="1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110240" y="3004560"/>
              <a:ext cx="124560" cy="150120"/>
            </a:xfrm>
            <a:custGeom>
              <a:avLst/>
              <a:gdLst/>
              <a:ahLst/>
              <a:rect l="l" t="t" r="r" b="b"/>
              <a:pathLst>
                <a:path w="226" h="273">
                  <a:moveTo>
                    <a:pt x="226" y="0"/>
                  </a:moveTo>
                  <a:lnTo>
                    <a:pt x="226" y="136"/>
                  </a:lnTo>
                  <a:lnTo>
                    <a:pt x="226" y="227"/>
                  </a:lnTo>
                  <a:lnTo>
                    <a:pt x="90" y="273"/>
                  </a:lnTo>
                  <a:lnTo>
                    <a:pt x="0" y="273"/>
                  </a:lnTo>
                  <a:lnTo>
                    <a:pt x="45" y="136"/>
                  </a:lnTo>
                  <a:lnTo>
                    <a:pt x="13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260360" y="2804400"/>
              <a:ext cx="199800" cy="375120"/>
            </a:xfrm>
            <a:custGeom>
              <a:avLst/>
              <a:gdLst/>
              <a:ahLst/>
              <a:rect l="l" t="t" r="r" b="b"/>
              <a:pathLst>
                <a:path w="363" h="681">
                  <a:moveTo>
                    <a:pt x="272" y="0"/>
                  </a:moveTo>
                  <a:lnTo>
                    <a:pt x="45" y="182"/>
                  </a:lnTo>
                  <a:lnTo>
                    <a:pt x="91" y="454"/>
                  </a:lnTo>
                  <a:lnTo>
                    <a:pt x="0" y="681"/>
                  </a:lnTo>
                  <a:lnTo>
                    <a:pt x="45" y="681"/>
                  </a:lnTo>
                  <a:lnTo>
                    <a:pt x="227" y="681"/>
                  </a:lnTo>
                  <a:lnTo>
                    <a:pt x="363" y="545"/>
                  </a:lnTo>
                  <a:lnTo>
                    <a:pt x="181" y="273"/>
                  </a:lnTo>
                  <a:lnTo>
                    <a:pt x="317" y="137"/>
                  </a:lnTo>
                  <a:lnTo>
                    <a:pt x="227" y="91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984960" y="2354760"/>
              <a:ext cx="275040" cy="224640"/>
            </a:xfrm>
            <a:custGeom>
              <a:avLst/>
              <a:gdLst/>
              <a:ahLst/>
              <a:rect l="l" t="t" r="r" b="b"/>
              <a:pathLst>
                <a:path w="499" h="408">
                  <a:moveTo>
                    <a:pt x="0" y="91"/>
                  </a:moveTo>
                  <a:lnTo>
                    <a:pt x="45" y="227"/>
                  </a:lnTo>
                  <a:lnTo>
                    <a:pt x="45" y="318"/>
                  </a:lnTo>
                  <a:lnTo>
                    <a:pt x="136" y="408"/>
                  </a:lnTo>
                  <a:lnTo>
                    <a:pt x="317" y="318"/>
                  </a:lnTo>
                  <a:lnTo>
                    <a:pt x="499" y="136"/>
                  </a:lnTo>
                  <a:lnTo>
                    <a:pt x="408" y="0"/>
                  </a:lnTo>
                  <a:lnTo>
                    <a:pt x="272" y="91"/>
                  </a:lnTo>
                  <a:lnTo>
                    <a:pt x="91" y="45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434920" y="1554480"/>
              <a:ext cx="174240" cy="17496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91" y="0"/>
                  </a:moveTo>
                  <a:lnTo>
                    <a:pt x="0" y="137"/>
                  </a:lnTo>
                  <a:lnTo>
                    <a:pt x="0" y="318"/>
                  </a:lnTo>
                  <a:lnTo>
                    <a:pt x="317" y="227"/>
                  </a:lnTo>
                  <a:lnTo>
                    <a:pt x="317" y="91"/>
                  </a:lnTo>
                  <a:lnTo>
                    <a:pt x="181" y="91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459760" y="1779840"/>
              <a:ext cx="74880" cy="99720"/>
            </a:xfrm>
            <a:custGeom>
              <a:avLst/>
              <a:gdLst/>
              <a:ahLst/>
              <a:rect l="l" t="t" r="r" b="b"/>
              <a:pathLst>
                <a:path w="136" h="181">
                  <a:moveTo>
                    <a:pt x="0" y="0"/>
                  </a:moveTo>
                  <a:lnTo>
                    <a:pt x="0" y="136"/>
                  </a:lnTo>
                  <a:lnTo>
                    <a:pt x="136" y="181"/>
                  </a:lnTo>
                  <a:lnTo>
                    <a:pt x="91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684400" y="1654920"/>
              <a:ext cx="100080" cy="50040"/>
            </a:xfrm>
            <a:custGeom>
              <a:avLst/>
              <a:gdLst/>
              <a:ahLst/>
              <a:rect l="l" t="t" r="r" b="b"/>
              <a:pathLst>
                <a:path w="182" h="91">
                  <a:moveTo>
                    <a:pt x="0" y="0"/>
                  </a:moveTo>
                  <a:lnTo>
                    <a:pt x="0" y="45"/>
                  </a:lnTo>
                  <a:lnTo>
                    <a:pt x="137" y="91"/>
                  </a:lnTo>
                  <a:lnTo>
                    <a:pt x="182" y="0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384600" y="2004840"/>
              <a:ext cx="75600" cy="50040"/>
            </a:xfrm>
            <a:custGeom>
              <a:avLst/>
              <a:gdLst/>
              <a:ahLst/>
              <a:rect l="l" t="t" r="r" b="b"/>
              <a:pathLst>
                <a:path w="137" h="91">
                  <a:moveTo>
                    <a:pt x="91" y="0"/>
                  </a:moveTo>
                  <a:lnTo>
                    <a:pt x="137" y="91"/>
                  </a:lnTo>
                  <a:lnTo>
                    <a:pt x="0" y="4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834320" y="1779840"/>
              <a:ext cx="600120" cy="474840"/>
            </a:xfrm>
            <a:custGeom>
              <a:avLst/>
              <a:gdLst/>
              <a:ahLst/>
              <a:rect l="l" t="t" r="r" b="b"/>
              <a:pathLst>
                <a:path w="1089" h="862">
                  <a:moveTo>
                    <a:pt x="136" y="45"/>
                  </a:moveTo>
                  <a:lnTo>
                    <a:pt x="91" y="227"/>
                  </a:lnTo>
                  <a:lnTo>
                    <a:pt x="0" y="317"/>
                  </a:lnTo>
                  <a:lnTo>
                    <a:pt x="46" y="544"/>
                  </a:lnTo>
                  <a:lnTo>
                    <a:pt x="363" y="317"/>
                  </a:lnTo>
                  <a:lnTo>
                    <a:pt x="454" y="453"/>
                  </a:lnTo>
                  <a:lnTo>
                    <a:pt x="363" y="544"/>
                  </a:lnTo>
                  <a:lnTo>
                    <a:pt x="499" y="635"/>
                  </a:lnTo>
                  <a:lnTo>
                    <a:pt x="363" y="680"/>
                  </a:lnTo>
                  <a:lnTo>
                    <a:pt x="454" y="816"/>
                  </a:lnTo>
                  <a:lnTo>
                    <a:pt x="454" y="862"/>
                  </a:lnTo>
                  <a:lnTo>
                    <a:pt x="590" y="862"/>
                  </a:lnTo>
                  <a:lnTo>
                    <a:pt x="771" y="771"/>
                  </a:lnTo>
                  <a:lnTo>
                    <a:pt x="908" y="862"/>
                  </a:lnTo>
                  <a:lnTo>
                    <a:pt x="1044" y="771"/>
                  </a:lnTo>
                  <a:lnTo>
                    <a:pt x="953" y="725"/>
                  </a:lnTo>
                  <a:lnTo>
                    <a:pt x="1089" y="635"/>
                  </a:lnTo>
                  <a:lnTo>
                    <a:pt x="953" y="499"/>
                  </a:lnTo>
                  <a:lnTo>
                    <a:pt x="1044" y="90"/>
                  </a:lnTo>
                  <a:lnTo>
                    <a:pt x="771" y="317"/>
                  </a:lnTo>
                  <a:lnTo>
                    <a:pt x="590" y="227"/>
                  </a:lnTo>
                  <a:lnTo>
                    <a:pt x="499" y="45"/>
                  </a:lnTo>
                  <a:lnTo>
                    <a:pt x="363" y="45"/>
                  </a:lnTo>
                  <a:lnTo>
                    <a:pt x="182" y="0"/>
                  </a:lnTo>
                  <a:lnTo>
                    <a:pt x="136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434800" y="1804680"/>
              <a:ext cx="199800" cy="27468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181" y="0"/>
                  </a:moveTo>
                  <a:lnTo>
                    <a:pt x="136" y="182"/>
                  </a:lnTo>
                  <a:lnTo>
                    <a:pt x="0" y="227"/>
                  </a:lnTo>
                  <a:lnTo>
                    <a:pt x="45" y="318"/>
                  </a:lnTo>
                  <a:lnTo>
                    <a:pt x="91" y="499"/>
                  </a:lnTo>
                  <a:lnTo>
                    <a:pt x="272" y="272"/>
                  </a:lnTo>
                  <a:lnTo>
                    <a:pt x="363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084840" y="1479600"/>
              <a:ext cx="624960" cy="624960"/>
            </a:xfrm>
            <a:custGeom>
              <a:avLst/>
              <a:gdLst/>
              <a:ahLst/>
              <a:rect l="l" t="t" r="r" b="b"/>
              <a:pathLst>
                <a:path w="1134" h="1134">
                  <a:moveTo>
                    <a:pt x="181" y="1134"/>
                  </a:moveTo>
                  <a:lnTo>
                    <a:pt x="45" y="1134"/>
                  </a:lnTo>
                  <a:lnTo>
                    <a:pt x="91" y="998"/>
                  </a:lnTo>
                  <a:lnTo>
                    <a:pt x="0" y="953"/>
                  </a:lnTo>
                  <a:lnTo>
                    <a:pt x="181" y="681"/>
                  </a:lnTo>
                  <a:lnTo>
                    <a:pt x="363" y="363"/>
                  </a:lnTo>
                  <a:lnTo>
                    <a:pt x="544" y="318"/>
                  </a:lnTo>
                  <a:lnTo>
                    <a:pt x="726" y="182"/>
                  </a:lnTo>
                  <a:lnTo>
                    <a:pt x="862" y="182"/>
                  </a:lnTo>
                  <a:lnTo>
                    <a:pt x="1043" y="0"/>
                  </a:lnTo>
                  <a:lnTo>
                    <a:pt x="1134" y="91"/>
                  </a:lnTo>
                  <a:lnTo>
                    <a:pt x="1043" y="182"/>
                  </a:lnTo>
                  <a:lnTo>
                    <a:pt x="862" y="227"/>
                  </a:lnTo>
                  <a:lnTo>
                    <a:pt x="726" y="318"/>
                  </a:lnTo>
                  <a:lnTo>
                    <a:pt x="590" y="454"/>
                  </a:lnTo>
                  <a:lnTo>
                    <a:pt x="454" y="499"/>
                  </a:lnTo>
                  <a:lnTo>
                    <a:pt x="181" y="908"/>
                  </a:lnTo>
                  <a:lnTo>
                    <a:pt x="181" y="1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60520" y="1413000"/>
              <a:ext cx="6006240" cy="4252320"/>
            </a:xfrm>
            <a:custGeom>
              <a:avLst/>
              <a:gdLst/>
              <a:ahLst/>
              <a:rect l="l" t="t" r="r" b="b"/>
              <a:pathLst>
                <a:path w="10899" h="7716">
                  <a:moveTo>
                    <a:pt x="619" y="4392"/>
                  </a:moveTo>
                  <a:lnTo>
                    <a:pt x="595" y="4528"/>
                  </a:lnTo>
                  <a:lnTo>
                    <a:pt x="335" y="4680"/>
                  </a:lnTo>
                  <a:lnTo>
                    <a:pt x="136" y="4975"/>
                  </a:lnTo>
                  <a:lnTo>
                    <a:pt x="0" y="5383"/>
                  </a:lnTo>
                  <a:lnTo>
                    <a:pt x="227" y="5776"/>
                  </a:lnTo>
                  <a:lnTo>
                    <a:pt x="579" y="5772"/>
                  </a:lnTo>
                  <a:lnTo>
                    <a:pt x="775" y="5720"/>
                  </a:lnTo>
                  <a:lnTo>
                    <a:pt x="891" y="5836"/>
                  </a:lnTo>
                  <a:lnTo>
                    <a:pt x="1043" y="5828"/>
                  </a:lnTo>
                  <a:lnTo>
                    <a:pt x="1031" y="5956"/>
                  </a:lnTo>
                  <a:lnTo>
                    <a:pt x="983" y="6048"/>
                  </a:lnTo>
                  <a:lnTo>
                    <a:pt x="1071" y="6320"/>
                  </a:lnTo>
                  <a:lnTo>
                    <a:pt x="1051" y="6548"/>
                  </a:lnTo>
                  <a:lnTo>
                    <a:pt x="851" y="6816"/>
                  </a:lnTo>
                  <a:lnTo>
                    <a:pt x="875" y="7104"/>
                  </a:lnTo>
                  <a:lnTo>
                    <a:pt x="815" y="7296"/>
                  </a:lnTo>
                  <a:lnTo>
                    <a:pt x="927" y="7588"/>
                  </a:lnTo>
                  <a:lnTo>
                    <a:pt x="871" y="7716"/>
                  </a:lnTo>
                  <a:lnTo>
                    <a:pt x="1287" y="7660"/>
                  </a:lnTo>
                  <a:lnTo>
                    <a:pt x="1843" y="7216"/>
                  </a:lnTo>
                  <a:lnTo>
                    <a:pt x="1919" y="6984"/>
                  </a:lnTo>
                  <a:lnTo>
                    <a:pt x="2267" y="6748"/>
                  </a:lnTo>
                  <a:lnTo>
                    <a:pt x="2327" y="6272"/>
                  </a:lnTo>
                  <a:lnTo>
                    <a:pt x="2955" y="5748"/>
                  </a:lnTo>
                  <a:lnTo>
                    <a:pt x="3175" y="5480"/>
                  </a:lnTo>
                  <a:lnTo>
                    <a:pt x="2807" y="5480"/>
                  </a:lnTo>
                  <a:lnTo>
                    <a:pt x="2651" y="5220"/>
                  </a:lnTo>
                  <a:lnTo>
                    <a:pt x="2619" y="4660"/>
                  </a:lnTo>
                  <a:lnTo>
                    <a:pt x="2743" y="4944"/>
                  </a:lnTo>
                  <a:lnTo>
                    <a:pt x="2823" y="5236"/>
                  </a:lnTo>
                  <a:lnTo>
                    <a:pt x="2827" y="5372"/>
                  </a:lnTo>
                  <a:lnTo>
                    <a:pt x="3571" y="5100"/>
                  </a:lnTo>
                  <a:lnTo>
                    <a:pt x="3707" y="4944"/>
                  </a:lnTo>
                  <a:lnTo>
                    <a:pt x="3571" y="4788"/>
                  </a:lnTo>
                  <a:lnTo>
                    <a:pt x="3311" y="4604"/>
                  </a:lnTo>
                  <a:lnTo>
                    <a:pt x="3679" y="4640"/>
                  </a:lnTo>
                  <a:lnTo>
                    <a:pt x="3755" y="4752"/>
                  </a:lnTo>
                  <a:lnTo>
                    <a:pt x="4055" y="4716"/>
                  </a:lnTo>
                  <a:lnTo>
                    <a:pt x="4227" y="4948"/>
                  </a:lnTo>
                  <a:lnTo>
                    <a:pt x="4319" y="4944"/>
                  </a:lnTo>
                  <a:lnTo>
                    <a:pt x="4263" y="5308"/>
                  </a:lnTo>
                  <a:lnTo>
                    <a:pt x="4367" y="5604"/>
                  </a:lnTo>
                  <a:lnTo>
                    <a:pt x="4551" y="5452"/>
                  </a:lnTo>
                  <a:lnTo>
                    <a:pt x="4575" y="5232"/>
                  </a:lnTo>
                  <a:lnTo>
                    <a:pt x="5003" y="4944"/>
                  </a:lnTo>
                  <a:lnTo>
                    <a:pt x="5199" y="4908"/>
                  </a:lnTo>
                  <a:lnTo>
                    <a:pt x="5291" y="5120"/>
                  </a:lnTo>
                  <a:lnTo>
                    <a:pt x="5251" y="5260"/>
                  </a:lnTo>
                  <a:lnTo>
                    <a:pt x="5391" y="5240"/>
                  </a:lnTo>
                  <a:lnTo>
                    <a:pt x="5355" y="5548"/>
                  </a:lnTo>
                  <a:lnTo>
                    <a:pt x="5495" y="5908"/>
                  </a:lnTo>
                  <a:lnTo>
                    <a:pt x="5575" y="5728"/>
                  </a:lnTo>
                  <a:lnTo>
                    <a:pt x="5459" y="5520"/>
                  </a:lnTo>
                  <a:lnTo>
                    <a:pt x="5567" y="5308"/>
                  </a:lnTo>
                  <a:lnTo>
                    <a:pt x="5663" y="5492"/>
                  </a:lnTo>
                  <a:lnTo>
                    <a:pt x="5671" y="5560"/>
                  </a:lnTo>
                  <a:lnTo>
                    <a:pt x="5891" y="5488"/>
                  </a:lnTo>
                  <a:lnTo>
                    <a:pt x="5975" y="5312"/>
                  </a:lnTo>
                  <a:lnTo>
                    <a:pt x="5895" y="5104"/>
                  </a:lnTo>
                  <a:lnTo>
                    <a:pt x="5991" y="4948"/>
                  </a:lnTo>
                  <a:lnTo>
                    <a:pt x="6079" y="4964"/>
                  </a:lnTo>
                  <a:lnTo>
                    <a:pt x="6031" y="5116"/>
                  </a:lnTo>
                  <a:lnTo>
                    <a:pt x="6115" y="5124"/>
                  </a:lnTo>
                  <a:lnTo>
                    <a:pt x="6199" y="4936"/>
                  </a:lnTo>
                  <a:lnTo>
                    <a:pt x="6507" y="4864"/>
                  </a:lnTo>
                  <a:lnTo>
                    <a:pt x="6815" y="4532"/>
                  </a:lnTo>
                  <a:lnTo>
                    <a:pt x="6831" y="4248"/>
                  </a:lnTo>
                  <a:lnTo>
                    <a:pt x="6971" y="4108"/>
                  </a:lnTo>
                  <a:lnTo>
                    <a:pt x="6763" y="4064"/>
                  </a:lnTo>
                  <a:lnTo>
                    <a:pt x="6775" y="3980"/>
                  </a:lnTo>
                  <a:lnTo>
                    <a:pt x="6963" y="3880"/>
                  </a:lnTo>
                  <a:lnTo>
                    <a:pt x="6915" y="3988"/>
                  </a:lnTo>
                  <a:lnTo>
                    <a:pt x="7087" y="4000"/>
                  </a:lnTo>
                  <a:lnTo>
                    <a:pt x="7051" y="4088"/>
                  </a:lnTo>
                  <a:lnTo>
                    <a:pt x="7147" y="4060"/>
                  </a:lnTo>
                  <a:lnTo>
                    <a:pt x="7075" y="4288"/>
                  </a:lnTo>
                  <a:lnTo>
                    <a:pt x="7219" y="4240"/>
                  </a:lnTo>
                  <a:lnTo>
                    <a:pt x="7283" y="4124"/>
                  </a:lnTo>
                  <a:lnTo>
                    <a:pt x="7275" y="3968"/>
                  </a:lnTo>
                  <a:lnTo>
                    <a:pt x="7447" y="3780"/>
                  </a:lnTo>
                  <a:lnTo>
                    <a:pt x="7631" y="3728"/>
                  </a:lnTo>
                  <a:lnTo>
                    <a:pt x="7991" y="3396"/>
                  </a:lnTo>
                  <a:lnTo>
                    <a:pt x="8139" y="3176"/>
                  </a:lnTo>
                  <a:lnTo>
                    <a:pt x="8135" y="3468"/>
                  </a:lnTo>
                  <a:lnTo>
                    <a:pt x="8247" y="3288"/>
                  </a:lnTo>
                  <a:lnTo>
                    <a:pt x="8247" y="2956"/>
                  </a:lnTo>
                  <a:lnTo>
                    <a:pt x="8031" y="2888"/>
                  </a:lnTo>
                  <a:lnTo>
                    <a:pt x="8011" y="2800"/>
                  </a:lnTo>
                  <a:lnTo>
                    <a:pt x="8139" y="2664"/>
                  </a:lnTo>
                  <a:lnTo>
                    <a:pt x="8435" y="2488"/>
                  </a:lnTo>
                  <a:lnTo>
                    <a:pt x="8935" y="2528"/>
                  </a:lnTo>
                  <a:lnTo>
                    <a:pt x="9135" y="2260"/>
                  </a:lnTo>
                  <a:lnTo>
                    <a:pt x="9291" y="2316"/>
                  </a:lnTo>
                  <a:lnTo>
                    <a:pt x="9511" y="2312"/>
                  </a:lnTo>
                  <a:lnTo>
                    <a:pt x="8987" y="2660"/>
                  </a:lnTo>
                  <a:lnTo>
                    <a:pt x="8855" y="3076"/>
                  </a:lnTo>
                  <a:lnTo>
                    <a:pt x="8927" y="3100"/>
                  </a:lnTo>
                  <a:lnTo>
                    <a:pt x="9383" y="2652"/>
                  </a:lnTo>
                  <a:lnTo>
                    <a:pt x="9351" y="2572"/>
                  </a:lnTo>
                  <a:lnTo>
                    <a:pt x="9423" y="2488"/>
                  </a:lnTo>
                  <a:lnTo>
                    <a:pt x="9671" y="2408"/>
                  </a:lnTo>
                  <a:lnTo>
                    <a:pt x="9731" y="2452"/>
                  </a:lnTo>
                  <a:lnTo>
                    <a:pt x="9903" y="2260"/>
                  </a:lnTo>
                  <a:lnTo>
                    <a:pt x="10183" y="2204"/>
                  </a:lnTo>
                  <a:lnTo>
                    <a:pt x="10247" y="2128"/>
                  </a:lnTo>
                  <a:lnTo>
                    <a:pt x="10251" y="1968"/>
                  </a:lnTo>
                  <a:lnTo>
                    <a:pt x="10371" y="1904"/>
                  </a:lnTo>
                  <a:lnTo>
                    <a:pt x="10463" y="1760"/>
                  </a:lnTo>
                  <a:lnTo>
                    <a:pt x="10623" y="2004"/>
                  </a:lnTo>
                  <a:lnTo>
                    <a:pt x="10899" y="1764"/>
                  </a:lnTo>
                  <a:lnTo>
                    <a:pt x="10827" y="1692"/>
                  </a:lnTo>
                  <a:lnTo>
                    <a:pt x="10719" y="1700"/>
                  </a:lnTo>
                  <a:lnTo>
                    <a:pt x="10675" y="1604"/>
                  </a:lnTo>
                  <a:lnTo>
                    <a:pt x="10575" y="1520"/>
                  </a:lnTo>
                  <a:lnTo>
                    <a:pt x="10551" y="1428"/>
                  </a:lnTo>
                  <a:lnTo>
                    <a:pt x="10383" y="1332"/>
                  </a:lnTo>
                  <a:lnTo>
                    <a:pt x="10135" y="1308"/>
                  </a:lnTo>
                  <a:lnTo>
                    <a:pt x="10119" y="1416"/>
                  </a:lnTo>
                  <a:lnTo>
                    <a:pt x="9991" y="1424"/>
                  </a:lnTo>
                  <a:lnTo>
                    <a:pt x="9955" y="1344"/>
                  </a:lnTo>
                  <a:lnTo>
                    <a:pt x="9591" y="1308"/>
                  </a:lnTo>
                  <a:lnTo>
                    <a:pt x="9655" y="1148"/>
                  </a:lnTo>
                  <a:lnTo>
                    <a:pt x="9335" y="1176"/>
                  </a:lnTo>
                  <a:lnTo>
                    <a:pt x="9227" y="1044"/>
                  </a:lnTo>
                  <a:lnTo>
                    <a:pt x="9283" y="956"/>
                  </a:lnTo>
                  <a:lnTo>
                    <a:pt x="9015" y="888"/>
                  </a:lnTo>
                  <a:lnTo>
                    <a:pt x="8787" y="908"/>
                  </a:lnTo>
                  <a:lnTo>
                    <a:pt x="8767" y="1020"/>
                  </a:lnTo>
                  <a:lnTo>
                    <a:pt x="8431" y="1100"/>
                  </a:lnTo>
                  <a:lnTo>
                    <a:pt x="8347" y="1200"/>
                  </a:lnTo>
                  <a:lnTo>
                    <a:pt x="8247" y="1168"/>
                  </a:lnTo>
                  <a:lnTo>
                    <a:pt x="8327" y="864"/>
                  </a:lnTo>
                  <a:lnTo>
                    <a:pt x="8139" y="732"/>
                  </a:lnTo>
                  <a:lnTo>
                    <a:pt x="8047" y="836"/>
                  </a:lnTo>
                  <a:lnTo>
                    <a:pt x="7835" y="880"/>
                  </a:lnTo>
                  <a:lnTo>
                    <a:pt x="7823" y="748"/>
                  </a:lnTo>
                  <a:lnTo>
                    <a:pt x="7687" y="740"/>
                  </a:lnTo>
                  <a:lnTo>
                    <a:pt x="7567" y="756"/>
                  </a:lnTo>
                  <a:lnTo>
                    <a:pt x="7515" y="696"/>
                  </a:lnTo>
                  <a:lnTo>
                    <a:pt x="7431" y="792"/>
                  </a:lnTo>
                  <a:lnTo>
                    <a:pt x="7139" y="916"/>
                  </a:lnTo>
                  <a:lnTo>
                    <a:pt x="7463" y="628"/>
                  </a:lnTo>
                  <a:lnTo>
                    <a:pt x="7667" y="524"/>
                  </a:lnTo>
                  <a:lnTo>
                    <a:pt x="7763" y="360"/>
                  </a:lnTo>
                  <a:lnTo>
                    <a:pt x="7715" y="196"/>
                  </a:lnTo>
                  <a:lnTo>
                    <a:pt x="7443" y="212"/>
                  </a:lnTo>
                  <a:lnTo>
                    <a:pt x="7455" y="108"/>
                  </a:lnTo>
                  <a:lnTo>
                    <a:pt x="7535" y="0"/>
                  </a:lnTo>
                  <a:lnTo>
                    <a:pt x="7387" y="0"/>
                  </a:lnTo>
                  <a:lnTo>
                    <a:pt x="7235" y="168"/>
                  </a:lnTo>
                  <a:lnTo>
                    <a:pt x="7123" y="204"/>
                  </a:lnTo>
                  <a:lnTo>
                    <a:pt x="7119" y="348"/>
                  </a:lnTo>
                  <a:lnTo>
                    <a:pt x="6955" y="352"/>
                  </a:lnTo>
                  <a:lnTo>
                    <a:pt x="6879" y="304"/>
                  </a:lnTo>
                  <a:lnTo>
                    <a:pt x="6459" y="496"/>
                  </a:lnTo>
                  <a:lnTo>
                    <a:pt x="6371" y="584"/>
                  </a:lnTo>
                  <a:lnTo>
                    <a:pt x="6411" y="700"/>
                  </a:lnTo>
                  <a:lnTo>
                    <a:pt x="6107" y="728"/>
                  </a:lnTo>
                  <a:lnTo>
                    <a:pt x="6007" y="980"/>
                  </a:lnTo>
                  <a:lnTo>
                    <a:pt x="6035" y="1244"/>
                  </a:lnTo>
                  <a:lnTo>
                    <a:pt x="5939" y="1008"/>
                  </a:lnTo>
                  <a:lnTo>
                    <a:pt x="5751" y="988"/>
                  </a:lnTo>
                  <a:lnTo>
                    <a:pt x="5619" y="1108"/>
                  </a:lnTo>
                  <a:lnTo>
                    <a:pt x="5543" y="1404"/>
                  </a:lnTo>
                  <a:lnTo>
                    <a:pt x="5695" y="1496"/>
                  </a:lnTo>
                  <a:lnTo>
                    <a:pt x="5543" y="1512"/>
                  </a:lnTo>
                  <a:lnTo>
                    <a:pt x="5375" y="1752"/>
                  </a:lnTo>
                  <a:lnTo>
                    <a:pt x="5127" y="1748"/>
                  </a:lnTo>
                  <a:lnTo>
                    <a:pt x="5371" y="1600"/>
                  </a:lnTo>
                  <a:lnTo>
                    <a:pt x="5475" y="1456"/>
                  </a:lnTo>
                  <a:lnTo>
                    <a:pt x="5655" y="876"/>
                  </a:lnTo>
                  <a:lnTo>
                    <a:pt x="5507" y="836"/>
                  </a:lnTo>
                  <a:lnTo>
                    <a:pt x="5239" y="1244"/>
                  </a:lnTo>
                  <a:lnTo>
                    <a:pt x="5271" y="1516"/>
                  </a:lnTo>
                  <a:lnTo>
                    <a:pt x="4947" y="1344"/>
                  </a:lnTo>
                  <a:lnTo>
                    <a:pt x="4867" y="1476"/>
                  </a:lnTo>
                  <a:lnTo>
                    <a:pt x="4619" y="1528"/>
                  </a:lnTo>
                  <a:lnTo>
                    <a:pt x="4551" y="1472"/>
                  </a:lnTo>
                  <a:lnTo>
                    <a:pt x="4299" y="1616"/>
                  </a:lnTo>
                  <a:lnTo>
                    <a:pt x="4227" y="1680"/>
                  </a:lnTo>
                  <a:lnTo>
                    <a:pt x="4139" y="1676"/>
                  </a:lnTo>
                  <a:lnTo>
                    <a:pt x="4231" y="1564"/>
                  </a:lnTo>
                  <a:lnTo>
                    <a:pt x="4115" y="1460"/>
                  </a:lnTo>
                  <a:lnTo>
                    <a:pt x="4063" y="1728"/>
                  </a:lnTo>
                  <a:lnTo>
                    <a:pt x="3891" y="1812"/>
                  </a:lnTo>
                  <a:lnTo>
                    <a:pt x="3807" y="1928"/>
                  </a:lnTo>
                  <a:lnTo>
                    <a:pt x="3675" y="1948"/>
                  </a:lnTo>
                  <a:lnTo>
                    <a:pt x="3603" y="2036"/>
                  </a:lnTo>
                  <a:lnTo>
                    <a:pt x="3519" y="1936"/>
                  </a:lnTo>
                  <a:lnTo>
                    <a:pt x="3538" y="1754"/>
                  </a:lnTo>
                  <a:lnTo>
                    <a:pt x="3823" y="1808"/>
                  </a:lnTo>
                  <a:lnTo>
                    <a:pt x="3915" y="1612"/>
                  </a:lnTo>
                  <a:lnTo>
                    <a:pt x="3679" y="1336"/>
                  </a:lnTo>
                  <a:lnTo>
                    <a:pt x="3511" y="1324"/>
                  </a:lnTo>
                  <a:lnTo>
                    <a:pt x="3567" y="1212"/>
                  </a:lnTo>
                  <a:lnTo>
                    <a:pt x="3439" y="1164"/>
                  </a:lnTo>
                  <a:lnTo>
                    <a:pt x="2971" y="1340"/>
                  </a:lnTo>
                  <a:lnTo>
                    <a:pt x="2283" y="2036"/>
                  </a:lnTo>
                  <a:lnTo>
                    <a:pt x="2031" y="2228"/>
                  </a:lnTo>
                  <a:lnTo>
                    <a:pt x="1967" y="2552"/>
                  </a:lnTo>
                  <a:lnTo>
                    <a:pt x="2177" y="2525"/>
                  </a:lnTo>
                  <a:lnTo>
                    <a:pt x="2239" y="2756"/>
                  </a:lnTo>
                  <a:lnTo>
                    <a:pt x="2403" y="2728"/>
                  </a:lnTo>
                  <a:lnTo>
                    <a:pt x="2487" y="2556"/>
                  </a:lnTo>
                  <a:lnTo>
                    <a:pt x="2627" y="2464"/>
                  </a:lnTo>
                  <a:lnTo>
                    <a:pt x="2615" y="2192"/>
                  </a:lnTo>
                  <a:lnTo>
                    <a:pt x="2891" y="1992"/>
                  </a:lnTo>
                  <a:lnTo>
                    <a:pt x="3015" y="1824"/>
                  </a:lnTo>
                  <a:lnTo>
                    <a:pt x="3095" y="1860"/>
                  </a:lnTo>
                  <a:lnTo>
                    <a:pt x="3055" y="1964"/>
                  </a:lnTo>
                  <a:lnTo>
                    <a:pt x="2907" y="2072"/>
                  </a:lnTo>
                  <a:lnTo>
                    <a:pt x="2739" y="2440"/>
                  </a:lnTo>
                  <a:lnTo>
                    <a:pt x="3015" y="2432"/>
                  </a:lnTo>
                  <a:lnTo>
                    <a:pt x="3055" y="2504"/>
                  </a:lnTo>
                  <a:lnTo>
                    <a:pt x="2815" y="2520"/>
                  </a:lnTo>
                  <a:lnTo>
                    <a:pt x="2799" y="2636"/>
                  </a:lnTo>
                  <a:lnTo>
                    <a:pt x="2667" y="2652"/>
                  </a:lnTo>
                  <a:lnTo>
                    <a:pt x="2539" y="2888"/>
                  </a:lnTo>
                  <a:lnTo>
                    <a:pt x="2331" y="2892"/>
                  </a:lnTo>
                  <a:lnTo>
                    <a:pt x="2222" y="3024"/>
                  </a:lnTo>
                  <a:lnTo>
                    <a:pt x="2167" y="2936"/>
                  </a:lnTo>
                  <a:lnTo>
                    <a:pt x="2059" y="2896"/>
                  </a:lnTo>
                  <a:lnTo>
                    <a:pt x="2155" y="2676"/>
                  </a:lnTo>
                  <a:lnTo>
                    <a:pt x="2031" y="2712"/>
                  </a:lnTo>
                  <a:lnTo>
                    <a:pt x="1959" y="2948"/>
                  </a:lnTo>
                  <a:lnTo>
                    <a:pt x="1775" y="3056"/>
                  </a:lnTo>
                  <a:lnTo>
                    <a:pt x="1667" y="3184"/>
                  </a:lnTo>
                  <a:lnTo>
                    <a:pt x="1361" y="3297"/>
                  </a:lnTo>
                  <a:lnTo>
                    <a:pt x="1179" y="3380"/>
                  </a:lnTo>
                  <a:lnTo>
                    <a:pt x="1279" y="3544"/>
                  </a:lnTo>
                  <a:lnTo>
                    <a:pt x="1211" y="3744"/>
                  </a:lnTo>
                  <a:lnTo>
                    <a:pt x="919" y="3720"/>
                  </a:lnTo>
                  <a:lnTo>
                    <a:pt x="699" y="4100"/>
                  </a:lnTo>
                  <a:lnTo>
                    <a:pt x="847" y="4204"/>
                  </a:lnTo>
                  <a:lnTo>
                    <a:pt x="1159" y="4116"/>
                  </a:lnTo>
                  <a:lnTo>
                    <a:pt x="1247" y="3932"/>
                  </a:lnTo>
                  <a:lnTo>
                    <a:pt x="1443" y="3784"/>
                  </a:lnTo>
                  <a:lnTo>
                    <a:pt x="1739" y="3724"/>
                  </a:lnTo>
                  <a:lnTo>
                    <a:pt x="1919" y="3944"/>
                  </a:lnTo>
                  <a:lnTo>
                    <a:pt x="1847" y="4088"/>
                  </a:lnTo>
                  <a:lnTo>
                    <a:pt x="1983" y="4040"/>
                  </a:lnTo>
                  <a:lnTo>
                    <a:pt x="2071" y="3924"/>
                  </a:lnTo>
                  <a:lnTo>
                    <a:pt x="1943" y="3680"/>
                  </a:lnTo>
                  <a:lnTo>
                    <a:pt x="2191" y="3824"/>
                  </a:lnTo>
                  <a:lnTo>
                    <a:pt x="2151" y="4016"/>
                  </a:lnTo>
                  <a:lnTo>
                    <a:pt x="2259" y="4164"/>
                  </a:lnTo>
                  <a:lnTo>
                    <a:pt x="2395" y="4088"/>
                  </a:lnTo>
                  <a:lnTo>
                    <a:pt x="2347" y="3948"/>
                  </a:lnTo>
                  <a:lnTo>
                    <a:pt x="2419" y="3860"/>
                  </a:lnTo>
                  <a:lnTo>
                    <a:pt x="2491" y="3948"/>
                  </a:lnTo>
                  <a:lnTo>
                    <a:pt x="2483" y="4120"/>
                  </a:lnTo>
                  <a:lnTo>
                    <a:pt x="2583" y="4196"/>
                  </a:lnTo>
                  <a:lnTo>
                    <a:pt x="2879" y="4164"/>
                  </a:lnTo>
                  <a:lnTo>
                    <a:pt x="2783" y="4380"/>
                  </a:lnTo>
                  <a:lnTo>
                    <a:pt x="2611" y="4456"/>
                  </a:lnTo>
                  <a:lnTo>
                    <a:pt x="2519" y="4404"/>
                  </a:lnTo>
                  <a:lnTo>
                    <a:pt x="2415" y="4488"/>
                  </a:lnTo>
                  <a:lnTo>
                    <a:pt x="2055" y="4376"/>
                  </a:lnTo>
                  <a:lnTo>
                    <a:pt x="1971" y="4468"/>
                  </a:lnTo>
                  <a:lnTo>
                    <a:pt x="1615" y="4292"/>
                  </a:lnTo>
                  <a:lnTo>
                    <a:pt x="1663" y="4136"/>
                  </a:lnTo>
                  <a:lnTo>
                    <a:pt x="1295" y="4120"/>
                  </a:lnTo>
                  <a:lnTo>
                    <a:pt x="1139" y="4232"/>
                  </a:lnTo>
                  <a:lnTo>
                    <a:pt x="847" y="4224"/>
                  </a:lnTo>
                  <a:lnTo>
                    <a:pt x="619" y="43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332760" y="1822320"/>
              <a:ext cx="3012840" cy="4662720"/>
            </a:xfrm>
            <a:custGeom>
              <a:avLst/>
              <a:gdLst/>
              <a:ahLst/>
              <a:rect l="l" t="t" r="r" b="b"/>
              <a:pathLst>
                <a:path w="5467" h="8461">
                  <a:moveTo>
                    <a:pt x="1248" y="375"/>
                  </a:moveTo>
                  <a:lnTo>
                    <a:pt x="802" y="677"/>
                  </a:lnTo>
                  <a:lnTo>
                    <a:pt x="634" y="711"/>
                  </a:lnTo>
                  <a:lnTo>
                    <a:pt x="826" y="1008"/>
                  </a:lnTo>
                  <a:lnTo>
                    <a:pt x="725" y="1056"/>
                  </a:lnTo>
                  <a:lnTo>
                    <a:pt x="639" y="1027"/>
                  </a:lnTo>
                  <a:lnTo>
                    <a:pt x="442" y="1119"/>
                  </a:lnTo>
                  <a:lnTo>
                    <a:pt x="456" y="1219"/>
                  </a:lnTo>
                  <a:lnTo>
                    <a:pt x="730" y="1205"/>
                  </a:lnTo>
                  <a:lnTo>
                    <a:pt x="706" y="1325"/>
                  </a:lnTo>
                  <a:lnTo>
                    <a:pt x="528" y="1407"/>
                  </a:lnTo>
                  <a:lnTo>
                    <a:pt x="303" y="1719"/>
                  </a:lnTo>
                  <a:lnTo>
                    <a:pt x="533" y="1815"/>
                  </a:lnTo>
                  <a:lnTo>
                    <a:pt x="749" y="1834"/>
                  </a:lnTo>
                  <a:lnTo>
                    <a:pt x="667" y="1944"/>
                  </a:lnTo>
                  <a:lnTo>
                    <a:pt x="0" y="2266"/>
                  </a:lnTo>
                  <a:lnTo>
                    <a:pt x="144" y="2290"/>
                  </a:lnTo>
                  <a:lnTo>
                    <a:pt x="663" y="2069"/>
                  </a:lnTo>
                  <a:lnTo>
                    <a:pt x="1042" y="1690"/>
                  </a:lnTo>
                  <a:lnTo>
                    <a:pt x="1075" y="1771"/>
                  </a:lnTo>
                  <a:lnTo>
                    <a:pt x="1167" y="1767"/>
                  </a:lnTo>
                  <a:lnTo>
                    <a:pt x="1274" y="1601"/>
                  </a:lnTo>
                  <a:lnTo>
                    <a:pt x="1536" y="1714"/>
                  </a:lnTo>
                  <a:lnTo>
                    <a:pt x="1661" y="1877"/>
                  </a:lnTo>
                  <a:lnTo>
                    <a:pt x="1752" y="1829"/>
                  </a:lnTo>
                  <a:lnTo>
                    <a:pt x="1695" y="2021"/>
                  </a:lnTo>
                  <a:lnTo>
                    <a:pt x="1791" y="2199"/>
                  </a:lnTo>
                  <a:lnTo>
                    <a:pt x="1891" y="2223"/>
                  </a:lnTo>
                  <a:lnTo>
                    <a:pt x="1925" y="2501"/>
                  </a:lnTo>
                  <a:lnTo>
                    <a:pt x="1858" y="2563"/>
                  </a:lnTo>
                  <a:lnTo>
                    <a:pt x="2002" y="2703"/>
                  </a:lnTo>
                  <a:lnTo>
                    <a:pt x="1819" y="3216"/>
                  </a:lnTo>
                  <a:lnTo>
                    <a:pt x="1915" y="3615"/>
                  </a:lnTo>
                  <a:lnTo>
                    <a:pt x="2016" y="3687"/>
                  </a:lnTo>
                  <a:lnTo>
                    <a:pt x="2088" y="4056"/>
                  </a:lnTo>
                  <a:lnTo>
                    <a:pt x="2199" y="4152"/>
                  </a:lnTo>
                  <a:lnTo>
                    <a:pt x="2155" y="3720"/>
                  </a:lnTo>
                  <a:lnTo>
                    <a:pt x="2256" y="4013"/>
                  </a:lnTo>
                  <a:lnTo>
                    <a:pt x="2357" y="4229"/>
                  </a:lnTo>
                  <a:lnTo>
                    <a:pt x="2323" y="4359"/>
                  </a:lnTo>
                  <a:lnTo>
                    <a:pt x="2535" y="4512"/>
                  </a:lnTo>
                  <a:lnTo>
                    <a:pt x="2827" y="4546"/>
                  </a:lnTo>
                  <a:lnTo>
                    <a:pt x="2919" y="4695"/>
                  </a:lnTo>
                  <a:lnTo>
                    <a:pt x="3024" y="4690"/>
                  </a:lnTo>
                  <a:lnTo>
                    <a:pt x="3134" y="4867"/>
                  </a:lnTo>
                  <a:lnTo>
                    <a:pt x="3250" y="4968"/>
                  </a:lnTo>
                  <a:lnTo>
                    <a:pt x="3375" y="4901"/>
                  </a:lnTo>
                  <a:lnTo>
                    <a:pt x="3427" y="5026"/>
                  </a:lnTo>
                  <a:lnTo>
                    <a:pt x="3370" y="5208"/>
                  </a:lnTo>
                  <a:lnTo>
                    <a:pt x="3168" y="5343"/>
                  </a:lnTo>
                  <a:lnTo>
                    <a:pt x="3015" y="5621"/>
                  </a:lnTo>
                  <a:lnTo>
                    <a:pt x="3120" y="5765"/>
                  </a:lnTo>
                  <a:lnTo>
                    <a:pt x="3159" y="6082"/>
                  </a:lnTo>
                  <a:lnTo>
                    <a:pt x="3360" y="6255"/>
                  </a:lnTo>
                  <a:lnTo>
                    <a:pt x="3197" y="6643"/>
                  </a:lnTo>
                  <a:lnTo>
                    <a:pt x="2847" y="7210"/>
                  </a:lnTo>
                  <a:lnTo>
                    <a:pt x="2661" y="7765"/>
                  </a:lnTo>
                  <a:lnTo>
                    <a:pt x="2445" y="8181"/>
                  </a:lnTo>
                  <a:lnTo>
                    <a:pt x="2653" y="8461"/>
                  </a:lnTo>
                  <a:lnTo>
                    <a:pt x="2885" y="8445"/>
                  </a:lnTo>
                  <a:lnTo>
                    <a:pt x="2693" y="8301"/>
                  </a:lnTo>
                  <a:lnTo>
                    <a:pt x="2781" y="8237"/>
                  </a:lnTo>
                  <a:lnTo>
                    <a:pt x="2789" y="8053"/>
                  </a:lnTo>
                  <a:lnTo>
                    <a:pt x="3013" y="7885"/>
                  </a:lnTo>
                  <a:lnTo>
                    <a:pt x="2973" y="7733"/>
                  </a:lnTo>
                  <a:lnTo>
                    <a:pt x="3133" y="7637"/>
                  </a:lnTo>
                  <a:lnTo>
                    <a:pt x="3205" y="7469"/>
                  </a:lnTo>
                  <a:lnTo>
                    <a:pt x="3293" y="7477"/>
                  </a:lnTo>
                  <a:lnTo>
                    <a:pt x="3357" y="7325"/>
                  </a:lnTo>
                  <a:lnTo>
                    <a:pt x="3621" y="7237"/>
                  </a:lnTo>
                  <a:lnTo>
                    <a:pt x="3701" y="7077"/>
                  </a:lnTo>
                  <a:lnTo>
                    <a:pt x="3813" y="7061"/>
                  </a:lnTo>
                  <a:lnTo>
                    <a:pt x="4173" y="6837"/>
                  </a:lnTo>
                  <a:lnTo>
                    <a:pt x="4277" y="6597"/>
                  </a:lnTo>
                  <a:lnTo>
                    <a:pt x="4485" y="6453"/>
                  </a:lnTo>
                  <a:lnTo>
                    <a:pt x="4645" y="6477"/>
                  </a:lnTo>
                  <a:lnTo>
                    <a:pt x="4861" y="6245"/>
                  </a:lnTo>
                  <a:lnTo>
                    <a:pt x="4941" y="6029"/>
                  </a:lnTo>
                  <a:lnTo>
                    <a:pt x="5189" y="5805"/>
                  </a:lnTo>
                  <a:lnTo>
                    <a:pt x="5229" y="5645"/>
                  </a:lnTo>
                  <a:lnTo>
                    <a:pt x="5165" y="5653"/>
                  </a:lnTo>
                  <a:lnTo>
                    <a:pt x="5101" y="5501"/>
                  </a:lnTo>
                  <a:lnTo>
                    <a:pt x="4837" y="5509"/>
                  </a:lnTo>
                  <a:lnTo>
                    <a:pt x="4813" y="5429"/>
                  </a:lnTo>
                  <a:lnTo>
                    <a:pt x="4613" y="5341"/>
                  </a:lnTo>
                  <a:lnTo>
                    <a:pt x="4613" y="5101"/>
                  </a:lnTo>
                  <a:lnTo>
                    <a:pt x="4277" y="4867"/>
                  </a:lnTo>
                  <a:lnTo>
                    <a:pt x="4075" y="4839"/>
                  </a:lnTo>
                  <a:lnTo>
                    <a:pt x="3859" y="4757"/>
                  </a:lnTo>
                  <a:lnTo>
                    <a:pt x="3653" y="4781"/>
                  </a:lnTo>
                  <a:lnTo>
                    <a:pt x="3499" y="4858"/>
                  </a:lnTo>
                  <a:lnTo>
                    <a:pt x="3288" y="4824"/>
                  </a:lnTo>
                  <a:lnTo>
                    <a:pt x="3317" y="4551"/>
                  </a:lnTo>
                  <a:lnTo>
                    <a:pt x="3019" y="4541"/>
                  </a:lnTo>
                  <a:lnTo>
                    <a:pt x="3255" y="4306"/>
                  </a:lnTo>
                  <a:lnTo>
                    <a:pt x="3101" y="4277"/>
                  </a:lnTo>
                  <a:lnTo>
                    <a:pt x="2885" y="4435"/>
                  </a:lnTo>
                  <a:lnTo>
                    <a:pt x="2727" y="4248"/>
                  </a:lnTo>
                  <a:lnTo>
                    <a:pt x="2947" y="3888"/>
                  </a:lnTo>
                  <a:lnTo>
                    <a:pt x="3471" y="3826"/>
                  </a:lnTo>
                  <a:lnTo>
                    <a:pt x="3533" y="3883"/>
                  </a:lnTo>
                  <a:lnTo>
                    <a:pt x="3552" y="4109"/>
                  </a:lnTo>
                  <a:lnTo>
                    <a:pt x="3663" y="4027"/>
                  </a:lnTo>
                  <a:lnTo>
                    <a:pt x="3653" y="3783"/>
                  </a:lnTo>
                  <a:lnTo>
                    <a:pt x="3898" y="3591"/>
                  </a:lnTo>
                  <a:lnTo>
                    <a:pt x="3960" y="3605"/>
                  </a:lnTo>
                  <a:lnTo>
                    <a:pt x="4090" y="3384"/>
                  </a:lnTo>
                  <a:lnTo>
                    <a:pt x="4245" y="3213"/>
                  </a:lnTo>
                  <a:lnTo>
                    <a:pt x="4397" y="3197"/>
                  </a:lnTo>
                  <a:lnTo>
                    <a:pt x="4421" y="3037"/>
                  </a:lnTo>
                  <a:lnTo>
                    <a:pt x="4669" y="2941"/>
                  </a:lnTo>
                  <a:lnTo>
                    <a:pt x="4605" y="3069"/>
                  </a:lnTo>
                  <a:lnTo>
                    <a:pt x="4757" y="2949"/>
                  </a:lnTo>
                  <a:lnTo>
                    <a:pt x="4925" y="2893"/>
                  </a:lnTo>
                  <a:lnTo>
                    <a:pt x="4781" y="2827"/>
                  </a:lnTo>
                  <a:lnTo>
                    <a:pt x="4834" y="2674"/>
                  </a:lnTo>
                  <a:lnTo>
                    <a:pt x="4743" y="2645"/>
                  </a:lnTo>
                  <a:lnTo>
                    <a:pt x="4853" y="2563"/>
                  </a:lnTo>
                  <a:lnTo>
                    <a:pt x="5050" y="2587"/>
                  </a:lnTo>
                  <a:lnTo>
                    <a:pt x="5155" y="2544"/>
                  </a:lnTo>
                  <a:lnTo>
                    <a:pt x="5079" y="2760"/>
                  </a:lnTo>
                  <a:lnTo>
                    <a:pt x="5304" y="2880"/>
                  </a:lnTo>
                  <a:lnTo>
                    <a:pt x="5357" y="2659"/>
                  </a:lnTo>
                  <a:lnTo>
                    <a:pt x="5242" y="2635"/>
                  </a:lnTo>
                  <a:lnTo>
                    <a:pt x="5242" y="2563"/>
                  </a:lnTo>
                  <a:lnTo>
                    <a:pt x="5333" y="2477"/>
                  </a:lnTo>
                  <a:lnTo>
                    <a:pt x="5309" y="2232"/>
                  </a:lnTo>
                  <a:lnTo>
                    <a:pt x="5170" y="2203"/>
                  </a:lnTo>
                  <a:lnTo>
                    <a:pt x="5122" y="2079"/>
                  </a:lnTo>
                  <a:lnTo>
                    <a:pt x="5203" y="1968"/>
                  </a:lnTo>
                  <a:lnTo>
                    <a:pt x="5122" y="1757"/>
                  </a:lnTo>
                  <a:lnTo>
                    <a:pt x="4973" y="1906"/>
                  </a:lnTo>
                  <a:lnTo>
                    <a:pt x="4848" y="1839"/>
                  </a:lnTo>
                  <a:lnTo>
                    <a:pt x="4935" y="1675"/>
                  </a:lnTo>
                  <a:lnTo>
                    <a:pt x="4771" y="1575"/>
                  </a:lnTo>
                  <a:lnTo>
                    <a:pt x="4541" y="1575"/>
                  </a:lnTo>
                  <a:lnTo>
                    <a:pt x="4368" y="1911"/>
                  </a:lnTo>
                  <a:lnTo>
                    <a:pt x="4498" y="2141"/>
                  </a:lnTo>
                  <a:lnTo>
                    <a:pt x="4267" y="2223"/>
                  </a:lnTo>
                  <a:lnTo>
                    <a:pt x="4277" y="2424"/>
                  </a:lnTo>
                  <a:lnTo>
                    <a:pt x="4186" y="2487"/>
                  </a:lnTo>
                  <a:lnTo>
                    <a:pt x="4128" y="2362"/>
                  </a:lnTo>
                  <a:lnTo>
                    <a:pt x="4162" y="2208"/>
                  </a:lnTo>
                  <a:lnTo>
                    <a:pt x="3888" y="2040"/>
                  </a:lnTo>
                  <a:lnTo>
                    <a:pt x="3696" y="2026"/>
                  </a:lnTo>
                  <a:lnTo>
                    <a:pt x="3749" y="1882"/>
                  </a:lnTo>
                  <a:lnTo>
                    <a:pt x="3653" y="1843"/>
                  </a:lnTo>
                  <a:lnTo>
                    <a:pt x="4080" y="1349"/>
                  </a:lnTo>
                  <a:lnTo>
                    <a:pt x="4215" y="1296"/>
                  </a:lnTo>
                  <a:lnTo>
                    <a:pt x="4234" y="1435"/>
                  </a:lnTo>
                  <a:lnTo>
                    <a:pt x="4315" y="1402"/>
                  </a:lnTo>
                  <a:lnTo>
                    <a:pt x="4474" y="1416"/>
                  </a:lnTo>
                  <a:lnTo>
                    <a:pt x="4325" y="1128"/>
                  </a:lnTo>
                  <a:lnTo>
                    <a:pt x="4575" y="1042"/>
                  </a:lnTo>
                  <a:lnTo>
                    <a:pt x="4656" y="811"/>
                  </a:lnTo>
                  <a:lnTo>
                    <a:pt x="4575" y="624"/>
                  </a:lnTo>
                  <a:lnTo>
                    <a:pt x="4795" y="595"/>
                  </a:lnTo>
                  <a:lnTo>
                    <a:pt x="5112" y="979"/>
                  </a:lnTo>
                  <a:lnTo>
                    <a:pt x="4901" y="1090"/>
                  </a:lnTo>
                  <a:lnTo>
                    <a:pt x="4887" y="1205"/>
                  </a:lnTo>
                  <a:lnTo>
                    <a:pt x="4656" y="1229"/>
                  </a:lnTo>
                  <a:lnTo>
                    <a:pt x="4603" y="1320"/>
                  </a:lnTo>
                  <a:lnTo>
                    <a:pt x="4867" y="1330"/>
                  </a:lnTo>
                  <a:lnTo>
                    <a:pt x="4935" y="1459"/>
                  </a:lnTo>
                  <a:lnTo>
                    <a:pt x="5127" y="1627"/>
                  </a:lnTo>
                  <a:lnTo>
                    <a:pt x="5165" y="1507"/>
                  </a:lnTo>
                  <a:lnTo>
                    <a:pt x="5290" y="1426"/>
                  </a:lnTo>
                  <a:lnTo>
                    <a:pt x="5155" y="1167"/>
                  </a:lnTo>
                  <a:lnTo>
                    <a:pt x="5223" y="1138"/>
                  </a:lnTo>
                  <a:lnTo>
                    <a:pt x="5362" y="1239"/>
                  </a:lnTo>
                  <a:lnTo>
                    <a:pt x="5467" y="1066"/>
                  </a:lnTo>
                  <a:lnTo>
                    <a:pt x="5247" y="874"/>
                  </a:lnTo>
                  <a:lnTo>
                    <a:pt x="5391" y="768"/>
                  </a:lnTo>
                  <a:lnTo>
                    <a:pt x="5357" y="706"/>
                  </a:lnTo>
                  <a:lnTo>
                    <a:pt x="5391" y="595"/>
                  </a:lnTo>
                  <a:lnTo>
                    <a:pt x="5328" y="504"/>
                  </a:lnTo>
                  <a:lnTo>
                    <a:pt x="5247" y="519"/>
                  </a:lnTo>
                  <a:lnTo>
                    <a:pt x="5266" y="365"/>
                  </a:lnTo>
                  <a:lnTo>
                    <a:pt x="5127" y="447"/>
                  </a:lnTo>
                  <a:lnTo>
                    <a:pt x="5083" y="87"/>
                  </a:lnTo>
                  <a:lnTo>
                    <a:pt x="4776" y="91"/>
                  </a:lnTo>
                  <a:lnTo>
                    <a:pt x="4623" y="39"/>
                  </a:lnTo>
                  <a:lnTo>
                    <a:pt x="4397" y="298"/>
                  </a:lnTo>
                  <a:lnTo>
                    <a:pt x="4363" y="528"/>
                  </a:lnTo>
                  <a:lnTo>
                    <a:pt x="4527" y="715"/>
                  </a:lnTo>
                  <a:lnTo>
                    <a:pt x="4392" y="903"/>
                  </a:lnTo>
                  <a:lnTo>
                    <a:pt x="4363" y="754"/>
                  </a:lnTo>
                  <a:lnTo>
                    <a:pt x="4191" y="639"/>
                  </a:lnTo>
                  <a:lnTo>
                    <a:pt x="4258" y="451"/>
                  </a:lnTo>
                  <a:lnTo>
                    <a:pt x="4195" y="355"/>
                  </a:lnTo>
                  <a:lnTo>
                    <a:pt x="4479" y="91"/>
                  </a:lnTo>
                  <a:lnTo>
                    <a:pt x="4272" y="0"/>
                  </a:lnTo>
                  <a:lnTo>
                    <a:pt x="4152" y="211"/>
                  </a:lnTo>
                  <a:lnTo>
                    <a:pt x="4037" y="490"/>
                  </a:lnTo>
                  <a:lnTo>
                    <a:pt x="4027" y="610"/>
                  </a:lnTo>
                  <a:lnTo>
                    <a:pt x="3989" y="888"/>
                  </a:lnTo>
                  <a:lnTo>
                    <a:pt x="3917" y="845"/>
                  </a:lnTo>
                  <a:lnTo>
                    <a:pt x="3946" y="759"/>
                  </a:lnTo>
                  <a:lnTo>
                    <a:pt x="3885" y="653"/>
                  </a:lnTo>
                  <a:lnTo>
                    <a:pt x="3797" y="725"/>
                  </a:lnTo>
                  <a:lnTo>
                    <a:pt x="3877" y="869"/>
                  </a:lnTo>
                  <a:lnTo>
                    <a:pt x="3797" y="925"/>
                  </a:lnTo>
                  <a:lnTo>
                    <a:pt x="3533" y="837"/>
                  </a:lnTo>
                  <a:lnTo>
                    <a:pt x="3493" y="781"/>
                  </a:lnTo>
                  <a:lnTo>
                    <a:pt x="3373" y="813"/>
                  </a:lnTo>
                  <a:lnTo>
                    <a:pt x="3336" y="965"/>
                  </a:lnTo>
                  <a:lnTo>
                    <a:pt x="3237" y="893"/>
                  </a:lnTo>
                  <a:lnTo>
                    <a:pt x="3141" y="949"/>
                  </a:lnTo>
                  <a:lnTo>
                    <a:pt x="3013" y="901"/>
                  </a:lnTo>
                  <a:lnTo>
                    <a:pt x="3029" y="773"/>
                  </a:lnTo>
                  <a:lnTo>
                    <a:pt x="2741" y="637"/>
                  </a:lnTo>
                  <a:lnTo>
                    <a:pt x="2573" y="653"/>
                  </a:lnTo>
                  <a:lnTo>
                    <a:pt x="2496" y="562"/>
                  </a:lnTo>
                  <a:lnTo>
                    <a:pt x="2074" y="720"/>
                  </a:lnTo>
                  <a:lnTo>
                    <a:pt x="1954" y="648"/>
                  </a:lnTo>
                  <a:lnTo>
                    <a:pt x="1723" y="533"/>
                  </a:lnTo>
                  <a:lnTo>
                    <a:pt x="1435" y="509"/>
                  </a:lnTo>
                  <a:lnTo>
                    <a:pt x="1248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4723560" y="3037320"/>
            <a:ext cx="1753920" cy="1587240"/>
            <a:chOff x="4723560" y="3037320"/>
            <a:chExt cx="1753920" cy="1587240"/>
          </a:xfrm>
        </p:grpSpPr>
        <p:sp>
          <p:nvSpPr>
            <p:cNvPr id="966" name=""/>
            <p:cNvSpPr/>
            <p:nvPr/>
          </p:nvSpPr>
          <p:spPr>
            <a:xfrm>
              <a:off x="4996080" y="3227400"/>
              <a:ext cx="1208520" cy="120924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255280" y="3486240"/>
              <a:ext cx="690480" cy="690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1800000">
              <a:off x="4736880" y="3571560"/>
              <a:ext cx="1726560" cy="51804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18900000">
              <a:off x="4737240" y="3571560"/>
              <a:ext cx="1726560" cy="51804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1136520" y="1413000"/>
            <a:ext cx="1440000" cy="1268280"/>
            <a:chOff x="1136520" y="1413000"/>
            <a:chExt cx="1440000" cy="1268280"/>
          </a:xfrm>
        </p:grpSpPr>
        <p:sp>
          <p:nvSpPr>
            <p:cNvPr id="971" name=""/>
            <p:cNvSpPr/>
            <p:nvPr/>
          </p:nvSpPr>
          <p:spPr>
            <a:xfrm>
              <a:off x="1136520" y="1413000"/>
              <a:ext cx="1440000" cy="126828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204200" y="1618200"/>
              <a:ext cx="1302480" cy="9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204200" y="2543760"/>
              <a:ext cx="1302480" cy="68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204200" y="1549080"/>
              <a:ext cx="1302480" cy="67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1352520" y="4653000"/>
            <a:ext cx="1440000" cy="1268280"/>
            <a:chOff x="1352520" y="4653000"/>
            <a:chExt cx="1440000" cy="1268280"/>
          </a:xfrm>
        </p:grpSpPr>
        <p:sp>
          <p:nvSpPr>
            <p:cNvPr id="976" name=""/>
            <p:cNvSpPr/>
            <p:nvPr/>
          </p:nvSpPr>
          <p:spPr>
            <a:xfrm>
              <a:off x="1352520" y="4653000"/>
              <a:ext cx="1440000" cy="126828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420200" y="4858200"/>
              <a:ext cx="1302480" cy="9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20200" y="5783760"/>
              <a:ext cx="1302480" cy="68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20200" y="4789080"/>
              <a:ext cx="1302480" cy="67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3440160" y="1989000"/>
            <a:ext cx="1439640" cy="1268640"/>
            <a:chOff x="3440160" y="1989000"/>
            <a:chExt cx="1439640" cy="1268640"/>
          </a:xfrm>
        </p:grpSpPr>
        <p:sp>
          <p:nvSpPr>
            <p:cNvPr id="981" name=""/>
            <p:cNvSpPr/>
            <p:nvPr/>
          </p:nvSpPr>
          <p:spPr>
            <a:xfrm>
              <a:off x="3440160" y="1989000"/>
              <a:ext cx="1439640" cy="126864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507840" y="2194200"/>
              <a:ext cx="1302120" cy="9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07840" y="3120120"/>
              <a:ext cx="1302120" cy="68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507840" y="2125080"/>
              <a:ext cx="1302120" cy="67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7689960" y="1557360"/>
            <a:ext cx="1439640" cy="1268280"/>
            <a:chOff x="7689960" y="1557360"/>
            <a:chExt cx="1439640" cy="1268280"/>
          </a:xfrm>
        </p:grpSpPr>
        <p:sp>
          <p:nvSpPr>
            <p:cNvPr id="986" name=""/>
            <p:cNvSpPr/>
            <p:nvPr/>
          </p:nvSpPr>
          <p:spPr>
            <a:xfrm>
              <a:off x="7689960" y="1557360"/>
              <a:ext cx="1439640" cy="126828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757640" y="1762560"/>
              <a:ext cx="1302120" cy="9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757640" y="2688120"/>
              <a:ext cx="1302120" cy="68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757640" y="1693440"/>
              <a:ext cx="1302120" cy="67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6824520" y="4724280"/>
            <a:ext cx="1440000" cy="1268640"/>
            <a:chOff x="6824520" y="4724280"/>
            <a:chExt cx="1440000" cy="1268640"/>
          </a:xfrm>
        </p:grpSpPr>
        <p:sp>
          <p:nvSpPr>
            <p:cNvPr id="991" name=""/>
            <p:cNvSpPr/>
            <p:nvPr/>
          </p:nvSpPr>
          <p:spPr>
            <a:xfrm>
              <a:off x="6824520" y="4724280"/>
              <a:ext cx="1440000" cy="126864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892200" y="4929480"/>
              <a:ext cx="1302480" cy="9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892200" y="5855400"/>
              <a:ext cx="1302480" cy="68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892200" y="4860360"/>
              <a:ext cx="1302480" cy="67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808520" y="1017720"/>
            <a:ext cx="3313080" cy="2698560"/>
          </a:xfrm>
          <a:custGeom>
            <a:avLst/>
            <a:gdLst/>
            <a:ahLst/>
            <a:rect l="l" t="t" r="r" b="b"/>
            <a:pathLst>
              <a:path w="2087" h="1700">
                <a:moveTo>
                  <a:pt x="0" y="1700"/>
                </a:moveTo>
                <a:cubicBezTo>
                  <a:pt x="279" y="918"/>
                  <a:pt x="559" y="136"/>
                  <a:pt x="907" y="68"/>
                </a:cubicBezTo>
                <a:cubicBezTo>
                  <a:pt x="1255" y="0"/>
                  <a:pt x="1671" y="646"/>
                  <a:pt x="2087" y="1292"/>
                </a:cubicBezTo>
              </a:path>
            </a:pathLst>
          </a:custGeom>
          <a:noFill/>
          <a:ln w="38160">
            <a:solidFill>
              <a:srgbClr val="ff66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08520" y="2144880"/>
            <a:ext cx="3816360" cy="2796840"/>
          </a:xfrm>
          <a:custGeom>
            <a:avLst/>
            <a:gdLst/>
            <a:ahLst/>
            <a:rect l="l" t="t" r="r" b="b"/>
            <a:pathLst>
              <a:path w="2404" h="1762">
                <a:moveTo>
                  <a:pt x="0" y="990"/>
                </a:moveTo>
                <a:cubicBezTo>
                  <a:pt x="321" y="495"/>
                  <a:pt x="643" y="0"/>
                  <a:pt x="1044" y="129"/>
                </a:cubicBezTo>
                <a:cubicBezTo>
                  <a:pt x="1445" y="258"/>
                  <a:pt x="1924" y="1010"/>
                  <a:pt x="2404" y="1762"/>
                </a:cubicBezTo>
              </a:path>
            </a:pathLst>
          </a:custGeom>
          <a:noFill/>
          <a:ln w="38160">
            <a:solidFill>
              <a:srgbClr val="ff66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016520" y="2757600"/>
            <a:ext cx="792000" cy="958680"/>
          </a:xfrm>
          <a:custGeom>
            <a:avLst/>
            <a:gdLst/>
            <a:ahLst/>
            <a:rect l="l" t="t" r="r" b="b"/>
            <a:pathLst>
              <a:path w="499" h="604">
                <a:moveTo>
                  <a:pt x="499" y="604"/>
                </a:moveTo>
                <a:cubicBezTo>
                  <a:pt x="427" y="317"/>
                  <a:pt x="355" y="30"/>
                  <a:pt x="272" y="15"/>
                </a:cubicBezTo>
                <a:cubicBezTo>
                  <a:pt x="189" y="0"/>
                  <a:pt x="94" y="257"/>
                  <a:pt x="0" y="514"/>
                </a:cubicBezTo>
              </a:path>
            </a:pathLst>
          </a:custGeom>
          <a:noFill/>
          <a:ln w="38160">
            <a:solidFill>
              <a:srgbClr val="ff66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928880" y="1893960"/>
            <a:ext cx="2879640" cy="1822320"/>
          </a:xfrm>
          <a:custGeom>
            <a:avLst/>
            <a:gdLst/>
            <a:ahLst/>
            <a:rect l="l" t="t" r="r" b="b"/>
            <a:pathLst>
              <a:path w="1814" h="1148">
                <a:moveTo>
                  <a:pt x="1814" y="1148"/>
                </a:moveTo>
                <a:cubicBezTo>
                  <a:pt x="1466" y="634"/>
                  <a:pt x="1118" y="120"/>
                  <a:pt x="816" y="60"/>
                </a:cubicBezTo>
                <a:cubicBezTo>
                  <a:pt x="514" y="0"/>
                  <a:pt x="257" y="393"/>
                  <a:pt x="0" y="786"/>
                </a:cubicBezTo>
              </a:path>
            </a:pathLst>
          </a:custGeom>
          <a:noFill/>
          <a:ln w="38160">
            <a:solidFill>
              <a:srgbClr val="ff66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639800" y="2649600"/>
            <a:ext cx="3097440" cy="1859040"/>
          </a:xfrm>
          <a:custGeom>
            <a:avLst/>
            <a:gdLst/>
            <a:ahLst/>
            <a:rect l="l" t="t" r="r" b="b"/>
            <a:pathLst>
              <a:path w="1951" h="1171">
                <a:moveTo>
                  <a:pt x="1951" y="672"/>
                </a:moveTo>
                <a:cubicBezTo>
                  <a:pt x="1569" y="336"/>
                  <a:pt x="1187" y="0"/>
                  <a:pt x="862" y="83"/>
                </a:cubicBezTo>
                <a:cubicBezTo>
                  <a:pt x="537" y="166"/>
                  <a:pt x="268" y="668"/>
                  <a:pt x="0" y="1171"/>
                </a:cubicBezTo>
              </a:path>
            </a:pathLst>
          </a:custGeom>
          <a:noFill/>
          <a:ln w="38160">
            <a:solidFill>
              <a:srgbClr val="ff66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510640" y="6453360"/>
            <a:ext cx="44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システム図は何かを意図して制作したものではありません。使い方のご参考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415800" y="836640"/>
            <a:ext cx="9074160" cy="5688000"/>
          </a:xfrm>
          <a:prstGeom prst="roundRect">
            <a:avLst>
              <a:gd name="adj" fmla="val 3264"/>
            </a:avLst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248520" y="1268280"/>
            <a:ext cx="3025800" cy="4969080"/>
          </a:xfrm>
          <a:prstGeom prst="ellips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73240" y="3860640"/>
            <a:ext cx="44640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システム構成図サンプル９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329600" y="1197000"/>
            <a:ext cx="360360" cy="1405080"/>
            <a:chOff x="7329600" y="1197000"/>
            <a:chExt cx="360360" cy="1405080"/>
          </a:xfrm>
        </p:grpSpPr>
        <p:sp>
          <p:nvSpPr>
            <p:cNvPr id="1006" name=""/>
            <p:cNvSpPr/>
            <p:nvPr/>
          </p:nvSpPr>
          <p:spPr>
            <a:xfrm>
              <a:off x="7329600" y="1197000"/>
              <a:ext cx="360360" cy="1403640"/>
            </a:xfrm>
            <a:custGeom>
              <a:avLst/>
              <a:gdLst/>
              <a:ahLst/>
              <a:rect l="l" t="t" r="r" b="b"/>
              <a:pathLst>
                <a:path w="227" h="884">
                  <a:moveTo>
                    <a:pt x="227" y="431"/>
                  </a:moveTo>
                  <a:lnTo>
                    <a:pt x="204" y="431"/>
                  </a:lnTo>
                  <a:lnTo>
                    <a:pt x="204" y="454"/>
                  </a:lnTo>
                  <a:lnTo>
                    <a:pt x="227" y="454"/>
                  </a:lnTo>
                  <a:lnTo>
                    <a:pt x="227" y="884"/>
                  </a:lnTo>
                  <a:lnTo>
                    <a:pt x="0" y="884"/>
                  </a:lnTo>
                  <a:lnTo>
                    <a:pt x="0" y="454"/>
                  </a:lnTo>
                  <a:lnTo>
                    <a:pt x="23" y="454"/>
                  </a:lnTo>
                  <a:lnTo>
                    <a:pt x="23" y="431"/>
                  </a:lnTo>
                  <a:lnTo>
                    <a:pt x="0" y="431"/>
                  </a:lnTo>
                  <a:lnTo>
                    <a:pt x="0" y="0"/>
                  </a:lnTo>
                  <a:lnTo>
                    <a:pt x="227" y="0"/>
                  </a:lnTo>
                  <a:lnTo>
                    <a:pt x="227" y="431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7329600" y="1197000"/>
              <a:ext cx="360360" cy="1405080"/>
              <a:chOff x="7329600" y="1197000"/>
              <a:chExt cx="360360" cy="1405080"/>
            </a:xfrm>
          </p:grpSpPr>
          <p:sp>
            <p:nvSpPr>
              <p:cNvPr id="1008" name=""/>
              <p:cNvSpPr/>
              <p:nvPr/>
            </p:nvSpPr>
            <p:spPr>
              <a:xfrm>
                <a:off x="7329600" y="1197000"/>
                <a:ext cx="360360" cy="684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365960" y="1881360"/>
                <a:ext cx="287280" cy="36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329600" y="1917720"/>
                <a:ext cx="360360" cy="684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329600" y="2565720"/>
                <a:ext cx="36036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329600" y="1233720"/>
                <a:ext cx="360360" cy="611280"/>
              </a:xfrm>
              <a:prstGeom prst="rect">
                <a:avLst/>
              </a:prstGeom>
              <a:gradFill rotWithShape="0">
                <a:gsLst>
                  <a:gs pos="0">
                    <a:srgbClr val="171717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365960" y="1268640"/>
                <a:ext cx="287280" cy="539640"/>
              </a:xfrm>
              <a:prstGeom prst="rect">
                <a:avLst/>
              </a:prstGeom>
              <a:gradFill rotWithShape="0">
                <a:gsLst>
                  <a:gs pos="0">
                    <a:srgbClr val="66ccff"/>
                  </a:gs>
                  <a:gs pos="50000">
                    <a:srgbClr val="bbe0e3"/>
                  </a:gs>
                  <a:gs pos="100000">
                    <a:srgbClr val="66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365960" y="2457720"/>
                <a:ext cx="7128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73960" y="2457720"/>
                <a:ext cx="7128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581960" y="2457720"/>
                <a:ext cx="7128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365960" y="2384640"/>
                <a:ext cx="7128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73960" y="2384640"/>
                <a:ext cx="7128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581960" y="2384640"/>
                <a:ext cx="7128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365960" y="2313360"/>
                <a:ext cx="7128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73960" y="2313360"/>
                <a:ext cx="7128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581960" y="2313360"/>
                <a:ext cx="71280" cy="363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365960" y="2241720"/>
                <a:ext cx="7128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73960" y="2241720"/>
                <a:ext cx="7128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581960" y="2241720"/>
                <a:ext cx="7128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365960" y="2168640"/>
                <a:ext cx="7128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73960" y="2168640"/>
                <a:ext cx="7128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581960" y="2168640"/>
                <a:ext cx="71280" cy="367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37240" y="1953000"/>
                <a:ext cx="144720" cy="14436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0" name=""/>
          <p:cNvGrpSpPr/>
          <p:nvPr/>
        </p:nvGrpSpPr>
        <p:grpSpPr>
          <a:xfrm>
            <a:off x="8265960" y="2492280"/>
            <a:ext cx="610920" cy="1008000"/>
            <a:chOff x="8265960" y="2492280"/>
            <a:chExt cx="610920" cy="1008000"/>
          </a:xfrm>
        </p:grpSpPr>
        <p:sp>
          <p:nvSpPr>
            <p:cNvPr id="1031" name=""/>
            <p:cNvSpPr/>
            <p:nvPr/>
          </p:nvSpPr>
          <p:spPr>
            <a:xfrm>
              <a:off x="8265960" y="2492280"/>
              <a:ext cx="610920" cy="100800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2" name=""/>
            <p:cNvGrpSpPr/>
            <p:nvPr/>
          </p:nvGrpSpPr>
          <p:grpSpPr>
            <a:xfrm>
              <a:off x="8265960" y="2492280"/>
              <a:ext cx="610920" cy="1008000"/>
              <a:chOff x="8265960" y="2492280"/>
              <a:chExt cx="610920" cy="1008000"/>
            </a:xfrm>
          </p:grpSpPr>
          <p:sp>
            <p:nvSpPr>
              <p:cNvPr id="1033" name=""/>
              <p:cNvSpPr/>
              <p:nvPr/>
            </p:nvSpPr>
            <p:spPr>
              <a:xfrm>
                <a:off x="8265960" y="2492280"/>
                <a:ext cx="610920" cy="1008000"/>
              </a:xfrm>
              <a:prstGeom prst="rect">
                <a:avLst/>
              </a:prstGeom>
              <a:gradFill rotWithShape="0">
                <a:gsLst>
                  <a:gs pos="0">
                    <a:srgbClr val="3b3b3b"/>
                  </a:gs>
                  <a:gs pos="50000">
                    <a:srgbClr val="808080"/>
                  </a:gs>
                  <a:gs pos="100000">
                    <a:srgbClr val="3b3b3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300880" y="2563560"/>
                <a:ext cx="541080" cy="756720"/>
              </a:xfrm>
              <a:prstGeom prst="rect">
                <a:avLst/>
              </a:prstGeom>
              <a:gradFill rotWithShape="0">
                <a:gsLst>
                  <a:gs pos="0">
                    <a:srgbClr val="171717"/>
                  </a:gs>
                  <a:gs pos="100000">
                    <a:srgbClr val="3333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337240" y="2599920"/>
                <a:ext cx="468360" cy="684000"/>
              </a:xfrm>
              <a:prstGeom prst="rect">
                <a:avLst/>
              </a:prstGeom>
              <a:gradFill rotWithShape="0">
                <a:gsLst>
                  <a:gs pos="0">
                    <a:srgbClr val="66ccff"/>
                  </a:gs>
                  <a:gs pos="50000">
                    <a:srgbClr val="bbe0e3"/>
                  </a:gs>
                  <a:gs pos="100000">
                    <a:srgbClr val="66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518320" y="3355560"/>
                <a:ext cx="109440" cy="10944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373960" y="3374640"/>
                <a:ext cx="71280" cy="71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8697600" y="3374640"/>
                <a:ext cx="71640" cy="71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9" name=""/>
          <p:cNvSpPr/>
          <p:nvPr/>
        </p:nvSpPr>
        <p:spPr>
          <a:xfrm>
            <a:off x="7292880" y="2600280"/>
            <a:ext cx="37764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携帯電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8305920" y="3463920"/>
            <a:ext cx="60624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スマートフォ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7905600" y="5229360"/>
            <a:ext cx="1079640" cy="1042920"/>
            <a:chOff x="7905600" y="5229360"/>
            <a:chExt cx="1079640" cy="1042920"/>
          </a:xfrm>
        </p:grpSpPr>
        <p:sp>
          <p:nvSpPr>
            <p:cNvPr id="1042" name=""/>
            <p:cNvSpPr/>
            <p:nvPr/>
          </p:nvSpPr>
          <p:spPr>
            <a:xfrm>
              <a:off x="7905600" y="5229360"/>
              <a:ext cx="1079640" cy="1042920"/>
            </a:xfrm>
            <a:custGeom>
              <a:avLst/>
              <a:gdLst/>
              <a:ahLst/>
              <a:rect l="l" t="t" r="r" b="b"/>
              <a:pathLst>
                <a:path w="680" h="657">
                  <a:moveTo>
                    <a:pt x="91" y="0"/>
                  </a:moveTo>
                  <a:lnTo>
                    <a:pt x="45" y="22"/>
                  </a:lnTo>
                  <a:lnTo>
                    <a:pt x="45" y="453"/>
                  </a:lnTo>
                  <a:lnTo>
                    <a:pt x="0" y="612"/>
                  </a:lnTo>
                  <a:lnTo>
                    <a:pt x="0" y="657"/>
                  </a:lnTo>
                  <a:lnTo>
                    <a:pt x="680" y="657"/>
                  </a:lnTo>
                  <a:lnTo>
                    <a:pt x="680" y="612"/>
                  </a:lnTo>
                  <a:lnTo>
                    <a:pt x="635" y="453"/>
                  </a:lnTo>
                  <a:lnTo>
                    <a:pt x="635" y="22"/>
                  </a:lnTo>
                  <a:lnTo>
                    <a:pt x="590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7905600" y="5229360"/>
              <a:ext cx="1079640" cy="1042560"/>
              <a:chOff x="7905600" y="5229360"/>
              <a:chExt cx="1079640" cy="1042560"/>
            </a:xfrm>
          </p:grpSpPr>
          <p:sp>
            <p:nvSpPr>
              <p:cNvPr id="1044" name=""/>
              <p:cNvSpPr/>
              <p:nvPr/>
            </p:nvSpPr>
            <p:spPr>
              <a:xfrm>
                <a:off x="7905600" y="6200640"/>
                <a:ext cx="1079640" cy="712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977240" y="5263920"/>
                <a:ext cx="936720" cy="684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V="1">
                <a:off x="7977240" y="5229360"/>
                <a:ext cx="936720" cy="34560"/>
              </a:xfrm>
              <a:custGeom>
                <a:avLst/>
                <a:gdLst>
                  <a:gd name="textAreaLeft" fmla="*/ 121680 w 936720"/>
                  <a:gd name="textAreaRight" fmla="*/ 815040 w 936720"/>
                  <a:gd name="textAreaTop" fmla="*/ 4320 h 34560"/>
                  <a:gd name="textAreaBottom" fmla="*/ 30240 h 3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697" y="21600"/>
                    </a:lnTo>
                    <a:lnTo>
                      <a:pt x="190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013600" y="5300640"/>
                <a:ext cx="863640" cy="54108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V="1">
                <a:off x="7905600" y="5948280"/>
                <a:ext cx="1079640" cy="252000"/>
              </a:xfrm>
              <a:custGeom>
                <a:avLst/>
                <a:gdLst>
                  <a:gd name="textAreaLeft" fmla="*/ 127800 w 1079640"/>
                  <a:gd name="textAreaRight" fmla="*/ 951840 w 1079640"/>
                  <a:gd name="textAreaTop" fmla="*/ 29880 h 252000"/>
                  <a:gd name="textAreaBottom" fmla="*/ 222120 h 25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139" y="21600"/>
                    </a:lnTo>
                    <a:lnTo>
                      <a:pt x="1461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013600" y="5911920"/>
                <a:ext cx="189000" cy="518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697960" y="5911920"/>
                <a:ext cx="189000" cy="518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1" name=""/>
          <p:cNvGrpSpPr/>
          <p:nvPr/>
        </p:nvGrpSpPr>
        <p:grpSpPr>
          <a:xfrm>
            <a:off x="6608880" y="3715920"/>
            <a:ext cx="1404360" cy="1297080"/>
            <a:chOff x="6608880" y="3715920"/>
            <a:chExt cx="1404360" cy="1297080"/>
          </a:xfrm>
        </p:grpSpPr>
        <p:grpSp>
          <p:nvGrpSpPr>
            <p:cNvPr id="1052" name=""/>
            <p:cNvGrpSpPr/>
            <p:nvPr/>
          </p:nvGrpSpPr>
          <p:grpSpPr>
            <a:xfrm>
              <a:off x="6608880" y="3716280"/>
              <a:ext cx="1404360" cy="1296720"/>
              <a:chOff x="6608880" y="3716280"/>
              <a:chExt cx="1404360" cy="1296720"/>
            </a:xfrm>
          </p:grpSpPr>
          <p:sp>
            <p:nvSpPr>
              <p:cNvPr id="1053" name=""/>
              <p:cNvSpPr/>
              <p:nvPr/>
            </p:nvSpPr>
            <p:spPr>
              <a:xfrm>
                <a:off x="7726320" y="3716280"/>
                <a:ext cx="286920" cy="1296720"/>
              </a:xfrm>
              <a:custGeom>
                <a:avLst/>
                <a:gdLst/>
                <a:ahLst/>
                <a:rect l="l" t="t" r="r" b="b"/>
                <a:pathLst>
                  <a:path w="181" h="817">
                    <a:moveTo>
                      <a:pt x="181" y="817"/>
                    </a:moveTo>
                    <a:lnTo>
                      <a:pt x="0" y="817"/>
                    </a:lnTo>
                    <a:lnTo>
                      <a:pt x="0" y="91"/>
                    </a:lnTo>
                    <a:lnTo>
                      <a:pt x="22" y="0"/>
                    </a:lnTo>
                    <a:lnTo>
                      <a:pt x="158" y="0"/>
                    </a:lnTo>
                    <a:lnTo>
                      <a:pt x="181" y="91"/>
                    </a:lnTo>
                    <a:lnTo>
                      <a:pt x="181" y="817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608880" y="3789000"/>
                <a:ext cx="1044360" cy="899640"/>
              </a:xfrm>
              <a:custGeom>
                <a:avLst/>
                <a:gdLst/>
                <a:ahLst/>
                <a:rect l="l" t="t" r="r" b="b"/>
                <a:pathLst>
                  <a:path w="658" h="567">
                    <a:moveTo>
                      <a:pt x="658" y="22"/>
                    </a:moveTo>
                    <a:lnTo>
                      <a:pt x="613" y="0"/>
                    </a:lnTo>
                    <a:lnTo>
                      <a:pt x="46" y="0"/>
                    </a:lnTo>
                    <a:lnTo>
                      <a:pt x="0" y="22"/>
                    </a:lnTo>
                    <a:lnTo>
                      <a:pt x="0" y="567"/>
                    </a:lnTo>
                    <a:lnTo>
                      <a:pt x="658" y="567"/>
                    </a:lnTo>
                    <a:lnTo>
                      <a:pt x="65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789600" y="4797000"/>
                <a:ext cx="684000" cy="179280"/>
              </a:xfrm>
              <a:custGeom>
                <a:avLst/>
                <a:gdLst/>
                <a:ahLst/>
                <a:rect l="l" t="t" r="r" b="b"/>
                <a:pathLst>
                  <a:path w="431" h="113">
                    <a:moveTo>
                      <a:pt x="431" y="113"/>
                    </a:moveTo>
                    <a:lnTo>
                      <a:pt x="0" y="113"/>
                    </a:lnTo>
                    <a:lnTo>
                      <a:pt x="0" y="90"/>
                    </a:lnTo>
                    <a:lnTo>
                      <a:pt x="45" y="0"/>
                    </a:lnTo>
                    <a:lnTo>
                      <a:pt x="385" y="0"/>
                    </a:lnTo>
                    <a:lnTo>
                      <a:pt x="431" y="90"/>
                    </a:lnTo>
                    <a:lnTo>
                      <a:pt x="431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005600" y="4616280"/>
                <a:ext cx="252000" cy="21708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6608880" y="3715920"/>
              <a:ext cx="1402920" cy="1296720"/>
              <a:chOff x="6608880" y="3715920"/>
              <a:chExt cx="1402920" cy="1296720"/>
            </a:xfrm>
          </p:grpSpPr>
          <p:sp>
            <p:nvSpPr>
              <p:cNvPr id="1058" name=""/>
              <p:cNvSpPr/>
              <p:nvPr/>
            </p:nvSpPr>
            <p:spPr>
              <a:xfrm flipV="1">
                <a:off x="6789600" y="4795560"/>
                <a:ext cx="684000" cy="144000"/>
              </a:xfrm>
              <a:custGeom>
                <a:avLst/>
                <a:gdLst>
                  <a:gd name="textAreaLeft" fmla="*/ 93240 w 684000"/>
                  <a:gd name="textAreaRight" fmla="*/ 590760 w 684000"/>
                  <a:gd name="textAreaTop" fmla="*/ 19440 h 144000"/>
                  <a:gd name="textAreaBottom" fmla="*/ 124560 h 14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446" y="21600"/>
                    </a:lnTo>
                    <a:lnTo>
                      <a:pt x="215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005600" y="4652640"/>
                <a:ext cx="252000" cy="2156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789600" y="4939920"/>
                <a:ext cx="684000" cy="363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608880" y="3823920"/>
                <a:ext cx="1044360" cy="8647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6608880" y="3787560"/>
                <a:ext cx="1044360" cy="36000"/>
              </a:xfrm>
              <a:custGeom>
                <a:avLst/>
                <a:gdLst>
                  <a:gd name="textAreaLeft" fmla="*/ 115200 w 1044360"/>
                  <a:gd name="textAreaRight" fmla="*/ 929160 w 1044360"/>
                  <a:gd name="textAreaTop" fmla="*/ 3960 h 36000"/>
                  <a:gd name="textAreaBottom" fmla="*/ 32040 h 3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57" y="21600"/>
                    </a:lnTo>
                    <a:lnTo>
                      <a:pt x="114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680160" y="3897000"/>
                <a:ext cx="899640" cy="71892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724520" y="3860640"/>
                <a:ext cx="287280" cy="11520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V="1">
                <a:off x="7724520" y="3715560"/>
                <a:ext cx="287280" cy="144360"/>
              </a:xfrm>
              <a:custGeom>
                <a:avLst/>
                <a:gdLst>
                  <a:gd name="textAreaLeft" fmla="*/ 43560 w 287280"/>
                  <a:gd name="textAreaRight" fmla="*/ 243720 w 287280"/>
                  <a:gd name="textAreaTop" fmla="*/ 21960 h 144360"/>
                  <a:gd name="textAreaBottom" fmla="*/ 122400 h 14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841" y="21600"/>
                    </a:lnTo>
                    <a:lnTo>
                      <a:pt x="275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9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6" name=""/>
          <p:cNvSpPr/>
          <p:nvPr/>
        </p:nvSpPr>
        <p:spPr>
          <a:xfrm>
            <a:off x="8255160" y="5121360"/>
            <a:ext cx="45360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ノートＰ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061400" y="3643200"/>
            <a:ext cx="22500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Ｐ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4291560" y="3094200"/>
            <a:ext cx="1754280" cy="1587600"/>
            <a:chOff x="4291560" y="3094200"/>
            <a:chExt cx="1754280" cy="1587600"/>
          </a:xfrm>
        </p:grpSpPr>
        <p:sp>
          <p:nvSpPr>
            <p:cNvPr id="1069" name=""/>
            <p:cNvSpPr/>
            <p:nvPr/>
          </p:nvSpPr>
          <p:spPr>
            <a:xfrm>
              <a:off x="4564080" y="3284640"/>
              <a:ext cx="1208880" cy="120924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823280" y="3543480"/>
              <a:ext cx="690840" cy="690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1800000">
              <a:off x="4304880" y="3628800"/>
              <a:ext cx="1726920" cy="51804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8900000">
              <a:off x="4305240" y="3628800"/>
              <a:ext cx="1726920" cy="51804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2649600" y="3500280"/>
            <a:ext cx="1439640" cy="576360"/>
            <a:chOff x="2649600" y="3500280"/>
            <a:chExt cx="1439640" cy="576360"/>
          </a:xfrm>
        </p:grpSpPr>
        <p:sp>
          <p:nvSpPr>
            <p:cNvPr id="1074" name=""/>
            <p:cNvSpPr/>
            <p:nvPr/>
          </p:nvSpPr>
          <p:spPr>
            <a:xfrm>
              <a:off x="2649600" y="3500280"/>
              <a:ext cx="1439640" cy="574560"/>
            </a:xfrm>
            <a:custGeom>
              <a:avLst/>
              <a:gdLst/>
              <a:ahLst/>
              <a:rect l="l" t="t" r="r" b="b"/>
              <a:pathLst>
                <a:path w="907" h="362">
                  <a:moveTo>
                    <a:pt x="907" y="362"/>
                  </a:moveTo>
                  <a:lnTo>
                    <a:pt x="0" y="362"/>
                  </a:lnTo>
                  <a:lnTo>
                    <a:pt x="0" y="181"/>
                  </a:lnTo>
                  <a:lnTo>
                    <a:pt x="45" y="0"/>
                  </a:lnTo>
                  <a:lnTo>
                    <a:pt x="862" y="0"/>
                  </a:lnTo>
                  <a:lnTo>
                    <a:pt x="907" y="181"/>
                  </a:lnTo>
                  <a:lnTo>
                    <a:pt x="907" y="36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5" name=""/>
            <p:cNvGrpSpPr/>
            <p:nvPr/>
          </p:nvGrpSpPr>
          <p:grpSpPr>
            <a:xfrm>
              <a:off x="2649600" y="3500280"/>
              <a:ext cx="1439640" cy="576360"/>
              <a:chOff x="2649600" y="3500280"/>
              <a:chExt cx="1439640" cy="576360"/>
            </a:xfrm>
          </p:grpSpPr>
          <p:sp>
            <p:nvSpPr>
              <p:cNvPr id="1076" name=""/>
              <p:cNvSpPr/>
              <p:nvPr/>
            </p:nvSpPr>
            <p:spPr>
              <a:xfrm>
                <a:off x="2649600" y="3786120"/>
                <a:ext cx="1439640" cy="2905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2649600" y="3500280"/>
                <a:ext cx="1439640" cy="285840"/>
              </a:xfrm>
              <a:custGeom>
                <a:avLst/>
                <a:gdLst>
                  <a:gd name="textAreaLeft" fmla="*/ 155160 w 1439640"/>
                  <a:gd name="textAreaRight" fmla="*/ 1284480 w 1439640"/>
                  <a:gd name="textAreaTop" fmla="*/ 30600 h 285840"/>
                  <a:gd name="textAreaBottom" fmla="*/ 25524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553" y="21600"/>
                    </a:lnTo>
                    <a:lnTo>
                      <a:pt x="104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9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8" name=""/>
          <p:cNvSpPr/>
          <p:nvPr/>
        </p:nvSpPr>
        <p:spPr>
          <a:xfrm>
            <a:off x="3067200" y="3392640"/>
            <a:ext cx="60624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Ｗｅｂサーバ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76160" y="3068280"/>
            <a:ext cx="1404360" cy="1297080"/>
            <a:chOff x="776160" y="3068280"/>
            <a:chExt cx="1404360" cy="1297080"/>
          </a:xfrm>
        </p:grpSpPr>
        <p:grpSp>
          <p:nvGrpSpPr>
            <p:cNvPr id="1080" name=""/>
            <p:cNvGrpSpPr/>
            <p:nvPr/>
          </p:nvGrpSpPr>
          <p:grpSpPr>
            <a:xfrm>
              <a:off x="776160" y="3068640"/>
              <a:ext cx="1404360" cy="1296720"/>
              <a:chOff x="776160" y="3068640"/>
              <a:chExt cx="1404360" cy="1296720"/>
            </a:xfrm>
          </p:grpSpPr>
          <p:sp>
            <p:nvSpPr>
              <p:cNvPr id="1081" name=""/>
              <p:cNvSpPr/>
              <p:nvPr/>
            </p:nvSpPr>
            <p:spPr>
              <a:xfrm>
                <a:off x="1893600" y="3068640"/>
                <a:ext cx="286920" cy="1296720"/>
              </a:xfrm>
              <a:custGeom>
                <a:avLst/>
                <a:gdLst/>
                <a:ahLst/>
                <a:rect l="l" t="t" r="r" b="b"/>
                <a:pathLst>
                  <a:path w="181" h="817">
                    <a:moveTo>
                      <a:pt x="181" y="817"/>
                    </a:moveTo>
                    <a:lnTo>
                      <a:pt x="0" y="817"/>
                    </a:lnTo>
                    <a:lnTo>
                      <a:pt x="0" y="91"/>
                    </a:lnTo>
                    <a:lnTo>
                      <a:pt x="22" y="0"/>
                    </a:lnTo>
                    <a:lnTo>
                      <a:pt x="158" y="0"/>
                    </a:lnTo>
                    <a:lnTo>
                      <a:pt x="181" y="91"/>
                    </a:lnTo>
                    <a:lnTo>
                      <a:pt x="181" y="817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76160" y="3141360"/>
                <a:ext cx="1044360" cy="899640"/>
              </a:xfrm>
              <a:custGeom>
                <a:avLst/>
                <a:gdLst/>
                <a:ahLst/>
                <a:rect l="l" t="t" r="r" b="b"/>
                <a:pathLst>
                  <a:path w="658" h="567">
                    <a:moveTo>
                      <a:pt x="658" y="22"/>
                    </a:moveTo>
                    <a:lnTo>
                      <a:pt x="613" y="0"/>
                    </a:lnTo>
                    <a:lnTo>
                      <a:pt x="46" y="0"/>
                    </a:lnTo>
                    <a:lnTo>
                      <a:pt x="0" y="22"/>
                    </a:lnTo>
                    <a:lnTo>
                      <a:pt x="0" y="567"/>
                    </a:lnTo>
                    <a:lnTo>
                      <a:pt x="658" y="567"/>
                    </a:lnTo>
                    <a:lnTo>
                      <a:pt x="65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956880" y="4149360"/>
                <a:ext cx="684000" cy="179280"/>
              </a:xfrm>
              <a:custGeom>
                <a:avLst/>
                <a:gdLst/>
                <a:ahLst/>
                <a:rect l="l" t="t" r="r" b="b"/>
                <a:pathLst>
                  <a:path w="431" h="113">
                    <a:moveTo>
                      <a:pt x="431" y="113"/>
                    </a:moveTo>
                    <a:lnTo>
                      <a:pt x="0" y="113"/>
                    </a:lnTo>
                    <a:lnTo>
                      <a:pt x="0" y="90"/>
                    </a:lnTo>
                    <a:lnTo>
                      <a:pt x="45" y="0"/>
                    </a:lnTo>
                    <a:lnTo>
                      <a:pt x="385" y="0"/>
                    </a:lnTo>
                    <a:lnTo>
                      <a:pt x="431" y="90"/>
                    </a:lnTo>
                    <a:lnTo>
                      <a:pt x="431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172880" y="3968640"/>
                <a:ext cx="252000" cy="21708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776160" y="3068280"/>
              <a:ext cx="1402920" cy="1296720"/>
              <a:chOff x="776160" y="3068280"/>
              <a:chExt cx="1402920" cy="1296720"/>
            </a:xfrm>
          </p:grpSpPr>
          <p:sp>
            <p:nvSpPr>
              <p:cNvPr id="1086" name=""/>
              <p:cNvSpPr/>
              <p:nvPr/>
            </p:nvSpPr>
            <p:spPr>
              <a:xfrm flipV="1">
                <a:off x="956880" y="4147920"/>
                <a:ext cx="684000" cy="144000"/>
              </a:xfrm>
              <a:custGeom>
                <a:avLst/>
                <a:gdLst>
                  <a:gd name="textAreaLeft" fmla="*/ 93240 w 684000"/>
                  <a:gd name="textAreaRight" fmla="*/ 590760 w 684000"/>
                  <a:gd name="textAreaTop" fmla="*/ 19440 h 144000"/>
                  <a:gd name="textAreaBottom" fmla="*/ 124560 h 14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446" y="21600"/>
                    </a:lnTo>
                    <a:lnTo>
                      <a:pt x="215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172880" y="4005000"/>
                <a:ext cx="252000" cy="2156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956880" y="4292280"/>
                <a:ext cx="684000" cy="363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76160" y="3176280"/>
                <a:ext cx="1044360" cy="8647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776160" y="3139920"/>
                <a:ext cx="1044360" cy="36000"/>
              </a:xfrm>
              <a:custGeom>
                <a:avLst/>
                <a:gdLst>
                  <a:gd name="textAreaLeft" fmla="*/ 115200 w 1044360"/>
                  <a:gd name="textAreaRight" fmla="*/ 929160 w 1044360"/>
                  <a:gd name="textAreaTop" fmla="*/ 3960 h 36000"/>
                  <a:gd name="textAreaBottom" fmla="*/ 32040 h 3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57" y="21600"/>
                    </a:lnTo>
                    <a:lnTo>
                      <a:pt x="114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7474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847440" y="3249360"/>
                <a:ext cx="899640" cy="71892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891800" y="3213000"/>
                <a:ext cx="287280" cy="11520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1891800" y="3067920"/>
                <a:ext cx="287280" cy="144360"/>
              </a:xfrm>
              <a:custGeom>
                <a:avLst/>
                <a:gdLst>
                  <a:gd name="textAreaLeft" fmla="*/ 43560 w 287280"/>
                  <a:gd name="textAreaRight" fmla="*/ 243720 w 287280"/>
                  <a:gd name="textAreaTop" fmla="*/ 21960 h 144360"/>
                  <a:gd name="textAreaBottom" fmla="*/ 122400 h 14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841" y="21600"/>
                    </a:lnTo>
                    <a:lnTo>
                      <a:pt x="275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9d9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4" name=""/>
          <p:cNvSpPr/>
          <p:nvPr/>
        </p:nvSpPr>
        <p:spPr>
          <a:xfrm>
            <a:off x="1228680" y="2995560"/>
            <a:ext cx="225000" cy="188640"/>
          </a:xfrm>
          <a:prstGeom prst="rect">
            <a:avLst/>
          </a:prstGeom>
          <a:solidFill>
            <a:srgbClr val="00008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Ｐ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1136160" y="4076640"/>
            <a:ext cx="381240" cy="720360"/>
            <a:chOff x="1136160" y="4076640"/>
            <a:chExt cx="381240" cy="720360"/>
          </a:xfrm>
        </p:grpSpPr>
        <p:grpSp>
          <p:nvGrpSpPr>
            <p:cNvPr id="1096" name=""/>
            <p:cNvGrpSpPr/>
            <p:nvPr/>
          </p:nvGrpSpPr>
          <p:grpSpPr>
            <a:xfrm>
              <a:off x="1136160" y="4076640"/>
              <a:ext cx="381240" cy="720360"/>
              <a:chOff x="1136160" y="4076640"/>
              <a:chExt cx="381240" cy="720360"/>
            </a:xfrm>
          </p:grpSpPr>
          <p:sp>
            <p:nvSpPr>
              <p:cNvPr id="1097" name=""/>
              <p:cNvSpPr/>
              <p:nvPr/>
            </p:nvSpPr>
            <p:spPr>
              <a:xfrm rot="10800000">
                <a:off x="1136160" y="4330440"/>
                <a:ext cx="381240" cy="466560"/>
              </a:xfrm>
              <a:custGeom>
                <a:avLst/>
                <a:gdLst/>
                <a:ahLst/>
                <a:rect l="l" t="t" r="r" b="b"/>
                <a:pathLst>
                  <a:path w="408" h="500">
                    <a:moveTo>
                      <a:pt x="45" y="68"/>
                    </a:moveTo>
                    <a:lnTo>
                      <a:pt x="0" y="431"/>
                    </a:lnTo>
                    <a:cubicBezTo>
                      <a:pt x="0" y="431"/>
                      <a:pt x="64" y="500"/>
                      <a:pt x="204" y="499"/>
                    </a:cubicBezTo>
                    <a:cubicBezTo>
                      <a:pt x="376" y="492"/>
                      <a:pt x="408" y="431"/>
                      <a:pt x="408" y="431"/>
                    </a:cubicBezTo>
                    <a:lnTo>
                      <a:pt x="363" y="68"/>
                    </a:lnTo>
                    <a:cubicBezTo>
                      <a:pt x="363" y="68"/>
                      <a:pt x="334" y="0"/>
                      <a:pt x="204" y="0"/>
                    </a:cubicBezTo>
                    <a:cubicBezTo>
                      <a:pt x="69" y="0"/>
                      <a:pt x="45" y="68"/>
                      <a:pt x="45" y="68"/>
                    </a:cubicBez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178280" y="4076640"/>
                <a:ext cx="297000" cy="2970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 rot="10800000">
              <a:off x="1136160" y="4330440"/>
              <a:ext cx="381240" cy="466560"/>
            </a:xfrm>
            <a:custGeom>
              <a:avLst/>
              <a:gdLst/>
              <a:ahLst/>
              <a:rect l="l" t="t" r="r" b="b"/>
              <a:pathLst>
                <a:path w="408" h="500">
                  <a:moveTo>
                    <a:pt x="45" y="68"/>
                  </a:moveTo>
                  <a:lnTo>
                    <a:pt x="0" y="431"/>
                  </a:lnTo>
                  <a:cubicBezTo>
                    <a:pt x="0" y="431"/>
                    <a:pt x="64" y="500"/>
                    <a:pt x="204" y="499"/>
                  </a:cubicBezTo>
                  <a:cubicBezTo>
                    <a:pt x="376" y="492"/>
                    <a:pt x="408" y="431"/>
                    <a:pt x="408" y="431"/>
                  </a:cubicBezTo>
                  <a:lnTo>
                    <a:pt x="363" y="68"/>
                  </a:lnTo>
                  <a:cubicBezTo>
                    <a:pt x="363" y="68"/>
                    <a:pt x="334" y="0"/>
                    <a:pt x="204" y="0"/>
                  </a:cubicBezTo>
                  <a:cubicBezTo>
                    <a:pt x="69" y="0"/>
                    <a:pt x="45" y="68"/>
                    <a:pt x="45" y="68"/>
                  </a:cubicBezTo>
                  <a:close/>
                </a:path>
              </a:pathLst>
            </a:cu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178280" y="4076640"/>
              <a:ext cx="297000" cy="297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1168560" y="4759200"/>
            <a:ext cx="301320" cy="188640"/>
          </a:xfrm>
          <a:prstGeom prst="rect">
            <a:avLst/>
          </a:prstGeom>
          <a:solidFill>
            <a:srgbClr val="008000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管理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849920" y="4437000"/>
            <a:ext cx="606240" cy="188640"/>
          </a:xfrm>
          <a:prstGeom prst="rect">
            <a:avLst/>
          </a:prstGeom>
          <a:solidFill>
            <a:srgbClr val="993366">
              <a:alpha val="7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インターネッ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510640" y="6453360"/>
            <a:ext cx="44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システム図は何かを意図して制作したものではありません。使い方のご参考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cp:keywords>システム構成図</cp:keywords>
  <dc:language>en-US</dc:language>
  <cp:lastModifiedBy/>
  <dcterms:modified xsi:type="dcterms:W3CDTF">2011-02-27T12:59:40Z</dcterms:modified>
  <cp:revision>14</cp:revision>
  <dc:subject>PPT048_システム構成図サンプル</dc:subject>
  <dc:title>PPT048_システム構成図サンプル</dc:title>
</cp:coreProperties>
</file>